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EB4-C17B-4882-A350-423863E0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BC7D-816B-4662-8D2C-E87098F8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3DB1-2C92-4A4D-B013-049C3CD8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7669-32F9-466E-AE5D-7E24AFC2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2920-B655-4C0C-BF9C-C7F107F8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9B84-BA20-4572-A322-99B0688D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6646-9788-4109-86EB-491DB774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DF56-A9E1-4BE8-9145-FDB5CC5B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A30C-C28B-4DCD-B523-FCC543BD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A50A-4282-41CB-BB37-0D6FCA00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908E-B879-4712-9736-39141D80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D63-15BA-4BE7-BE67-424E458C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0452-9FAC-49BF-A339-4985EF35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45FB-21B3-4778-A96F-E3A3AD21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C59B-FD93-4AE4-92DA-46CB91F3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2268-BCA1-442C-AC1E-53D4491C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9A22-A3BC-4FB1-8BD2-07C29DE2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D69-B21B-4E09-A91E-C9F01A97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5094-9285-4B81-BB9E-F0F91BA2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DCE-CF41-4C90-9465-4242E0F7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C692-0356-4342-9756-4CD1FF19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B54-8A3F-4074-A755-2F1F85EE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F67-DA47-4868-B01B-B2BD6EE9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8C2-7E3B-457C-9B8C-CFEC6717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AF05-37D8-4CA1-B957-C8F70C0A34A0}" type="slidenum">
              <a:rPr b="0" lang="ja-JP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0855-B66D-47EF-A7EF-1517100C6A58}" type="slidenum">
              <a:rPr b="0" lang="ja-JP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0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hyperlink" Target="http://www.stats.gov.cn/" TargetMode="External"/><Relationship Id="rId5" Type="http://schemas.openxmlformats.org/officeDocument/2006/relationships/hyperlink" Target="http://www.jetro.go.jp/" TargetMode="External"/><Relationship Id="rId6" Type="http://schemas.openxmlformats.org/officeDocument/2006/relationships/hyperlink" Target="http://www.jetro.go.jp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13372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－貿易構造から見た日中関係－</a:t>
            </a:r>
            <a:endParaRPr b="0" lang="en-US" sz="2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北海道大学大学院経済学研究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1197000"/>
            <a:ext cx="8497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ff"/>
                </a:solidFill>
                <a:latin typeface="Arial"/>
              </a:rPr>
              <a:t>雁行型経済発展における中国の位置付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4797360"/>
            <a:ext cx="64008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穆尭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0846-C752-49FD-886B-44F0D3A62F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Arial"/>
              </a:rPr>
              <a:t>統計データの使用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1628640"/>
            <a:ext cx="82296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「国連貿易統計」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ttp://unstats.un.org/unsd/comtrade/mr/rfCommoditiesList.asp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「台湾経済部国際貿易局」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ttp://cus93.trade.gov.tw/fsci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70A-D64F-4331-9E39-CA94F9AB34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ff"/>
                </a:solidFill>
                <a:latin typeface="Arial"/>
              </a:rPr>
              <a:t>データ集計のイメージ</a:t>
            </a: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2004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年、千ドル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628640"/>
            <a:ext cx="82296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09560" y="1482840"/>
          <a:ext cx="7451640" cy="45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1482840"/>
                    <a:ext cx="745164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67C-788E-4E84-911D-E7ACFBE7C1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ＭＳ Ｐゴシック"/>
              </a:rPr>
              <a:t>輸出入総額</a:t>
            </a:r>
            <a:r>
              <a:rPr b="1" lang="ja-JP" sz="4400" spc="-1" strike="noStrike">
                <a:solidFill>
                  <a:srgbClr val="0000ff"/>
                </a:solidFill>
                <a:latin typeface="ＭＳ Ｐゴシック"/>
              </a:rPr>
              <a:t>比重</a:t>
            </a:r>
            <a:r>
              <a:rPr b="1" lang="zh-TW" sz="4400" spc="-1" strike="noStrike">
                <a:solidFill>
                  <a:srgbClr val="b7e7ff"/>
                </a:solidFill>
                <a:latin typeface="ＭＳ Ｐゴシック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ＭＳ Ｐゴシック"/>
              </a:rPr>
              <a:t>(2004</a:t>
            </a:r>
            <a:r>
              <a:rPr b="0" lang="ja-JP" sz="2400" spc="-1" strike="noStrike">
                <a:solidFill>
                  <a:srgbClr val="0000ff"/>
                </a:solidFill>
                <a:latin typeface="ＭＳ Ｐゴシック"/>
              </a:rPr>
              <a:t>年</a:t>
            </a:r>
            <a:r>
              <a:rPr b="0" lang="en-US" sz="2400" spc="-1" strike="noStrike">
                <a:solidFill>
                  <a:srgbClr val="0000ff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1628640"/>
            <a:ext cx="82296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08040" y="1557360"/>
          <a:ext cx="7926480" cy="446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557360"/>
                    <a:ext cx="792648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7BC-8741-4C3E-B745-902A68C1A5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</a:rPr>
              <a:t>輸出額</a:t>
            </a:r>
            <a:r>
              <a:rPr b="1" lang="ja-JP" sz="4400" spc="-1" strike="noStrike">
                <a:solidFill>
                  <a:srgbClr val="0000ff"/>
                </a:solidFill>
                <a:latin typeface="Arial"/>
              </a:rPr>
              <a:t>比重 </a:t>
            </a:r>
            <a:r>
              <a:rPr b="0" lang="en-US" sz="2400" spc="-1" strike="noStrike">
                <a:solidFill>
                  <a:srgbClr val="0000ff"/>
                </a:solidFill>
                <a:latin typeface="ＭＳ Ｐゴシック"/>
              </a:rPr>
              <a:t>(2004</a:t>
            </a:r>
            <a:r>
              <a:rPr b="0" lang="ja-JP" sz="2400" spc="-1" strike="noStrike">
                <a:solidFill>
                  <a:srgbClr val="0000ff"/>
                </a:solidFill>
                <a:latin typeface="ＭＳ Ｐゴシック"/>
              </a:rPr>
              <a:t>年</a:t>
            </a:r>
            <a:r>
              <a:rPr b="0" lang="en-US" sz="2400" spc="-1" strike="noStrike">
                <a:solidFill>
                  <a:srgbClr val="0000ff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628640"/>
            <a:ext cx="82296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95160" y="1557360"/>
          <a:ext cx="7751880" cy="446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557360"/>
                    <a:ext cx="775188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A66-4AB1-4AAC-882B-6892B5D787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ＭＳ Ｐゴシック"/>
              </a:rPr>
              <a:t>RCA</a:t>
            </a:r>
            <a:r>
              <a:rPr b="1" lang="zh-TW" sz="4400" spc="-1" strike="noStrike">
                <a:solidFill>
                  <a:srgbClr val="0000ff"/>
                </a:solidFill>
                <a:latin typeface="ＭＳ Ｐゴシック"/>
              </a:rPr>
              <a:t>の比較 </a:t>
            </a:r>
            <a:r>
              <a:rPr b="0" lang="en-US" sz="2400" spc="-1" strike="noStrike">
                <a:solidFill>
                  <a:srgbClr val="0000ff"/>
                </a:solidFill>
                <a:latin typeface="ＭＳ Ｐゴシック"/>
              </a:rPr>
              <a:t>(2004</a:t>
            </a:r>
            <a:r>
              <a:rPr b="0" lang="ja-JP" sz="2400" spc="-1" strike="noStrike">
                <a:solidFill>
                  <a:srgbClr val="0000ff"/>
                </a:solidFill>
                <a:latin typeface="ＭＳ Ｐゴシック"/>
              </a:rPr>
              <a:t>年</a:t>
            </a:r>
            <a:r>
              <a:rPr b="0" lang="en-US" sz="2400" spc="-1" strike="noStrike">
                <a:solidFill>
                  <a:srgbClr val="0000ff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628640"/>
            <a:ext cx="82296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476360" y="1557360"/>
          <a:ext cx="5415120" cy="437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557360"/>
                    <a:ext cx="541512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 flipH="1">
            <a:off x="3419280" y="1773360"/>
            <a:ext cx="2376360" cy="309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500360" y="2781360"/>
            <a:ext cx="2376360" cy="309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AC05-A8B8-4AC6-9840-E99D84BBBF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ＭＳ Ｐゴシック"/>
              </a:rPr>
              <a:t>RCA</a:t>
            </a:r>
            <a:r>
              <a:rPr b="1" lang="zh-TW" sz="4400" spc="-1" strike="noStrike">
                <a:solidFill>
                  <a:srgbClr val="0000ff"/>
                </a:solidFill>
                <a:latin typeface="ＭＳ Ｐゴシック"/>
              </a:rPr>
              <a:t>の</a:t>
            </a:r>
            <a:r>
              <a:rPr b="1" lang="ja-JP" sz="4400" spc="-1" strike="noStrike">
                <a:solidFill>
                  <a:srgbClr val="0000ff"/>
                </a:solidFill>
                <a:latin typeface="ＭＳ Ｐゴシック"/>
              </a:rPr>
              <a:t>図 </a:t>
            </a:r>
            <a:r>
              <a:rPr b="0" lang="en-US" sz="2400" spc="-1" strike="noStrike">
                <a:solidFill>
                  <a:srgbClr val="0000ff"/>
                </a:solidFill>
                <a:latin typeface="ＭＳ Ｐゴシック"/>
              </a:rPr>
              <a:t>(2004</a:t>
            </a:r>
            <a:r>
              <a:rPr b="0" lang="ja-JP" sz="2400" spc="-1" strike="noStrike">
                <a:solidFill>
                  <a:srgbClr val="0000ff"/>
                </a:solidFill>
                <a:latin typeface="ＭＳ Ｐゴシック"/>
              </a:rPr>
              <a:t>年</a:t>
            </a:r>
            <a:r>
              <a:rPr b="0" lang="en-US" sz="2400" spc="-1" strike="noStrike">
                <a:solidFill>
                  <a:srgbClr val="0000ff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1557360"/>
            <a:ext cx="82296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87280" y="1484280"/>
          <a:ext cx="2737080" cy="210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84280"/>
                    <a:ext cx="273708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067280" y="1484280"/>
          <a:ext cx="2881080" cy="208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484280"/>
                    <a:ext cx="288108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24000" y="3716280"/>
          <a:ext cx="2665440" cy="2063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3716280"/>
                    <a:ext cx="266544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059280" y="3716280"/>
          <a:ext cx="2840040" cy="20890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9280" y="3716280"/>
                    <a:ext cx="284004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012000" y="3716280"/>
          <a:ext cx="2663640" cy="20638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2000" y="3716280"/>
                    <a:ext cx="266364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47F5-7947-42A1-B10F-DE07694985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ＭＳ Ｐゴシック"/>
              </a:rPr>
              <a:t>TSC</a:t>
            </a:r>
            <a:r>
              <a:rPr b="1" lang="zh-TW" sz="4400" spc="-1" strike="noStrike">
                <a:solidFill>
                  <a:srgbClr val="0000ff"/>
                </a:solidFill>
                <a:latin typeface="ＭＳ Ｐゴシック"/>
              </a:rPr>
              <a:t>の比較 </a:t>
            </a:r>
            <a:r>
              <a:rPr b="0" lang="en-US" sz="2400" spc="-1" strike="noStrike">
                <a:solidFill>
                  <a:srgbClr val="0000ff"/>
                </a:solidFill>
                <a:latin typeface="ＭＳ Ｐゴシック"/>
              </a:rPr>
              <a:t>(2004</a:t>
            </a:r>
            <a:r>
              <a:rPr b="0" lang="ja-JP" sz="2400" spc="-1" strike="noStrike">
                <a:solidFill>
                  <a:srgbClr val="0000ff"/>
                </a:solidFill>
                <a:latin typeface="ＭＳ Ｐゴシック"/>
              </a:rPr>
              <a:t>年</a:t>
            </a:r>
            <a:r>
              <a:rPr b="0" lang="en-US" sz="2400" spc="-1" strike="noStrike">
                <a:solidFill>
                  <a:srgbClr val="0000ff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1628640"/>
            <a:ext cx="82296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403280" y="1484280"/>
          <a:ext cx="583416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484280"/>
                    <a:ext cx="583416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 flipH="1">
            <a:off x="4211280" y="2708280"/>
            <a:ext cx="2376360" cy="309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276360" y="1700280"/>
            <a:ext cx="2376360" cy="309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82C-C09F-47A4-81AC-2CA83A4236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ＭＳ Ｐゴシック"/>
              </a:rPr>
              <a:t>TSC</a:t>
            </a:r>
            <a:r>
              <a:rPr b="1" lang="zh-TW" sz="4400" spc="-1" strike="noStrike">
                <a:solidFill>
                  <a:srgbClr val="0000ff"/>
                </a:solidFill>
                <a:latin typeface="ＭＳ Ｐゴシック"/>
              </a:rPr>
              <a:t>の</a:t>
            </a:r>
            <a:r>
              <a:rPr b="1" lang="ja-JP" sz="4400" spc="-1" strike="noStrike">
                <a:solidFill>
                  <a:srgbClr val="0000ff"/>
                </a:solidFill>
                <a:latin typeface="ＭＳ Ｐゴシック"/>
              </a:rPr>
              <a:t>図 </a:t>
            </a:r>
            <a:r>
              <a:rPr b="0" lang="en-US" sz="2400" spc="-1" strike="noStrike">
                <a:solidFill>
                  <a:srgbClr val="0000ff"/>
                </a:solidFill>
                <a:latin typeface="ＭＳ Ｐゴシック"/>
              </a:rPr>
              <a:t>(2004</a:t>
            </a:r>
            <a:r>
              <a:rPr b="0" lang="ja-JP" sz="2400" spc="-1" strike="noStrike">
                <a:solidFill>
                  <a:srgbClr val="0000ff"/>
                </a:solidFill>
                <a:latin typeface="ＭＳ Ｐゴシック"/>
              </a:rPr>
              <a:t>年</a:t>
            </a:r>
            <a:r>
              <a:rPr b="0" lang="en-US" sz="2400" spc="-1" strike="noStrike">
                <a:solidFill>
                  <a:srgbClr val="0000ff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1557360"/>
            <a:ext cx="82296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258920" y="1413000"/>
          <a:ext cx="2808360" cy="213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13000"/>
                    <a:ext cx="280836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427640" y="1413000"/>
          <a:ext cx="2881080" cy="2135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413000"/>
                    <a:ext cx="288108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250920" y="3645000"/>
          <a:ext cx="2808360" cy="2135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3645000"/>
                    <a:ext cx="280836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3059280" y="3645000"/>
          <a:ext cx="2873160" cy="2133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9280" y="3645000"/>
                    <a:ext cx="287316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6012000" y="3645000"/>
          <a:ext cx="2808000" cy="21333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2000" y="3645000"/>
                    <a:ext cx="28080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DF5-07DD-4C20-8482-4B55AC4D26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結論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日本は十年以上の低迷が続いていたもの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貿易構造の面で東アジアにおける「雁の頭」の地位が揺らいでいない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しかし、東アジアの貿易構造から見ると、「日本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ES→ASEAN→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中国 」という雁行型発展論の順序づけは、「日本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ES→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中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EA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」に変わったと言え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輸出商品構造の分析から、日本と中国は依然として補完関係が強く、お互いに協力する余地は大きいと言え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0DD1-58F1-4122-BCFB-62E8444F8B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1844640"/>
            <a:ext cx="8497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ff"/>
                </a:solidFill>
                <a:latin typeface="Arial"/>
              </a:rPr>
              <a:t>ご清聴ありがとうございました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22F9-34A3-42C1-9724-68C259F0E0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雁行型発展理論の概要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0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年代から赤松要に提唱され、小島清に定式化された経済成長理論であ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内容：二つのモデル　Ａ：農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繊維工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重化学工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機械工業（国内産業のキャッチアップ）　Ｂ：日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ＮＩＥ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ＡＳＥＡ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中国（国際伝播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実証：韓国、台湾、タイ、マレーシアなどの発展は当該理論の有効性に裏付けてい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D3E-5AB1-4838-ABC9-F609FF2507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雁行型発展理論をめぐる議論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アジアの貿易成長におけるトライアングル構造（日本：資金・技術、中国：労働力、アメリカ：市場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中国における産業キャッチアップは「農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繊維工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重化学工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機械工業」のプロセスに従っていない現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雁の群れにおいて国の発展順序は「日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ＮＩＥ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ＡＳＥＡ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中国」でなくなってい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0BFC-EB6A-430D-B98B-85909D5E1F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日中貿易額の推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55640" y="1197000"/>
          <a:ext cx="7559640" cy="4664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197000"/>
                    <a:ext cx="7559640" cy="46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50920" y="5805360"/>
            <a:ext cx="8229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7e7ff"/>
                </a:solidFill>
                <a:latin typeface="Arial"/>
              </a:rPr>
              <a:t>データの出所：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http://www.stats.gov.cn</a:t>
            </a:r>
            <a:br>
              <a:rPr sz="1800"/>
            </a:br>
            <a:r>
              <a:rPr b="0" lang="ja-JP" sz="1800" spc="-1" strike="noStrike">
                <a:solidFill>
                  <a:srgbClr val="b7e7ff"/>
                </a:solidFill>
                <a:latin typeface="Arial"/>
              </a:rPr>
              <a:t>　　　　　　　　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www.jetro.go.j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F9D-39E9-44C9-AA88-6CDC56DE8B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本研究に関し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狙い：日本経済の停滞と中国経済の成長により、「日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ＮＩＥ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ＡＳＥＡ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中国」という雁行型発展形態は変わったかどうか、貿易構造の面から日中関係を考えてみ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研究方法：貿易データを利用した検証モデルを通じて分析す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1C0-A303-4E8C-B1DF-6866BCA2BD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ff"/>
                </a:solidFill>
                <a:latin typeface="Arial"/>
              </a:rPr>
              <a:t>使用する指数</a:t>
            </a:r>
            <a:r>
              <a:rPr b="0" lang="ja-JP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顕示的比較優位指数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Revealed Comparative Advanta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255760" y="2540160"/>
                <a:ext cx="590256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一国の一商品の輸出</m:t>
                        </m:r>
                        <m:r>
                          <m:rPr>
                            <m:lit/>
                            <m:nor/>
                          </m:rPr>
                          <m:t xml:space="preserve">当該国のすべての商品の輸出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一地域の一商品の輸出</m:t>
                        </m:r>
                        <m:r>
                          <m:rPr>
                            <m:lit/>
                            <m:nor/>
                          </m:rPr>
                          <m:t xml:space="preserve">当該地域のすべての商品の輸出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403280" y="2565360"/>
                <a:ext cx="85248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539640" y="4076640"/>
            <a:ext cx="82296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24000" y="2997360"/>
                <a:ext cx="10792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A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24000" y="4508640"/>
                <a:ext cx="590364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日本の自動車輸出</m:t>
                        </m:r>
                        <m:r>
                          <m:rPr>
                            <m:lit/>
                            <m:nor/>
                          </m:rPr>
                          <m:t xml:space="preserve">日本のすべての商品の輸出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東アジアの自動車の輸出</m:t>
                        </m:r>
                        <m:r>
                          <m:rPr>
                            <m:lit/>
                            <m:nor/>
                          </m:rPr>
                          <m:t xml:space="preserve">東アジアのすべての商品の輸出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300720" y="4581360"/>
                <a:ext cx="11509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596360" y="4797360"/>
                <a:ext cx="6476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6712-A56C-4AAC-BB31-732243A3C5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ff"/>
                </a:solidFill>
                <a:latin typeface="Arial"/>
              </a:rPr>
              <a:t>使用する指数</a:t>
            </a:r>
            <a:r>
              <a:rPr b="0" lang="ja-JP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貿易特化係数 </a:t>
            </a: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rade Specialization Coefficient </a:t>
            </a: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59000" y="2308320"/>
                <a:ext cx="142056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4076640"/>
            <a:ext cx="82296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4000" y="2708280"/>
                <a:ext cx="12236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SC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36400" y="3857760"/>
                <a:ext cx="56055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日本の自動車の輸出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日本の自動車の輸入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日本の自動車の輸出＋日本の自動車の輸入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843280" y="2637000"/>
                <a:ext cx="56880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一国の一商品の輸出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当該国の当該商品の輸入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当該国の当該商品の輸出＋当該国の当該商品の輸入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156360" y="3933720"/>
                <a:ext cx="10094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308720" y="4149720"/>
                <a:ext cx="7905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452-4B4C-44AA-8149-8B8F10C10B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Arial"/>
              </a:rPr>
              <a:t>対象国（地域）の選定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1628640"/>
            <a:ext cx="82296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日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E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（韓国・台湾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EAN4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（マレーシ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インドネシ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ィリピ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タイ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中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EAN5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（カンボジ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ミャンマ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ラオ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ベトナ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ブルネイ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20C3-9B0C-41DB-9F3C-581E808A20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Arial"/>
              </a:rPr>
              <a:t>産業分野と代表製品の選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HS)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628640"/>
            <a:ext cx="82296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ＭＳ Ｐゴシック"/>
              </a:rPr>
              <a:t>資源型製品：   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1000</a:t>
            </a:r>
            <a:r>
              <a:rPr b="0" lang="zh-TW" sz="2400" spc="-1" strike="noStrike">
                <a:solidFill>
                  <a:srgbClr val="ffffff"/>
                </a:solidFill>
                <a:latin typeface="ＭＳ Ｐゴシック"/>
              </a:rPr>
              <a:t>穀物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,2709</a:t>
            </a:r>
            <a:r>
              <a:rPr b="0" lang="zh-TW" sz="2400" spc="-1" strike="noStrike">
                <a:solidFill>
                  <a:srgbClr val="ffffff"/>
                </a:solidFill>
                <a:latin typeface="ＭＳ Ｐゴシック"/>
              </a:rPr>
              <a:t>石油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,4403</a:t>
            </a:r>
            <a:r>
              <a:rPr b="0" lang="zh-TW" sz="2400" spc="-1" strike="noStrike">
                <a:solidFill>
                  <a:srgbClr val="ffffff"/>
                </a:solidFill>
                <a:latin typeface="ＭＳ Ｐゴシック"/>
              </a:rPr>
              <a:t>木材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,7200</a:t>
            </a:r>
            <a:r>
              <a:rPr b="0" lang="zh-TW" sz="2400" spc="-1" strike="noStrike">
                <a:solidFill>
                  <a:srgbClr val="ffffff"/>
                </a:solidFill>
                <a:latin typeface="ＭＳ Ｐゴシック"/>
              </a:rPr>
              <a:t>鋼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-191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繊維製品：   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6100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衣類品（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,6200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衣類品（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2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）（概略で言うと   （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）は編み式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,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2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）は非編み式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-191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一般化学製品：    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3923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プラスチック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,6810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セメント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,7013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ガラス製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-191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家電製品：   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8450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洗濯機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,8418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冷蔵庫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,8528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テレ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-191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情報製品：   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8525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携帯・デジカメ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,8471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パソコ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-191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ＭＳ Ｐゴシック"/>
              </a:rPr>
              <a:t>重工業製品：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8601</a:t>
            </a:r>
            <a:r>
              <a:rPr b="0" lang="zh-TW" sz="2400" spc="-1" strike="noStrike">
                <a:solidFill>
                  <a:srgbClr val="ffffff"/>
                </a:solidFill>
                <a:latin typeface="ＭＳ Ｐゴシック"/>
              </a:rPr>
              <a:t>機関車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,8901</a:t>
            </a:r>
            <a:r>
              <a:rPr b="0" lang="zh-TW" sz="2400" spc="-1" strike="noStrike">
                <a:solidFill>
                  <a:srgbClr val="ffffff"/>
                </a:solidFill>
                <a:latin typeface="ＭＳ Ｐゴシック"/>
              </a:rPr>
              <a:t>船舶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,8703</a:t>
            </a:r>
            <a:r>
              <a:rPr b="0" lang="zh-TW" sz="2400" spc="-1" strike="noStrike">
                <a:solidFill>
                  <a:srgbClr val="ffffff"/>
                </a:solidFill>
                <a:latin typeface="ＭＳ Ｐゴシック"/>
              </a:rPr>
              <a:t>乗用車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,8802</a:t>
            </a:r>
            <a:r>
              <a:rPr b="0" lang="zh-TW" sz="2400" spc="-1" strike="noStrike">
                <a:solidFill>
                  <a:srgbClr val="ffffff"/>
                </a:solidFill>
                <a:latin typeface="ＭＳ Ｐゴシック"/>
              </a:rPr>
              <a:t>飛行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-191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高級部品：   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8408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エンジン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,8542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集積回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-191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高級資本財：   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8446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織機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,8457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マシニングセンター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,8464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石材加工機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6657-52FA-4D31-A018-05C9F03D61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yaoqian</cp:lastModifiedBy>
  <dcterms:modified xsi:type="dcterms:W3CDTF">2006-09-28T04:26:23Z</dcterms:modified>
  <cp:revision>47</cp:revision>
  <dc:subject/>
  <dc:title>PowerPoint Presentation</dc:title>
</cp:coreProperties>
</file>