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533520"/>
            <a:ext cx="7848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33520"/>
            <a:ext cx="152388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295280" y="533520"/>
            <a:ext cx="7848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533520"/>
            <a:ext cx="152388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4114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4.8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4952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山梨県立石和高等学校　教諭　常盤　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134200" cy="10717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ＭＳ Ｐゴシック"/>
              </a:rPr>
              <a:t>報告</a:t>
            </a:r>
            <a:br>
              <a:rPr sz="3600"/>
            </a:b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（理想的な評価問題の研究）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概　要</a:t>
            </a:r>
            <a:endParaRPr b="1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836640"/>
            <a:ext cx="8208720" cy="5832360"/>
          </a:xfrm>
          <a:prstGeom prst="rect">
            <a:avLst/>
          </a:prstGeom>
          <a:solidFill>
            <a:srgbClr val="cccc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0000" rIns="198000" tIns="190800" bIns="46800" anchor="t">
            <a:noAutofit/>
          </a:bodyPr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ＭＳ Ｐゴシック"/>
              </a:rPr>
              <a:t>１．観点別評価対象領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ＭＳ Ｐゴシック"/>
              </a:rPr>
              <a:t>２．観点別得点集計（２００４年７月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ＭＳ Ｐゴシック"/>
              </a:rPr>
              <a:t>３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判定と評価（定期考査以外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ＭＳ Ｐゴシック"/>
              </a:rPr>
              <a:t>４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まとめ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ＭＳ Ｐゴシック"/>
              </a:rPr>
              <a:t>５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まとめ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１．観点別評価対象領域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8229600" cy="4545000"/>
        </p:xfrm>
        <a:graphic>
          <a:graphicData uri="http://schemas.openxmlformats.org/drawingml/2006/table">
            <a:tbl>
              <a:tblPr/>
              <a:tblGrid>
                <a:gridCol w="1643040"/>
                <a:gridCol w="1679760"/>
                <a:gridCol w="1655640"/>
                <a:gridCol w="1603440"/>
                <a:gridCol w="1647720"/>
              </a:tblGrid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entury"/>
                          <a:ea typeface="Times New Roman"/>
                        </a:rPr>
                        <a:t>関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entury"/>
                          <a:ea typeface="Times New Roman"/>
                        </a:rPr>
                        <a:t>表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entury"/>
                          <a:ea typeface="Times New Roman"/>
                        </a:rPr>
                        <a:t>理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entury"/>
                          <a:ea typeface="Times New Roman"/>
                        </a:rPr>
                        <a:t>知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 flipV="1">
            <a:off x="3780000" y="2565000"/>
            <a:ext cx="1584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435640" y="342864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35640" y="522900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643280" y="1267920"/>
            <a:ext cx="3168720" cy="4321440"/>
            <a:chOff x="4643280" y="1267920"/>
            <a:chExt cx="3168720" cy="4321440"/>
          </a:xfrm>
        </p:grpSpPr>
        <p:sp>
          <p:nvSpPr>
            <p:cNvPr id="91" name=""/>
            <p:cNvSpPr/>
            <p:nvPr/>
          </p:nvSpPr>
          <p:spPr>
            <a:xfrm flipV="1">
              <a:off x="6227640" y="1267920"/>
              <a:ext cx="50508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643280" y="1341360"/>
              <a:ext cx="2016360" cy="41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804000" y="1341000"/>
              <a:ext cx="1008000" cy="33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732720" y="1341000"/>
              <a:ext cx="1079280" cy="424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651640" y="476280"/>
            <a:ext cx="216036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定期考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1773360"/>
            <a:ext cx="1584360" cy="633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関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0000" y="1773360"/>
            <a:ext cx="1584000" cy="633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表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5640" y="1773360"/>
            <a:ext cx="1584360" cy="633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1773360"/>
            <a:ext cx="1584360" cy="633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知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2637000"/>
            <a:ext cx="1584360" cy="63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聞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3573360"/>
            <a:ext cx="1584360" cy="633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話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508640"/>
            <a:ext cx="1584360" cy="63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読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373720"/>
            <a:ext cx="1584360" cy="63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書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2565360"/>
            <a:ext cx="216036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リスニン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3500280"/>
            <a:ext cx="216036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インタビュ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5300640"/>
            <a:ext cx="216036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ワークシー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２．観点別得点集計（２００４年</a:t>
            </a: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月）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600" cy="4545000"/>
        </p:xfrm>
        <a:graphic>
          <a:graphicData uri="http://schemas.openxmlformats.org/drawingml/2006/table">
            <a:tbl>
              <a:tblPr/>
              <a:tblGrid>
                <a:gridCol w="1643040"/>
                <a:gridCol w="1679760"/>
                <a:gridCol w="1655640"/>
                <a:gridCol w="1603440"/>
                <a:gridCol w="1647720"/>
              </a:tblGrid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entury"/>
                          <a:ea typeface="Times New Roman"/>
                        </a:rPr>
                        <a:t>関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entury"/>
                          <a:ea typeface="Times New Roman"/>
                        </a:rPr>
                        <a:t>表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entury"/>
                          <a:ea typeface="Times New Roman"/>
                        </a:rPr>
                        <a:t>理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entury"/>
                          <a:ea typeface="Times New Roman"/>
                        </a:rPr>
                        <a:t>知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 flipV="1">
            <a:off x="3780000" y="2565000"/>
            <a:ext cx="1584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35640" y="342864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35640" y="522900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27640" y="1267920"/>
            <a:ext cx="505080" cy="35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643280" y="1341360"/>
            <a:ext cx="2016360" cy="41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804000" y="1341000"/>
            <a:ext cx="100800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732720" y="1341000"/>
            <a:ext cx="1079280" cy="424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476280"/>
            <a:ext cx="216036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定期考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1773360"/>
            <a:ext cx="1584360" cy="633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関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1773360"/>
            <a:ext cx="1584000" cy="633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表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1773360"/>
            <a:ext cx="1584360" cy="633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1773360"/>
            <a:ext cx="1584360" cy="633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知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637000"/>
            <a:ext cx="1584360" cy="63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聞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573360"/>
            <a:ext cx="1584360" cy="633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話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508640"/>
            <a:ext cx="1584360" cy="63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読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5373720"/>
            <a:ext cx="1584360" cy="63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書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95640" y="5994360"/>
            <a:ext cx="216036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相互評価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3429000"/>
            <a:ext cx="216036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教師観察１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994360"/>
            <a:ext cx="216072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自己評価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2565360"/>
            <a:ext cx="216036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面接態度１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27640" y="5994360"/>
            <a:ext cx="216036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アンケー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4437000"/>
            <a:ext cx="719280" cy="71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４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11640" y="5373720"/>
            <a:ext cx="719280" cy="71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２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3573360"/>
            <a:ext cx="719280" cy="71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２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2637000"/>
            <a:ext cx="719280" cy="71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２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24720" y="3500280"/>
            <a:ext cx="719280" cy="71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２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4437000"/>
            <a:ext cx="719280" cy="71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３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24720" y="5300640"/>
            <a:ext cx="719280" cy="71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43280" y="1413000"/>
            <a:ext cx="194472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300720" y="1413000"/>
            <a:ext cx="358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258920" y="4797360"/>
            <a:ext cx="16574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4797360"/>
            <a:ext cx="287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4797360"/>
            <a:ext cx="2808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804000" y="1484280"/>
            <a:ext cx="1008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３．判定と評価（定期考査以外）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5280" y="1197000"/>
          <a:ext cx="7101000" cy="4603680"/>
        </p:xfrm>
        <a:graphic>
          <a:graphicData uri="http://schemas.openxmlformats.org/drawingml/2006/table">
            <a:tbl>
              <a:tblPr/>
              <a:tblGrid>
                <a:gridCol w="1484280"/>
                <a:gridCol w="1092240"/>
                <a:gridCol w="1112760"/>
                <a:gridCol w="1168560"/>
                <a:gridCol w="1123920"/>
                <a:gridCol w="1119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徒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徒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徒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徒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徒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徒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7524720" y="1700280"/>
            <a:ext cx="647640" cy="5763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24720" y="5157720"/>
            <a:ext cx="647640" cy="5763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3068640"/>
            <a:ext cx="647640" cy="5763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2349360"/>
            <a:ext cx="64764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24720" y="3789360"/>
            <a:ext cx="64764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4720" y="4437000"/>
            <a:ext cx="647640" cy="576360"/>
          </a:xfrm>
          <a:prstGeom prst="star5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0920" y="4076640"/>
            <a:ext cx="8642160" cy="2324160"/>
          </a:xfrm>
          <a:prstGeom prst="rect">
            <a:avLst/>
          </a:prstGeom>
          <a:solidFill>
            <a:srgbClr val="cccc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2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ＭＳ Ｐゴシック"/>
              </a:rPr>
              <a:t>・　テストと評価の観点との対応関係を明確に    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ＭＳ Ｐゴシック"/>
              </a:rPr>
              <a:t>・　知識を運用できる能力の測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ＭＳ Ｐゴシック"/>
              </a:rPr>
              <a:t>・　文章の大意や要旨の読み取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３．まとめ１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4228920" y="2743200"/>
            <a:ext cx="685800" cy="1752480"/>
          </a:xfrm>
          <a:prstGeom prst="rightArrow">
            <a:avLst>
              <a:gd name="adj1" fmla="val 47648"/>
              <a:gd name="adj2" fmla="val 47685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197000"/>
            <a:ext cx="8642160" cy="1927080"/>
          </a:xfrm>
          <a:prstGeom prst="rect">
            <a:avLst/>
          </a:prstGeom>
          <a:solidFill>
            <a:srgbClr val="dff5d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・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総合問題からの脱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59320" y="981000"/>
            <a:ext cx="2025360" cy="644040"/>
          </a:xfrm>
          <a:prstGeom prst="roundRect">
            <a:avLst>
              <a:gd name="adj" fmla="val 16667"/>
            </a:avLst>
          </a:prstGeom>
          <a:solidFill>
            <a:srgbClr val="339933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定期考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4076640"/>
            <a:ext cx="8642160" cy="2324160"/>
          </a:xfrm>
          <a:prstGeom prst="rect">
            <a:avLst/>
          </a:prstGeom>
          <a:solidFill>
            <a:srgbClr val="cccc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42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cc"/>
                </a:solidFill>
                <a:latin typeface="ＭＳ Ｐゴシック"/>
              </a:rPr>
              <a:t>・　負担のない程度に関心を測定   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cc"/>
                </a:solidFill>
                <a:latin typeface="ＭＳ Ｐゴシック"/>
              </a:rPr>
              <a:t>・　インタビューテストで関心・表現力を測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cc"/>
                </a:solidFill>
                <a:latin typeface="ＭＳ Ｐゴシック"/>
              </a:rPr>
              <a:t>・　自己評価・相互評価・アンケートの活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30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ＭＳ Ｐゴシック"/>
              </a:rPr>
              <a:t>４．まとめ２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4228920" y="2743200"/>
            <a:ext cx="685800" cy="1752480"/>
          </a:xfrm>
          <a:prstGeom prst="rightArrow">
            <a:avLst>
              <a:gd name="adj1" fmla="val 47648"/>
              <a:gd name="adj2" fmla="val 47685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1197000"/>
            <a:ext cx="8642160" cy="1927080"/>
          </a:xfrm>
          <a:prstGeom prst="rect">
            <a:avLst/>
          </a:prstGeom>
          <a:solidFill>
            <a:srgbClr val="dff5d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・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ペーパーテストになじまないものの対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18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59280" y="907920"/>
            <a:ext cx="3090600" cy="644040"/>
          </a:xfrm>
          <a:prstGeom prst="roundRect">
            <a:avLst>
              <a:gd name="adj" fmla="val 16667"/>
            </a:avLst>
          </a:prstGeom>
          <a:solidFill>
            <a:srgbClr val="339933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定期考査以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03:22Z</dcterms:created>
  <dc:creator>sugita</dc:creator>
  <dc:description/>
  <dc:language>en-US</dc:language>
  <cp:lastModifiedBy>山梨県教育委員会</cp:lastModifiedBy>
  <dcterms:modified xsi:type="dcterms:W3CDTF">2004-08-03T14:55:38Z</dcterms:modified>
  <cp:revision>51</cp:revision>
  <dc:subject/>
  <dc:title>PowerPoint プレゼンテーション</dc:title>
</cp:coreProperties>
</file>