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848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33520"/>
            <a:ext cx="152388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95280" y="533520"/>
            <a:ext cx="7848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533520"/>
            <a:ext cx="152388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4114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4.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952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山梨県立石和高等学校　教諭　常盤　武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134200" cy="10717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ＭＳ Ｐゴシック"/>
              </a:rPr>
              <a:t>報告</a:t>
            </a:r>
            <a:br>
              <a:rPr sz="3600"/>
            </a:b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（「評価」に関する研究指定校の概要と課題）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14800" y="1104840"/>
            <a:ext cx="304920" cy="83844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８．課　題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3352680" cy="106668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１つの単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438280"/>
            <a:ext cx="3352680" cy="106704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１時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886200"/>
            <a:ext cx="3352680" cy="106668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授業の組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040" y="1143000"/>
            <a:ext cx="57168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040" y="2590920"/>
            <a:ext cx="571680" cy="761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040" y="4038480"/>
            <a:ext cx="57168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990720"/>
            <a:ext cx="4343400" cy="10666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４観点をうまく配分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2438280"/>
            <a:ext cx="4343400" cy="106704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絞り込んだ評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3886200"/>
            <a:ext cx="4343400" cy="10666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モデル指導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334120"/>
            <a:ext cx="3352680" cy="106668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指導の配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040" y="5486400"/>
            <a:ext cx="57168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5334120"/>
            <a:ext cx="4343400" cy="10666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指導と評価の計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552760"/>
            <a:ext cx="304920" cy="83808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4000680"/>
            <a:ext cx="304920" cy="83808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5448240"/>
            <a:ext cx="304920" cy="83844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114800" y="1104840"/>
            <a:ext cx="304920" cy="83844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８．課　題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990720"/>
            <a:ext cx="3352680" cy="106668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評価のための授業の難し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438280"/>
            <a:ext cx="3352680" cy="106704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職員間の意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886200"/>
            <a:ext cx="3352680" cy="106668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テストを作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040" y="1143000"/>
            <a:ext cx="57168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040" y="2590920"/>
            <a:ext cx="571680" cy="761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040" y="4038480"/>
            <a:ext cx="57168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990720"/>
            <a:ext cx="4343400" cy="10666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無理なく評価できる授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438280"/>
            <a:ext cx="4343400" cy="106704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共通理解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3886200"/>
            <a:ext cx="4343400" cy="10666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総合問題はやめ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34120"/>
            <a:ext cx="3352680" cy="1066680"/>
          </a:xfrm>
          <a:prstGeom prst="rect">
            <a:avLst/>
          </a:prstGeom>
          <a:solidFill>
            <a:srgbClr val="ffe1e1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生徒の戸惑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040" y="5486400"/>
            <a:ext cx="57168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5334120"/>
            <a:ext cx="4343400" cy="10666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常に授業を改善の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2552760"/>
            <a:ext cx="304920" cy="83808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4000680"/>
            <a:ext cx="304920" cy="83808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448240"/>
            <a:ext cx="304920" cy="838440"/>
          </a:xfrm>
          <a:prstGeom prst="rightArrow">
            <a:avLst>
              <a:gd name="adj1" fmla="val 59472"/>
              <a:gd name="adj2" fmla="val 37083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0920" y="4076640"/>
            <a:ext cx="8642160" cy="2324160"/>
          </a:xfrm>
          <a:prstGeom prst="rect">
            <a:avLst/>
          </a:prstGeom>
          <a:solidFill>
            <a:srgbClr val="cccc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ＭＳ Ｐゴシック"/>
              </a:rPr>
              <a:t>・　</a:t>
            </a:r>
            <a:r>
              <a:rPr b="1" lang="zh-CN" sz="2800" spc="-1" strike="noStrike">
                <a:solidFill>
                  <a:srgbClr val="3333cc"/>
                </a:solidFill>
                <a:latin typeface="ＭＳ Ｐゴシック"/>
              </a:rPr>
              <a:t>目標に準拠し、客観的で信頼性、妥当性のある評価 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ＭＳ Ｐゴシック"/>
              </a:rPr>
              <a:t>・　評価に当たっての校内体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ＭＳ Ｐゴシック"/>
              </a:rPr>
              <a:t>・　保護者、生徒、地域、教科間の協力と共通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９．まとめ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228920" y="2743200"/>
            <a:ext cx="685800" cy="1752480"/>
          </a:xfrm>
          <a:prstGeom prst="rightArrow">
            <a:avLst>
              <a:gd name="adj1" fmla="val 47648"/>
              <a:gd name="adj2" fmla="val 47685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197000"/>
            <a:ext cx="8642160" cy="1927080"/>
          </a:xfrm>
          <a:prstGeom prst="rect">
            <a:avLst/>
          </a:prstGeom>
          <a:solidFill>
            <a:srgbClr val="dff5d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評価規準を理解し、その 枠にはめて研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・ 生徒の能力を適正に評価し、授業改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8680" y="990720"/>
            <a:ext cx="2006640" cy="44136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目　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概　要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836640"/>
            <a:ext cx="8208720" cy="5832360"/>
          </a:xfrm>
          <a:prstGeom prst="rect">
            <a:avLst/>
          </a:prstGeom>
          <a:solidFill>
            <a:srgbClr val="cccc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198000" tIns="190800" bIns="46800" anchor="t">
            <a:no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１．研究の概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２．研究の目的と目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３．研究体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４．研究の手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５．研究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６．観点評価対象領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７．判定と評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８．課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９．まと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１．研究の概要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143000"/>
            <a:ext cx="8229600" cy="3276720"/>
          </a:xfrm>
          <a:prstGeom prst="rect">
            <a:avLst/>
          </a:prstGeom>
          <a:solidFill>
            <a:srgbClr val="cccc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198000" tIns="190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学習指導要領の定める目標等の実現状況につい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実践的な調査研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をおこなうこ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徒の学力をどう総合的に評価できるかを、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４つの観点から総合的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考え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２．目的と目標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8229600" cy="1905120"/>
          </a:xfrm>
          <a:prstGeom prst="rect">
            <a:avLst/>
          </a:prstGeom>
          <a:solidFill>
            <a:srgbClr val="dff5d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国が定めた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評価規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を理解し、その枠にはめて研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68680" y="1136520"/>
            <a:ext cx="2006640" cy="57672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038480"/>
            <a:ext cx="8229600" cy="1905120"/>
          </a:xfrm>
          <a:prstGeom prst="rect">
            <a:avLst/>
          </a:prstGeom>
          <a:solidFill>
            <a:srgbClr val="ffdddd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徒の能力を適正に評価し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授業改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に生か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68680" y="3803760"/>
            <a:ext cx="2006640" cy="57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　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676840" y="2666880"/>
            <a:ext cx="0" cy="5335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43480" y="2666880"/>
            <a:ext cx="0" cy="5335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666880"/>
            <a:ext cx="5790960" cy="457200"/>
          </a:xfrm>
          <a:custGeom>
            <a:avLst/>
            <a:gdLst/>
            <a:ahLst/>
            <a:rect l="l" t="t" r="r" b="b"/>
            <a:pathLst>
              <a:path w="3744" h="288">
                <a:moveTo>
                  <a:pt x="0" y="288"/>
                </a:moveTo>
                <a:lnTo>
                  <a:pt x="0" y="0"/>
                </a:lnTo>
                <a:lnTo>
                  <a:pt x="3744" y="0"/>
                </a:lnTo>
                <a:lnTo>
                  <a:pt x="3744" y="288"/>
                </a:ln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124080"/>
            <a:ext cx="1954080" cy="14572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0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常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難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３．体　制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371600"/>
            <a:ext cx="0" cy="12952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066680"/>
            <a:ext cx="3200400" cy="45720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研究教養主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英語科主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8954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１学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3124080"/>
            <a:ext cx="1909800" cy="14572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06800" bIns="4680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佐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岡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8954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２学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3124080"/>
            <a:ext cx="1792440" cy="14572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0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渡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市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西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28954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３学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3124080"/>
            <a:ext cx="1817640" cy="14572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0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向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保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セア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28954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ＭＳ Ｐゴシック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797360"/>
            <a:ext cx="1942920" cy="7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授業と評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報告書作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4797360"/>
            <a:ext cx="1873440" cy="7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調査問題活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解答の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4797360"/>
            <a:ext cx="1800360" cy="7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アンケート実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テストの開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4797360"/>
            <a:ext cx="1800360" cy="7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アンケート実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テストの開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1052640"/>
            <a:ext cx="2232000" cy="504720"/>
          </a:xfrm>
          <a:prstGeom prst="rect">
            <a:avLst/>
          </a:prstGeom>
          <a:solidFill>
            <a:srgbClr val="ffff99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外部との連絡調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1916280"/>
            <a:ext cx="2232000" cy="504720"/>
          </a:xfrm>
          <a:prstGeom prst="rect">
            <a:avLst/>
          </a:prstGeom>
          <a:solidFill>
            <a:srgbClr val="ffff99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総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４．研究の手順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052640"/>
          <a:ext cx="8512200" cy="5459400"/>
        </p:xfrm>
        <a:graphic>
          <a:graphicData uri="http://schemas.openxmlformats.org/drawingml/2006/table">
            <a:tbl>
              <a:tblPr/>
              <a:tblGrid>
                <a:gridCol w="1535040"/>
                <a:gridCol w="1130400"/>
                <a:gridCol w="1150920"/>
                <a:gridCol w="1208160"/>
                <a:gridCol w="1161720"/>
                <a:gridCol w="1159200"/>
                <a:gridCol w="1166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計画立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評価規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指導計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授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考査評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考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905120" y="1752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565360"/>
            <a:ext cx="229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22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67640" y="50846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595008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4292640"/>
            <a:ext cx="227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295280"/>
            <a:ext cx="4186080" cy="213372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言語や文化に対する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積極的にコミュニケ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を図ろうとする態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実践的コミュニケーション能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５．研究内容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"/>
          <p:cNvSpPr/>
          <p:nvPr/>
        </p:nvSpPr>
        <p:spPr>
          <a:xfrm>
            <a:off x="1028880" y="1066680"/>
            <a:ext cx="2743200" cy="457200"/>
          </a:xfrm>
          <a:prstGeom prst="roundRect">
            <a:avLst>
              <a:gd name="adj" fmla="val 20139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習の到達目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2440" y="1295280"/>
            <a:ext cx="3886200" cy="213372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１単元で４観点をどう評価する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１時間で４観点をどう評価する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４観点を取り入れたテストのポ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ントは何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066680"/>
            <a:ext cx="2743200" cy="457200"/>
          </a:xfrm>
          <a:prstGeom prst="roundRect">
            <a:avLst>
              <a:gd name="adj" fmla="val 20139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評価の観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360" y="4038480"/>
            <a:ext cx="4147920" cy="205452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１つの単元を何時間で行う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１ページを何時間で行う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その時間の授業をどう組み立てる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809880"/>
            <a:ext cx="2743200" cy="457200"/>
          </a:xfrm>
          <a:prstGeom prst="roundRect">
            <a:avLst>
              <a:gd name="adj" fmla="val 20139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習計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814560" cy="2062080"/>
          </a:xfrm>
          <a:prstGeom prst="rect">
            <a:avLst/>
          </a:prstGeom>
          <a:solidFill>
            <a:srgbClr val="e1e1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評価規準作成のポイン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指導のポイン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評価のポイン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72280" y="3809880"/>
            <a:ext cx="2743200" cy="457200"/>
          </a:xfrm>
          <a:prstGeom prst="roundRect">
            <a:avLst>
              <a:gd name="adj" fmla="val 20139"/>
            </a:avLst>
          </a:prstGeom>
          <a:solidFill>
            <a:srgbClr val="3333cc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評価と指導の計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６．観点別評価対象領域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545000"/>
        </p:xfrm>
        <a:graphic>
          <a:graphicData uri="http://schemas.openxmlformats.org/drawingml/2006/table">
            <a:tbl>
              <a:tblPr/>
              <a:tblGrid>
                <a:gridCol w="1643040"/>
                <a:gridCol w="1679760"/>
                <a:gridCol w="1655640"/>
                <a:gridCol w="1603440"/>
                <a:gridCol w="164772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関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表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 flipV="1">
            <a:off x="3780000" y="2565000"/>
            <a:ext cx="1584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35640" y="3428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35640" y="522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43280" y="1267920"/>
            <a:ext cx="3168720" cy="4321440"/>
            <a:chOff x="4643280" y="1267920"/>
            <a:chExt cx="3168720" cy="4321440"/>
          </a:xfrm>
        </p:grpSpPr>
        <p:sp>
          <p:nvSpPr>
            <p:cNvPr id="136" name=""/>
            <p:cNvSpPr/>
            <p:nvPr/>
          </p:nvSpPr>
          <p:spPr>
            <a:xfrm flipV="1">
              <a:off x="6227640" y="1267920"/>
              <a:ext cx="50508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643280" y="1341360"/>
              <a:ext cx="2016360" cy="41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804000" y="1341000"/>
              <a:ext cx="100800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732720" y="1341000"/>
              <a:ext cx="1079280" cy="42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651640" y="47628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定期考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関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1773360"/>
            <a:ext cx="158400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63700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聞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573360"/>
            <a:ext cx="1584360" cy="633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話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450864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読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537372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書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７．判定と評価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1197000"/>
          <a:ext cx="7101000" cy="4603680"/>
        </p:xfrm>
        <a:graphic>
          <a:graphicData uri="http://schemas.openxmlformats.org/drawingml/2006/table">
            <a:tbl>
              <a:tblPr/>
              <a:tblGrid>
                <a:gridCol w="1484280"/>
                <a:gridCol w="1092240"/>
                <a:gridCol w="1112760"/>
                <a:gridCol w="1168560"/>
                <a:gridCol w="1123920"/>
                <a:gridCol w="1119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7524720" y="1700280"/>
            <a:ext cx="64764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5157720"/>
            <a:ext cx="64764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24720" y="3068640"/>
            <a:ext cx="64764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24720" y="2349360"/>
            <a:ext cx="647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3789360"/>
            <a:ext cx="647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437000"/>
            <a:ext cx="647640" cy="57636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03:22Z</dcterms:created>
  <dc:creator>sugita</dc:creator>
  <dc:description/>
  <dc:language>en-US</dc:language>
  <cp:lastModifiedBy>山梨県教育委員会</cp:lastModifiedBy>
  <dcterms:modified xsi:type="dcterms:W3CDTF">2004-08-02T16:17:02Z</dcterms:modified>
  <cp:revision>44</cp:revision>
  <dc:subject/>
  <dc:title>PowerPoint プレゼンテーション</dc:title>
</cp:coreProperties>
</file>