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01%20Fasination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D4F3-2BAA-4333-B831-86A95CC37FE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a belleza noctu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3627-EF54-45B3-A501-DAEDEC0E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31AD-4994-47DA-AD58-64B1D4C6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FAC-DE45-4584-8461-01ACFF8D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BBB-146F-45A7-895D-99AC8D17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9FE-43FF-4875-843B-45F29E2F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B4A5-DD47-4ED7-A04D-DDCB1DE6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0F0-17AB-4F4B-9381-BC522722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268-7CB1-47DF-B186-FA6EE2C3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C54-BDD6-4E3C-AAFB-65F4B2EF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A55-B322-4946-B924-4937EBBE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529D-E7D0-47B1-AC1C-D3CE2A1A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1ED8-4C4C-4397-B045-92C8FEAB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5663-AC1B-4E38-8198-BAB915EAA776}" type="slidenum">
              <a:rPr b="0" lang="de-CH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1%20Fasinatio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744" t="5128" r="2744" b="3702"/>
          <a:stretch/>
        </p:blipFill>
        <p:spPr>
          <a:xfrm>
            <a:off x="0" y="77760"/>
            <a:ext cx="9144000" cy="6780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0e500"/>
                </a:solidFill>
                <a:latin typeface="Arial"/>
              </a:rPr>
              <a:t>LA FASCINACIÓN DE LA NOCH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37240" y="64911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AUTOMA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91160"/>
            <a:ext cx="39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Canta Nat king Cole: Fascin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595008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10200" y="5602320"/>
            <a:ext cx="42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t was fasci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 kn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4000">
    <p:diamond/>
    <p:sndAc>
      <p:stSnd>
        <p:snd r:embed="rId2" name="01%20Fasinati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2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962" t="2582" r="1962" b="2756"/>
          <a:stretch/>
        </p:blipFill>
        <p:spPr>
          <a:xfrm>
            <a:off x="0" y="0"/>
            <a:ext cx="9325080" cy="6924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0000" y="208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PR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963" t="6341" r="1963" b="62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7800" y="2602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DRES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1961" t="2757" r="1961" b="27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5440" y="2602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SALZBUR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1961" t="2756" r="1961" b="2756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9280" y="1364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LAS VEG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1961" t="2753" r="1961" b="3798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94360" y="2811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VENE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94720" y="2811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DRES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6033960"/>
            <a:ext cx="28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t was fascin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 kn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6920" y="208080"/>
            <a:ext cx="28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EL MONTE SAN MICH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84360" y="6033960"/>
            <a:ext cx="36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eing you al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With the moonlight ab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1960" t="2757" r="1960" b="2757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48920" y="2080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LA TORRE DEL PU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5670720"/>
            <a:ext cx="5292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0e500"/>
                </a:solidFill>
                <a:latin typeface="Comic Sans MS"/>
              </a:rPr>
              <a:t>Un abr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0DCD-0E2D-45BA-9CB9-49569CAAE5BC}" type="datetime3">
              <a:rPr b="1" lang="es-ES" sz="2400" spc="-1" strike="noStrike">
                <a:solidFill>
                  <a:srgbClr val="f0e500"/>
                </a:solidFill>
                <a:latin typeface="Comic Sans MS"/>
              </a:rPr>
              <a:t>28 de julio de 2026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0e500"/>
                </a:solidFill>
                <a:latin typeface="Comic Sans MS"/>
              </a:rPr>
              <a:t> </a:t>
            </a:r>
            <a:fld id="{9A810D56-9E48-435C-8AF4-5C98EE429987}" type="datetime10">
              <a:rPr b="1" lang="es-ES" sz="2400" spc="-1" strike="noStrike">
                <a:solidFill>
                  <a:srgbClr val="f0e500"/>
                </a:solidFill>
                <a:latin typeface="Comic Sans MS"/>
              </a:rPr>
              <a:t>15:10</a:t>
            </a:fld>
            <a:r>
              <a:rPr b="1" lang="es-ES" sz="2400" spc="-1" strike="noStrike">
                <a:solidFill>
                  <a:srgbClr val="f0e500"/>
                </a:solidFill>
                <a:latin typeface="Comic Sans MS"/>
              </a:rPr>
              <a:t> rgatica@raulgatica.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95008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69448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hen I touch your h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nd next mo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 kiss y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ascination turned to l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3000">
    <p:diamond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962" t="2661" r="1962" b="3424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6880" y="2602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FRANKRE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6105600"/>
            <a:ext cx="35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nd it might have en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ight then, at the 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9440" y="28116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BREMERHA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652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Just a passing gl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2744" t="3796" r="1962" b="37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8720" y="20808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HAMBUR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9080" y="64468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Just a brief ro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10420" t="6945" r="5121" b="905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70160" y="33336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LA ÓPERA, SYDN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59280" y="5516640"/>
            <a:ext cx="324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nd I might have g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n my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Empty hear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2742" t="3797" r="2742" b="37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70160" y="2602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BERL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6033960"/>
            <a:ext cx="309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t was fasci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 kn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3541" t="7318" r="3541" b="590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3800" y="2602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BUDAP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0360" y="6033960"/>
            <a:ext cx="287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Seeing you al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With the moonlight ab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961" t="2756" r="1961" b="0"/>
          <a:stretch/>
        </p:blipFill>
        <p:spPr>
          <a:xfrm>
            <a:off x="0" y="-100080"/>
            <a:ext cx="9325080" cy="6942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5440" y="1890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COLO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5589720"/>
            <a:ext cx="35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Then I touch your h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nd next mo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 kiss y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1961" t="1042" r="1961" b="2757"/>
          <a:stretch/>
        </p:blipFill>
        <p:spPr>
          <a:xfrm>
            <a:off x="0" y="-9360"/>
            <a:ext cx="9325080" cy="7038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0720" y="33336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800" spc="-1" strike="noStrike">
                <a:solidFill>
                  <a:srgbClr val="f0e500"/>
                </a:solidFill>
                <a:latin typeface="Arial"/>
              </a:rPr>
              <a:t>BIG BEN, LOND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40000" y="63752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ascination turned to l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0:59:52Z</dcterms:created>
  <dc:creator>Rosmarie Steffen,.Adaptación Waldo Nava</dc:creator>
  <dc:description>Automatico. Fondo musical: Fascinación, canta Nat King Cole</dc:description>
  <dc:language>en-US</dc:language>
  <cp:lastModifiedBy>rgatica</cp:lastModifiedBy>
  <dcterms:modified xsi:type="dcterms:W3CDTF">2010-07-21T14:55:26Z</dcterms:modified>
  <cp:revision>53</cp:revision>
  <dc:subject/>
  <dc:title>LA BELLEZA NOCTURNA</dc:title>
</cp:coreProperties>
</file>