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01%20Fasination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818-5290-462D-9976-C706DD8DDD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 belleza noctu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CD8-1FAE-4509-8F49-500B74BB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F61-83D0-429C-AFA4-6887322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D11-36EF-4A88-920B-FA808DAD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6BB-E643-4CB3-A0CF-B640F705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E45-DB74-46AC-ADAD-7DB45437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642-00FF-4538-BD41-3A1A08F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B26-F2FF-4B2E-A9FE-C97D50FC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AD2-736A-4325-9A6E-00A1504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B07-7C77-488F-8D90-9E176149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37B-6D56-467A-A090-79B3276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809-38E1-4DCC-9C0C-E5633D4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C3A-E03B-4137-9A04-52C3BF5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5B5C-1440-4102-B60D-7789CF24666E}" type="slidenum">
              <a:rPr b="0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Fasina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44" t="5128" r="2744" b="3702"/>
          <a:stretch/>
        </p:blipFill>
        <p:spPr>
          <a:xfrm>
            <a:off x="0" y="777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0e500"/>
                </a:solidFill>
                <a:latin typeface="Arial"/>
              </a:rPr>
              <a:t>LA FASCINACIÓN DE LA NO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240" y="64911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AUTOMA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anta Nat king Cole: Fasci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9500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0200" y="560232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t was fasc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4000">
    <p:diamond/>
    <p:sndAc>
      <p:stSnd>
        <p:snd r:embed="rId2" name="01%20Fasina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962" t="2582" r="1962" b="2756"/>
          <a:stretch/>
        </p:blipFill>
        <p:spPr>
          <a:xfrm>
            <a:off x="0" y="0"/>
            <a:ext cx="9325080" cy="692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208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PR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963" t="6341" r="1963" b="62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7800" y="260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61" t="2757" r="1961" b="2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5440" y="260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SALZ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961" t="2756" r="1961" b="275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280" y="13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S VE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961" t="2753" r="1961" b="3798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VENE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4720" y="281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603396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t was fascin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6920" y="2080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EL MONTE SAN 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6033960"/>
            <a:ext cx="36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eing you a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ith the moonlight ab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960" t="2757" r="1960" b="2757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8920" y="2080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TORRE DEL P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5670720"/>
            <a:ext cx="5292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Un abr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5E4-7E74-4D72-80B7-9A3DAF80BDED}" type="datetime3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31 de julio de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</a:t>
            </a:r>
            <a:fld id="{2C12AFAA-B946-4D95-B376-40D20649223E}" type="datetime10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17:50</a:t>
            </a:fld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rgatica@raulgatica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9500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6944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hen I touch your h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nex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iss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scination turned to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962" t="2661" r="1962" b="3424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6880" y="260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610560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d it might have e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ight then, at the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9440" y="2811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REMERH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652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ust a passing g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744" t="3796" r="1962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720" y="2080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HAM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9080" y="64468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ust a brief ro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0420" t="6945" r="5121" b="905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0160" y="33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ÓPERA, SYD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5516640"/>
            <a:ext cx="32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I might have g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n my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pty hea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742" t="3797" r="2742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0160" y="26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03396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t was fasc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541" t="7318" r="3541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3800" y="26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603396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eing you a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ith the moonlight ab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61" t="2756" r="1961" b="0"/>
          <a:stretch/>
        </p:blipFill>
        <p:spPr>
          <a:xfrm>
            <a:off x="0" y="-100080"/>
            <a:ext cx="9325080" cy="694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5440" y="189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OL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5589720"/>
            <a:ext cx="35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hen I touch your h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next mo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iss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961" t="1042" r="1961" b="2757"/>
          <a:stretch/>
        </p:blipFill>
        <p:spPr>
          <a:xfrm>
            <a:off x="0" y="-9360"/>
            <a:ext cx="9325080" cy="703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720" y="333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IG BEN, LON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63752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scination turned to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0:59:52Z</dcterms:created>
  <dc:creator>Rosmarie Steffen,.Adaptación Waldo Nava</dc:creator>
  <dc:description>Automatico. Fondo musical: Fascinación, canta Nat King Cole</dc:description>
  <dc:language>en-US</dc:language>
  <cp:lastModifiedBy>rgatica</cp:lastModifiedBy>
  <dcterms:modified xsi:type="dcterms:W3CDTF">2010-07-21T14:55:26Z</dcterms:modified>
  <cp:revision>53</cp:revision>
  <dc:subject/>
  <dc:title>LA BELLEZA NOCTURNA</dc:title>
</cp:coreProperties>
</file>