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4EE1-B5A5-4464-8418-E411EAFB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280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8000" y="4024440"/>
            <a:ext cx="89280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CD4F4-FC37-4C69-8094-30D3EB3A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8000" y="40244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2880" y="40244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DAAF-C006-41A8-B289-0BD390C5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26600" y="10526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0526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8000" y="40244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26600" y="40244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40244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734B-86C7-43B0-8121-831A3ABA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D103-6F9D-4024-9801-76933CFF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2800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D168-5ACA-43C9-BDED-98791B75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28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0F6A-59A3-4117-AF1C-1BCA9437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3A5B-28D0-4A40-A743-513F14A4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960A-8650-4EBB-B962-DC45030F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D00C-080F-45EC-A8F6-ED4EFBE1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8000" y="40244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00BC-649D-4D14-A546-2670E96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8000" y="1052640"/>
            <a:ext cx="8928000" cy="56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F6A3-2AA0-45B5-8233-66B53DFC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2880" y="40244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CD59-80F8-4AA4-8E95-ACED6DD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8000" y="4024440"/>
            <a:ext cx="89280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177D-85AB-48B6-868B-85D537AC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280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8000" y="4024440"/>
            <a:ext cx="89280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AE52-3710-46AD-887B-D70DAE71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8000" y="40244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2880" y="40244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EE06-9080-40A8-B827-16118AFE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126600" y="10526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45560" y="10526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08000" y="40244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126600" y="40244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45560" y="4024440"/>
            <a:ext cx="28746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AF7C-4CB7-48B0-B097-41222679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928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1BE4-6DD1-4701-9B43-C479F61F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219A-BF28-4135-AF9D-DCFDF52C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3768A-8D8B-4F84-8A95-B4A354B8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ADCDF-BD4D-4020-90F4-DB57E8F5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8000" y="40244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F39A-B609-4174-80BC-83CFD0BD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2880" y="40244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C8016-EECC-4330-A797-9FBD7945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2880" y="1052640"/>
            <a:ext cx="435672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000" y="4024440"/>
            <a:ext cx="8928000" cy="27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C83C-7AEE-40B9-B4B9-3759C9A6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23D9-2497-4CDB-AE39-DFC0DE4B34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4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f8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7905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108000" y="1052640"/>
            <a:ext cx="8928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f83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44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44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f8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7905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587E-F43F-4467-B974-14B34BC0D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790571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44004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卒業旅行　計画案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A.C.</a:t>
            </a: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Amag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各島の案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ボルネオ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マレーシ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予算範囲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6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万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どんな島：自然が豊富、海はまあまあ、ジャングルがすぐ近くにあったり、スポーツなども楽しめ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ペナン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マレーシ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予算範囲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6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万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どんな島：かなり観光開発された島、ショッピングや観光も楽しめる、海はあまりきれいじゃないみたい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プーケット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ピピ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タ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予算範囲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万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どんな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ピピ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さんご礁でできた島でかなり海がきれい、ほとんど開発されてない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どんな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ーケット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：かなり観光開発された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ランカウイ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マレーシ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予算範囲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6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万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どんな島：自然が豊富、海はまあまあ、ジャングルがすぐ近くにあったり、スポーツなども楽しめ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プランの予算は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の後半ということで調べました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になると、前半はあまり変わらないと思いますが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後半は高くなり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ボルネオ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5111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利用できるホテルの代替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ステラ・ハーバー・リゾー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ラ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6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9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☆☆☆☆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市内南側に広がる埋立地に建つ大型リゾートホテル。重厚なインテリアの客室は、ゆったりとして高級感あふれる造り。従業員のホスピタリティは上質で気持ちよい。マリンアクティビティも豊富。託児施設なども充実。飲食店舗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店。空港から車で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ビーチが隣接していないということです。近くの島に行くことができ、そこで遊ぶこともできる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ネクサスリゾー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ラ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：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9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2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☆☆☆☆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熱帯雨林と白い砂浜の海岸に囲まれた豪華リゾートホテル。ロビーはボルネオ建築が見事なまでに素晴らしく開放感がある。広い客室にはバルコニーが付いており、設備も充実。アクティビティも豊富で、家族連れでの滞在にも適している。市内へは車で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。空港から車で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8360" y="3767040"/>
            <a:ext cx="2506680" cy="167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43640" y="5013360"/>
            <a:ext cx="2519280" cy="168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72360" y="1771560"/>
            <a:ext cx="25923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148360" y="907920"/>
            <a:ext cx="247644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59640" y="2057400"/>
            <a:ext cx="2376360" cy="1563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ボルネオ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5400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利用できるホテルの代替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シャングリラ・ラサリ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ラ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：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1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4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☆☆☆☆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東京ドー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個分の広大な敷地に建つ豪華リゾートホテル。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k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に及ぶ白砂のビーチと森に囲まれた自然保護区を所有。全室バルコニー付の客室はシンプルだがファミリー客重視。市内から車で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時間、空港から車で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シャングリラ・タンジュンア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ラ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：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5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9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☆☆☆☆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岬に位置するボルネオ風建物が目を引く。客室はどれも広々として明るく開放的。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平方メートルの敷地にはヤシの木が生い茂り、南国リゾートを感じられる。各種マリンスポーツを始めとしたアクティビティが充実。市内から車で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。空港から車で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51640" y="3740040"/>
            <a:ext cx="2476440" cy="1714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443640" y="5037120"/>
            <a:ext cx="2592360" cy="1704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80000" y="836640"/>
            <a:ext cx="2448000" cy="15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32720" y="5084640"/>
            <a:ext cx="2190600" cy="1467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ペナン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4895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利用できるホテルの代替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シャングリラ　ゴールデンサン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ラ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68~5.8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☆☆☆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バツー・フェリンギビーチフロントのリゾートホテル。客室のバルコニーからマラッカ海峡や緑の生い茂る森が見渡せる。宿泊客はラサ・サヤンやパーム・ビーチ、シャングリラ・ペナンホテルのレジャー施設を利用できる。空港から車で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コプトーン・オーキッ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ラ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日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18~5.3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☆☆☆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バツー・フェリンギの東端に位置するホテル。「花咲く岬」の意味を持つタンジュンブンガのビーチを見下すロケーション。バヤン・レパス国際空港から車で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859280" y="4235400"/>
            <a:ext cx="2476440" cy="1714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003640" y="2276640"/>
            <a:ext cx="2190960" cy="147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075280" y="907920"/>
            <a:ext cx="2305080" cy="1589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164360" y="1125360"/>
            <a:ext cx="1546200" cy="22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8000" y="1052640"/>
            <a:ext cx="446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利用するホテル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ピピナチュラ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ピピ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☆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ソンサンベイからフェリーで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時間、ピピ島北端のトン岬に建つホテル。バンガロー風のメインビルと敷地内に建ち並ぶ客室のコテージが開放的な雰囲気。客室は広くはないが採光がよく、シンプルな木のインテリアと磨き抜かれたフローリングの床が心地よい。広いテラスも爽快。プーケット国際空港から約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k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ィーバナ・パトンリゾート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ーケット島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☆☆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パトンエリアに位置する小さなリゾート。広い庭にある大小のプールを囲んで宿泊棟が建ち 並ぶ。タイ風家具を用いた客室はエキゾティックな雰囲気。近くのパトンビーチには郵便局やレストラン、ショップも多数あり便利。ビーチまでは徒歩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。プーケット国際空港から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k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予算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ピピ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泊、プーケッ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5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万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65760" y="1268280"/>
            <a:ext cx="2154240" cy="1298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20000" y="1316160"/>
            <a:ext cx="1800000" cy="1244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859280" y="3789360"/>
            <a:ext cx="3816360" cy="13032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プーケット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ピピ島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ラ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59640" y="5084640"/>
            <a:ext cx="2022480" cy="1374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859280" y="5084640"/>
            <a:ext cx="2021040" cy="1374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4572000" y="2540160"/>
            <a:ext cx="453708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92720" y="2565360"/>
            <a:ext cx="3075120" cy="1065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219640" y="5157720"/>
            <a:ext cx="2190960" cy="1467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ランカウイ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7640" y="1052640"/>
            <a:ext cx="48956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できるホテ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ベルジャヤ・ランカウイ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：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.18~6.38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☆☆☆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山と海に挟まれた緑の生い茂る中に建つリゾートホテル。可愛らしいオレンジの三角屋根を 配したシャレーが広い敷地内に点在している。ゆったりとした客室は全室にバルコニー又はテラス付。エキゾチックムードたっぷりのプールやビーチバーをはじ めとする飲食施設も充実。スパと豊富なエステメニューで女性にも人気が高い。ランカウイ国際空港から車で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分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シェラトン・ランカウイ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：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6.03~6.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万円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☆☆☆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440044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ビーチを目の前にして建つ、ランカウイでは老舗の高級リゾートホテル。建物は木造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階建てのシャレーススタイルで、客室の天井にはファンがゆったりと回り、南国ムードたっぷり。広大な敷地内はコーチで移動する。空港から車で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分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003640" y="1484280"/>
            <a:ext cx="2016360" cy="1338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773760" y="4437000"/>
            <a:ext cx="2190960" cy="1467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003640" y="3789360"/>
            <a:ext cx="2190960" cy="1467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6804000" y="1125360"/>
            <a:ext cx="211608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28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今回、以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つの島、ホテルなどの違いによ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つのプランを集めてみました。全体的にきれいな海の島があまりなかった。海がきれいな所はかなり価格が高いです。今回選んだ中でもきれいなのはピピ島くらい。香港やクアラルンプールに立ち寄るプランはしょぼいビーチになるのでやめました。また、場所柄などにより、同じ島でもホテルによって旅の目的はかなり変わってきそうです。そこで、僕個人偏見ですが各プランのタイプ分けをしてみ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その土地のにぎわっている場所で過ごす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喧騒から離れた場所で過ごす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海がきれい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ールが充実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その他の施設が充実：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790571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ホテルがいい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4004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お薦めとしては、プラ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す。でも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は少し予算オーバーかもね。値段も考えると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す。皆さんの意見をお待ちしており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000" y="5373720"/>
            <a:ext cx="90216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※</a:t>
            </a:r>
            <a:r>
              <a:rPr b="0" lang="ja-JP" sz="1800" spc="-1" strike="noStrike">
                <a:solidFill>
                  <a:srgbClr val="ffeded"/>
                </a:solidFill>
                <a:latin typeface="Arial"/>
              </a:rPr>
              <a:t>僕個人の好き嫌いによって情報を集めたので、情報にはかなりの偏りがあると思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eded"/>
                </a:solidFill>
                <a:latin typeface="Arial"/>
              </a:rPr>
              <a:t>　　まあ、任せるって言われたしいいよね。</a:t>
            </a:r>
            <a:r>
              <a:rPr b="0" lang="ja-JP" sz="1800" spc="-1" strike="noStrike">
                <a:solidFill>
                  <a:srgbClr val="ffeded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ffeded"/>
                </a:solidFill>
                <a:latin typeface="Arial"/>
              </a:rPr>
              <a:t>ｆ澤、ｋ岡、ｋ米</a:t>
            </a:r>
            <a:r>
              <a:rPr b="0" lang="ja-JP" sz="1800" spc="-1" strike="noStrike">
                <a:solidFill>
                  <a:srgbClr val="ffeded"/>
                </a:solidFill>
                <a:latin typeface="Arial"/>
              </a:rPr>
              <a:t>)</a:t>
            </a:r>
            <a:r>
              <a:rPr b="0" lang="ja-JP" sz="1800" spc="-1" strike="noStrike">
                <a:solidFill>
                  <a:srgbClr val="ffeded"/>
                </a:solidFill>
                <a:latin typeface="Arial"/>
              </a:rPr>
              <a:t>でも、案</a:t>
            </a:r>
            <a:r>
              <a:rPr b="0" lang="ja-JP" sz="1800" spc="-1" strike="noStrike">
                <a:solidFill>
                  <a:srgbClr val="ffeded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ffeded"/>
                </a:solidFill>
                <a:latin typeface="Arial"/>
              </a:rPr>
              <a:t>つに絞れなかったな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eded"/>
                </a:solidFill>
                <a:latin typeface="Arial"/>
              </a:rPr>
              <a:t>　　しかも、かなり多いし。俺って優柔不断やなあ・・・って、まあいいけど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eded"/>
                </a:solidFill>
                <a:latin typeface="Arial"/>
              </a:rPr>
              <a:t>　　これで、卒論再提出とかなったら寒いな、しか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7:44:02Z</dcterms:created>
  <dc:creator>ひかる</dc:creator>
  <dc:description/>
  <dc:language>en-US</dc:language>
  <cp:lastModifiedBy>ひかる</cp:lastModifiedBy>
  <dcterms:modified xsi:type="dcterms:W3CDTF">2004-12-21T20:09:05Z</dcterms:modified>
  <cp:revision>6</cp:revision>
  <dc:subject/>
  <dc:title>卒業旅行　計画案</dc:title>
</cp:coreProperties>
</file>