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618-E6A9-405E-95DA-C60AE49B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6E4-23A9-4B73-9DB1-F409346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3ED-2B67-4D65-A2D4-4C308723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0CD-C034-4149-8438-D75F19CC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C2A-03EC-40F9-AD10-8F0DFE7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1B5-A352-45E0-9777-53B8F7E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9C4-2614-4479-9F10-45CE5DA9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387-3EE9-40D5-A03C-49DB841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10B-A579-4089-8980-754FF04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84A-ED2B-4ADF-9E1C-7F95CB35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C17-0101-42A1-A662-9F9E9628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FA4-5132-41BA-89C0-CFB8AD6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2648-FACA-4809-BEDD-A4F17B53A6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キョロちゃ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円/楕円 8"/>
          <p:cNvSpPr/>
          <p:nvPr/>
        </p:nvSpPr>
        <p:spPr>
          <a:xfrm>
            <a:off x="2627280" y="260280"/>
            <a:ext cx="1728720" cy="165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円/楕円 10"/>
          <p:cNvSpPr/>
          <p:nvPr/>
        </p:nvSpPr>
        <p:spPr>
          <a:xfrm>
            <a:off x="3348000" y="549360"/>
            <a:ext cx="1008000" cy="11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/楕円 11"/>
          <p:cNvSpPr/>
          <p:nvPr/>
        </p:nvSpPr>
        <p:spPr>
          <a:xfrm>
            <a:off x="4356000" y="260280"/>
            <a:ext cx="180036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円/楕円 12"/>
          <p:cNvSpPr/>
          <p:nvPr/>
        </p:nvSpPr>
        <p:spPr>
          <a:xfrm>
            <a:off x="4356000" y="476280"/>
            <a:ext cx="1079640" cy="1224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フリーフォーム 23"/>
          <p:cNvSpPr/>
          <p:nvPr/>
        </p:nvSpPr>
        <p:spPr>
          <a:xfrm>
            <a:off x="2050920" y="1700280"/>
            <a:ext cx="2071800" cy="2449440"/>
          </a:xfrm>
          <a:custGeom>
            <a:avLst/>
            <a:gdLst/>
            <a:ahLst/>
            <a:rect l="l" t="t" r="r" b="b"/>
            <a:pathLst>
              <a:path w="2071171" h="2479274">
                <a:moveTo>
                  <a:pt x="1178804" y="75759"/>
                </a:moveTo>
                <a:cubicBezTo>
                  <a:pt x="1195329" y="94120"/>
                  <a:pt x="1191476" y="99447"/>
                  <a:pt x="1277956" y="185927"/>
                </a:cubicBezTo>
                <a:cubicBezTo>
                  <a:pt x="1320369" y="228340"/>
                  <a:pt x="1298043" y="210335"/>
                  <a:pt x="1344057" y="241012"/>
                </a:cubicBezTo>
                <a:cubicBezTo>
                  <a:pt x="1351402" y="252029"/>
                  <a:pt x="1356728" y="264700"/>
                  <a:pt x="1366091" y="274062"/>
                </a:cubicBezTo>
                <a:cubicBezTo>
                  <a:pt x="1379075" y="287046"/>
                  <a:pt x="1395117" y="296583"/>
                  <a:pt x="1410159" y="307113"/>
                </a:cubicBezTo>
                <a:cubicBezTo>
                  <a:pt x="1431853" y="322299"/>
                  <a:pt x="1457535" y="332455"/>
                  <a:pt x="1476260" y="351180"/>
                </a:cubicBezTo>
                <a:cubicBezTo>
                  <a:pt x="1561086" y="436008"/>
                  <a:pt x="1516433" y="399997"/>
                  <a:pt x="1608462" y="461349"/>
                </a:cubicBezTo>
                <a:cubicBezTo>
                  <a:pt x="1608463" y="461350"/>
                  <a:pt x="1674562" y="505415"/>
                  <a:pt x="1674563" y="505417"/>
                </a:cubicBezTo>
                <a:cubicBezTo>
                  <a:pt x="1685580" y="520106"/>
                  <a:pt x="1694630" y="536501"/>
                  <a:pt x="1707614" y="549484"/>
                </a:cubicBezTo>
                <a:cubicBezTo>
                  <a:pt x="1716977" y="558847"/>
                  <a:pt x="1730493" y="563041"/>
                  <a:pt x="1740665" y="571518"/>
                </a:cubicBezTo>
                <a:cubicBezTo>
                  <a:pt x="1752634" y="581492"/>
                  <a:pt x="1761886" y="594429"/>
                  <a:pt x="1773715" y="604568"/>
                </a:cubicBezTo>
                <a:cubicBezTo>
                  <a:pt x="1787656" y="616518"/>
                  <a:pt x="1803094" y="626602"/>
                  <a:pt x="1817783" y="637619"/>
                </a:cubicBezTo>
                <a:cubicBezTo>
                  <a:pt x="1825127" y="648636"/>
                  <a:pt x="1830959" y="660828"/>
                  <a:pt x="1839816" y="670670"/>
                </a:cubicBezTo>
                <a:cubicBezTo>
                  <a:pt x="1916804" y="756213"/>
                  <a:pt x="1900225" y="717882"/>
                  <a:pt x="1938968" y="780838"/>
                </a:cubicBezTo>
                <a:cubicBezTo>
                  <a:pt x="1961413" y="817311"/>
                  <a:pt x="1991526" y="850379"/>
                  <a:pt x="2005069" y="891007"/>
                </a:cubicBezTo>
                <a:cubicBezTo>
                  <a:pt x="2008741" y="902024"/>
                  <a:pt x="2012896" y="912892"/>
                  <a:pt x="2016086" y="924058"/>
                </a:cubicBezTo>
                <a:cubicBezTo>
                  <a:pt x="2020246" y="938617"/>
                  <a:pt x="2021139" y="954208"/>
                  <a:pt x="2027103" y="968125"/>
                </a:cubicBezTo>
                <a:cubicBezTo>
                  <a:pt x="2032319" y="980295"/>
                  <a:pt x="2041792" y="990159"/>
                  <a:pt x="2049137" y="1001176"/>
                </a:cubicBezTo>
                <a:cubicBezTo>
                  <a:pt x="2053386" y="1018172"/>
                  <a:pt x="2071171" y="1086341"/>
                  <a:pt x="2071171" y="1100327"/>
                </a:cubicBezTo>
                <a:cubicBezTo>
                  <a:pt x="2071171" y="1158057"/>
                  <a:pt x="2065368" y="1211478"/>
                  <a:pt x="2049137" y="1265580"/>
                </a:cubicBezTo>
                <a:cubicBezTo>
                  <a:pt x="2042463" y="1287826"/>
                  <a:pt x="2043526" y="1315259"/>
                  <a:pt x="2027103" y="1331682"/>
                </a:cubicBezTo>
                <a:cubicBezTo>
                  <a:pt x="2016086" y="1342699"/>
                  <a:pt x="2003618" y="1352434"/>
                  <a:pt x="1994053" y="1364732"/>
                </a:cubicBezTo>
                <a:cubicBezTo>
                  <a:pt x="1977795" y="1385635"/>
                  <a:pt x="1965874" y="1409648"/>
                  <a:pt x="1949985" y="1430833"/>
                </a:cubicBezTo>
                <a:cubicBezTo>
                  <a:pt x="1938968" y="1445522"/>
                  <a:pt x="1927464" y="1459859"/>
                  <a:pt x="1916934" y="1474901"/>
                </a:cubicBezTo>
                <a:cubicBezTo>
                  <a:pt x="1901748" y="1496595"/>
                  <a:pt x="1891592" y="1522277"/>
                  <a:pt x="1872867" y="1541002"/>
                </a:cubicBezTo>
                <a:cubicBezTo>
                  <a:pt x="1861850" y="1552019"/>
                  <a:pt x="1849381" y="1561755"/>
                  <a:pt x="1839816" y="1574053"/>
                </a:cubicBezTo>
                <a:cubicBezTo>
                  <a:pt x="1823558" y="1594956"/>
                  <a:pt x="1814474" y="1621429"/>
                  <a:pt x="1795749" y="1640154"/>
                </a:cubicBezTo>
                <a:cubicBezTo>
                  <a:pt x="1784732" y="1651171"/>
                  <a:pt x="1772672" y="1661236"/>
                  <a:pt x="1762698" y="1673205"/>
                </a:cubicBezTo>
                <a:cubicBezTo>
                  <a:pt x="1731420" y="1710739"/>
                  <a:pt x="1747305" y="1710632"/>
                  <a:pt x="1707614" y="1750323"/>
                </a:cubicBezTo>
                <a:cubicBezTo>
                  <a:pt x="1698251" y="1759685"/>
                  <a:pt x="1684459" y="1763559"/>
                  <a:pt x="1674563" y="1772356"/>
                </a:cubicBezTo>
                <a:cubicBezTo>
                  <a:pt x="1651273" y="1793058"/>
                  <a:pt x="1630496" y="1816424"/>
                  <a:pt x="1608462" y="1838458"/>
                </a:cubicBezTo>
                <a:cubicBezTo>
                  <a:pt x="1597445" y="1849475"/>
                  <a:pt x="1588375" y="1862866"/>
                  <a:pt x="1575412" y="1871508"/>
                </a:cubicBezTo>
                <a:cubicBezTo>
                  <a:pt x="1524545" y="1905420"/>
                  <a:pt x="1553715" y="1886730"/>
                  <a:pt x="1487277" y="1926592"/>
                </a:cubicBezTo>
                <a:cubicBezTo>
                  <a:pt x="1479932" y="1937609"/>
                  <a:pt x="1475415" y="1951166"/>
                  <a:pt x="1465243" y="1959643"/>
                </a:cubicBezTo>
                <a:cubicBezTo>
                  <a:pt x="1440553" y="1980218"/>
                  <a:pt x="1406757" y="1985282"/>
                  <a:pt x="1377108" y="1992694"/>
                </a:cubicBezTo>
                <a:cubicBezTo>
                  <a:pt x="1358747" y="2003711"/>
                  <a:pt x="1339841" y="2013866"/>
                  <a:pt x="1322024" y="2025744"/>
                </a:cubicBezTo>
                <a:cubicBezTo>
                  <a:pt x="1306746" y="2035929"/>
                  <a:pt x="1293898" y="2049685"/>
                  <a:pt x="1277956" y="2058795"/>
                </a:cubicBezTo>
                <a:cubicBezTo>
                  <a:pt x="1265662" y="2065820"/>
                  <a:pt x="1210379" y="2078444"/>
                  <a:pt x="1200838" y="2080829"/>
                </a:cubicBezTo>
                <a:cubicBezTo>
                  <a:pt x="1125074" y="2131338"/>
                  <a:pt x="1159859" y="2116522"/>
                  <a:pt x="1101686" y="2135913"/>
                </a:cubicBezTo>
                <a:cubicBezTo>
                  <a:pt x="954989" y="2233714"/>
                  <a:pt x="1172399" y="2092957"/>
                  <a:pt x="1035585" y="2168964"/>
                </a:cubicBezTo>
                <a:cubicBezTo>
                  <a:pt x="1012436" y="2181824"/>
                  <a:pt x="994606" y="2204657"/>
                  <a:pt x="969484" y="2213031"/>
                </a:cubicBezTo>
                <a:cubicBezTo>
                  <a:pt x="932402" y="2225392"/>
                  <a:pt x="930487" y="2224299"/>
                  <a:pt x="892366" y="2246082"/>
                </a:cubicBezTo>
                <a:cubicBezTo>
                  <a:pt x="880870" y="2252651"/>
                  <a:pt x="871158" y="2262194"/>
                  <a:pt x="859315" y="2268115"/>
                </a:cubicBezTo>
                <a:cubicBezTo>
                  <a:pt x="848928" y="2273308"/>
                  <a:pt x="836416" y="2273492"/>
                  <a:pt x="826265" y="2279132"/>
                </a:cubicBezTo>
                <a:cubicBezTo>
                  <a:pt x="803116" y="2291993"/>
                  <a:pt x="782197" y="2308511"/>
                  <a:pt x="760163" y="2323200"/>
                </a:cubicBezTo>
                <a:lnTo>
                  <a:pt x="727113" y="2345233"/>
                </a:lnTo>
                <a:cubicBezTo>
                  <a:pt x="716096" y="2352578"/>
                  <a:pt x="706623" y="2363080"/>
                  <a:pt x="694062" y="2367267"/>
                </a:cubicBezTo>
                <a:cubicBezTo>
                  <a:pt x="573526" y="2407447"/>
                  <a:pt x="756103" y="2343365"/>
                  <a:pt x="627961" y="2400318"/>
                </a:cubicBezTo>
                <a:cubicBezTo>
                  <a:pt x="606737" y="2409751"/>
                  <a:pt x="581185" y="2409469"/>
                  <a:pt x="561860" y="2422352"/>
                </a:cubicBezTo>
                <a:cubicBezTo>
                  <a:pt x="529549" y="2443891"/>
                  <a:pt x="532246" y="2446280"/>
                  <a:pt x="495759" y="2455402"/>
                </a:cubicBezTo>
                <a:cubicBezTo>
                  <a:pt x="430714" y="2471663"/>
                  <a:pt x="394741" y="2470595"/>
                  <a:pt x="319489" y="2477436"/>
                </a:cubicBezTo>
                <a:cubicBezTo>
                  <a:pt x="235026" y="2473764"/>
                  <a:pt x="149660" y="2479274"/>
                  <a:pt x="66101" y="2466419"/>
                </a:cubicBezTo>
                <a:cubicBezTo>
                  <a:pt x="23619" y="2459883"/>
                  <a:pt x="13540" y="2355328"/>
                  <a:pt x="11016" y="2345233"/>
                </a:cubicBezTo>
                <a:lnTo>
                  <a:pt x="0" y="2301166"/>
                </a:lnTo>
                <a:cubicBezTo>
                  <a:pt x="3672" y="2187325"/>
                  <a:pt x="4328" y="2073347"/>
                  <a:pt x="11016" y="1959643"/>
                </a:cubicBezTo>
                <a:cubicBezTo>
                  <a:pt x="11698" y="1948050"/>
                  <a:pt x="19514" y="1937928"/>
                  <a:pt x="22033" y="1926592"/>
                </a:cubicBezTo>
                <a:cubicBezTo>
                  <a:pt x="26879" y="1904786"/>
                  <a:pt x="28204" y="1882297"/>
                  <a:pt x="33050" y="1860491"/>
                </a:cubicBezTo>
                <a:cubicBezTo>
                  <a:pt x="35569" y="1849155"/>
                  <a:pt x="40877" y="1838607"/>
                  <a:pt x="44067" y="1827441"/>
                </a:cubicBezTo>
                <a:cubicBezTo>
                  <a:pt x="48227" y="1812882"/>
                  <a:pt x="51799" y="1798154"/>
                  <a:pt x="55084" y="1783373"/>
                </a:cubicBezTo>
                <a:cubicBezTo>
                  <a:pt x="95970" y="1599387"/>
                  <a:pt x="31698" y="1861330"/>
                  <a:pt x="88134" y="1673205"/>
                </a:cubicBezTo>
                <a:cubicBezTo>
                  <a:pt x="114122" y="1586575"/>
                  <a:pt x="80014" y="1646825"/>
                  <a:pt x="121185" y="1585070"/>
                </a:cubicBezTo>
                <a:cubicBezTo>
                  <a:pt x="124857" y="1563036"/>
                  <a:pt x="125138" y="1540160"/>
                  <a:pt x="132202" y="1518968"/>
                </a:cubicBezTo>
                <a:cubicBezTo>
                  <a:pt x="136389" y="1506407"/>
                  <a:pt x="149587" y="1498315"/>
                  <a:pt x="154236" y="1485918"/>
                </a:cubicBezTo>
                <a:cubicBezTo>
                  <a:pt x="160811" y="1468385"/>
                  <a:pt x="160712" y="1448999"/>
                  <a:pt x="165253" y="1430833"/>
                </a:cubicBezTo>
                <a:cubicBezTo>
                  <a:pt x="168069" y="1419567"/>
                  <a:pt x="173214" y="1408986"/>
                  <a:pt x="176269" y="1397783"/>
                </a:cubicBezTo>
                <a:cubicBezTo>
                  <a:pt x="184741" y="1366720"/>
                  <a:pt x="203449" y="1277323"/>
                  <a:pt x="220337" y="1243547"/>
                </a:cubicBezTo>
                <a:lnTo>
                  <a:pt x="242371" y="1199479"/>
                </a:lnTo>
                <a:cubicBezTo>
                  <a:pt x="246043" y="1181118"/>
                  <a:pt x="247466" y="1162159"/>
                  <a:pt x="253387" y="1144395"/>
                </a:cubicBezTo>
                <a:cubicBezTo>
                  <a:pt x="262706" y="1116439"/>
                  <a:pt x="281336" y="1091455"/>
                  <a:pt x="297455" y="1067277"/>
                </a:cubicBezTo>
                <a:cubicBezTo>
                  <a:pt x="327919" y="975884"/>
                  <a:pt x="276780" y="1119640"/>
                  <a:pt x="352539" y="968125"/>
                </a:cubicBezTo>
                <a:cubicBezTo>
                  <a:pt x="359884" y="953436"/>
                  <a:pt x="366124" y="938141"/>
                  <a:pt x="374573" y="924058"/>
                </a:cubicBezTo>
                <a:cubicBezTo>
                  <a:pt x="388198" y="901350"/>
                  <a:pt x="403951" y="879990"/>
                  <a:pt x="418640" y="857956"/>
                </a:cubicBezTo>
                <a:lnTo>
                  <a:pt x="484742" y="758805"/>
                </a:lnTo>
                <a:lnTo>
                  <a:pt x="550843" y="659653"/>
                </a:lnTo>
                <a:lnTo>
                  <a:pt x="572877" y="626602"/>
                </a:lnTo>
                <a:cubicBezTo>
                  <a:pt x="576549" y="615585"/>
                  <a:pt x="577659" y="603349"/>
                  <a:pt x="583893" y="593552"/>
                </a:cubicBezTo>
                <a:cubicBezTo>
                  <a:pt x="603609" y="562570"/>
                  <a:pt x="649995" y="505417"/>
                  <a:pt x="649995" y="505417"/>
                </a:cubicBezTo>
                <a:cubicBezTo>
                  <a:pt x="677686" y="422345"/>
                  <a:pt x="640334" y="524738"/>
                  <a:pt x="683045" y="439315"/>
                </a:cubicBezTo>
                <a:cubicBezTo>
                  <a:pt x="688238" y="428928"/>
                  <a:pt x="687620" y="415927"/>
                  <a:pt x="694062" y="406265"/>
                </a:cubicBezTo>
                <a:cubicBezTo>
                  <a:pt x="742789" y="333176"/>
                  <a:pt x="713106" y="412246"/>
                  <a:pt x="749146" y="340164"/>
                </a:cubicBezTo>
                <a:cubicBezTo>
                  <a:pt x="754339" y="329777"/>
                  <a:pt x="754523" y="317265"/>
                  <a:pt x="760163" y="307113"/>
                </a:cubicBezTo>
                <a:cubicBezTo>
                  <a:pt x="773024" y="283964"/>
                  <a:pt x="789542" y="263046"/>
                  <a:pt x="804231" y="241012"/>
                </a:cubicBezTo>
                <a:cubicBezTo>
                  <a:pt x="825226" y="209519"/>
                  <a:pt x="860024" y="152641"/>
                  <a:pt x="892366" y="141860"/>
                </a:cubicBezTo>
                <a:lnTo>
                  <a:pt x="925416" y="130843"/>
                </a:lnTo>
                <a:cubicBezTo>
                  <a:pt x="1029150" y="27109"/>
                  <a:pt x="862802" y="183603"/>
                  <a:pt x="1024568" y="75759"/>
                </a:cubicBezTo>
                <a:cubicBezTo>
                  <a:pt x="1119289" y="12612"/>
                  <a:pt x="999445" y="88321"/>
                  <a:pt x="1090669" y="42708"/>
                </a:cubicBezTo>
                <a:cubicBezTo>
                  <a:pt x="1176084" y="0"/>
                  <a:pt x="1073707" y="37344"/>
                  <a:pt x="1156771" y="9658"/>
                </a:cubicBezTo>
                <a:lnTo>
                  <a:pt x="1178804" y="75759"/>
                </a:lnTo>
                <a:lnTo>
                  <a:pt x="1178804" y="75759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フリーフォーム 24"/>
          <p:cNvSpPr/>
          <p:nvPr/>
        </p:nvSpPr>
        <p:spPr>
          <a:xfrm>
            <a:off x="2435400" y="101520"/>
            <a:ext cx="4235400" cy="3130560"/>
          </a:xfrm>
          <a:custGeom>
            <a:avLst/>
            <a:gdLst/>
            <a:ahLst/>
            <a:rect l="l" t="t" r="r" b="b"/>
            <a:pathLst>
              <a:path w="4236110" h="3130051">
                <a:moveTo>
                  <a:pt x="132202" y="2212082"/>
                </a:moveTo>
                <a:cubicBezTo>
                  <a:pt x="98779" y="2111817"/>
                  <a:pt x="150043" y="2270158"/>
                  <a:pt x="110168" y="2123947"/>
                </a:cubicBezTo>
                <a:cubicBezTo>
                  <a:pt x="104057" y="2101540"/>
                  <a:pt x="101018" y="2077171"/>
                  <a:pt x="88135" y="2057846"/>
                </a:cubicBezTo>
                <a:cubicBezTo>
                  <a:pt x="59659" y="2015133"/>
                  <a:pt x="70288" y="2037356"/>
                  <a:pt x="55084" y="1991745"/>
                </a:cubicBezTo>
                <a:cubicBezTo>
                  <a:pt x="51412" y="1907282"/>
                  <a:pt x="53758" y="1822342"/>
                  <a:pt x="44067" y="1738357"/>
                </a:cubicBezTo>
                <a:cubicBezTo>
                  <a:pt x="42549" y="1725203"/>
                  <a:pt x="27411" y="1717406"/>
                  <a:pt x="22033" y="1705306"/>
                </a:cubicBezTo>
                <a:cubicBezTo>
                  <a:pt x="12600" y="1684082"/>
                  <a:pt x="0" y="1639205"/>
                  <a:pt x="0" y="1639205"/>
                </a:cubicBezTo>
                <a:cubicBezTo>
                  <a:pt x="3672" y="1606154"/>
                  <a:pt x="5550" y="1572855"/>
                  <a:pt x="11017" y="1540053"/>
                </a:cubicBezTo>
                <a:cubicBezTo>
                  <a:pt x="12926" y="1528598"/>
                  <a:pt x="19514" y="1518339"/>
                  <a:pt x="22033" y="1507003"/>
                </a:cubicBezTo>
                <a:cubicBezTo>
                  <a:pt x="26879" y="1485197"/>
                  <a:pt x="29378" y="1462935"/>
                  <a:pt x="33050" y="1440901"/>
                </a:cubicBezTo>
                <a:cubicBezTo>
                  <a:pt x="36722" y="1158135"/>
                  <a:pt x="33852" y="875208"/>
                  <a:pt x="44067" y="592603"/>
                </a:cubicBezTo>
                <a:cubicBezTo>
                  <a:pt x="44826" y="571609"/>
                  <a:pt x="74430" y="504362"/>
                  <a:pt x="88135" y="482434"/>
                </a:cubicBezTo>
                <a:cubicBezTo>
                  <a:pt x="97866" y="466864"/>
                  <a:pt x="111454" y="453937"/>
                  <a:pt x="121185" y="438367"/>
                </a:cubicBezTo>
                <a:cubicBezTo>
                  <a:pt x="150162" y="392003"/>
                  <a:pt x="142009" y="373475"/>
                  <a:pt x="187286" y="328198"/>
                </a:cubicBezTo>
                <a:cubicBezTo>
                  <a:pt x="198303" y="317181"/>
                  <a:pt x="210363" y="307116"/>
                  <a:pt x="220337" y="295147"/>
                </a:cubicBezTo>
                <a:cubicBezTo>
                  <a:pt x="253601" y="255231"/>
                  <a:pt x="247260" y="226600"/>
                  <a:pt x="308472" y="195995"/>
                </a:cubicBezTo>
                <a:cubicBezTo>
                  <a:pt x="323161" y="188651"/>
                  <a:pt x="338280" y="182110"/>
                  <a:pt x="352539" y="173962"/>
                </a:cubicBezTo>
                <a:cubicBezTo>
                  <a:pt x="364035" y="167393"/>
                  <a:pt x="373490" y="157306"/>
                  <a:pt x="385590" y="151928"/>
                </a:cubicBezTo>
                <a:cubicBezTo>
                  <a:pt x="406814" y="142495"/>
                  <a:pt x="429657" y="137239"/>
                  <a:pt x="451691" y="129894"/>
                </a:cubicBezTo>
                <a:lnTo>
                  <a:pt x="484742" y="118877"/>
                </a:lnTo>
                <a:cubicBezTo>
                  <a:pt x="513574" y="109266"/>
                  <a:pt x="541851" y="98321"/>
                  <a:pt x="572877" y="96844"/>
                </a:cubicBezTo>
                <a:cubicBezTo>
                  <a:pt x="708647" y="90379"/>
                  <a:pt x="844626" y="89499"/>
                  <a:pt x="980501" y="85827"/>
                </a:cubicBezTo>
                <a:cubicBezTo>
                  <a:pt x="1105032" y="60920"/>
                  <a:pt x="951552" y="89963"/>
                  <a:pt x="1134737" y="63793"/>
                </a:cubicBezTo>
                <a:cubicBezTo>
                  <a:pt x="1153274" y="61145"/>
                  <a:pt x="1171314" y="55623"/>
                  <a:pt x="1189821" y="52776"/>
                </a:cubicBezTo>
                <a:cubicBezTo>
                  <a:pt x="1219084" y="48274"/>
                  <a:pt x="1248752" y="46626"/>
                  <a:pt x="1277956" y="41759"/>
                </a:cubicBezTo>
                <a:cubicBezTo>
                  <a:pt x="1528518" y="0"/>
                  <a:pt x="1262926" y="35376"/>
                  <a:pt x="1476260" y="8709"/>
                </a:cubicBezTo>
                <a:lnTo>
                  <a:pt x="2236424" y="19726"/>
                </a:lnTo>
                <a:cubicBezTo>
                  <a:pt x="2255142" y="20232"/>
                  <a:pt x="2272867" y="28967"/>
                  <a:pt x="2291508" y="30742"/>
                </a:cubicBezTo>
                <a:cubicBezTo>
                  <a:pt x="2400669" y="41138"/>
                  <a:pt x="2656811" y="49320"/>
                  <a:pt x="2743200" y="52776"/>
                </a:cubicBezTo>
                <a:cubicBezTo>
                  <a:pt x="3023313" y="40597"/>
                  <a:pt x="3020834" y="34215"/>
                  <a:pt x="3327094" y="52776"/>
                </a:cubicBezTo>
                <a:cubicBezTo>
                  <a:pt x="3338685" y="53479"/>
                  <a:pt x="3348757" y="61516"/>
                  <a:pt x="3360144" y="63793"/>
                </a:cubicBezTo>
                <a:cubicBezTo>
                  <a:pt x="3403952" y="72555"/>
                  <a:pt x="3492347" y="85827"/>
                  <a:pt x="3492347" y="85827"/>
                </a:cubicBezTo>
                <a:lnTo>
                  <a:pt x="3591499" y="118877"/>
                </a:lnTo>
                <a:cubicBezTo>
                  <a:pt x="3602516" y="122549"/>
                  <a:pt x="3614162" y="124701"/>
                  <a:pt x="3624549" y="129894"/>
                </a:cubicBezTo>
                <a:cubicBezTo>
                  <a:pt x="3639238" y="137239"/>
                  <a:pt x="3653522" y="145459"/>
                  <a:pt x="3668617" y="151928"/>
                </a:cubicBezTo>
                <a:cubicBezTo>
                  <a:pt x="3750057" y="186832"/>
                  <a:pt x="3638944" y="121130"/>
                  <a:pt x="3767768" y="207012"/>
                </a:cubicBezTo>
                <a:cubicBezTo>
                  <a:pt x="3778785" y="214357"/>
                  <a:pt x="3791456" y="219683"/>
                  <a:pt x="3800819" y="229046"/>
                </a:cubicBezTo>
                <a:cubicBezTo>
                  <a:pt x="3811836" y="240063"/>
                  <a:pt x="3824305" y="249799"/>
                  <a:pt x="3833870" y="262097"/>
                </a:cubicBezTo>
                <a:cubicBezTo>
                  <a:pt x="3850128" y="283000"/>
                  <a:pt x="3859212" y="309473"/>
                  <a:pt x="3877937" y="328198"/>
                </a:cubicBezTo>
                <a:cubicBezTo>
                  <a:pt x="3888954" y="339215"/>
                  <a:pt x="3901423" y="348950"/>
                  <a:pt x="3910988" y="361248"/>
                </a:cubicBezTo>
                <a:cubicBezTo>
                  <a:pt x="3927246" y="382151"/>
                  <a:pt x="3936330" y="408625"/>
                  <a:pt x="3955055" y="427350"/>
                </a:cubicBezTo>
                <a:cubicBezTo>
                  <a:pt x="3966072" y="438367"/>
                  <a:pt x="3978132" y="448431"/>
                  <a:pt x="3988106" y="460400"/>
                </a:cubicBezTo>
                <a:cubicBezTo>
                  <a:pt x="3996582" y="470572"/>
                  <a:pt x="4000777" y="484088"/>
                  <a:pt x="4010139" y="493451"/>
                </a:cubicBezTo>
                <a:cubicBezTo>
                  <a:pt x="4019502" y="502814"/>
                  <a:pt x="4032173" y="508140"/>
                  <a:pt x="4043190" y="515485"/>
                </a:cubicBezTo>
                <a:cubicBezTo>
                  <a:pt x="4064260" y="578694"/>
                  <a:pt x="4039118" y="519692"/>
                  <a:pt x="4087258" y="581586"/>
                </a:cubicBezTo>
                <a:cubicBezTo>
                  <a:pt x="4103516" y="602489"/>
                  <a:pt x="4116636" y="625653"/>
                  <a:pt x="4131325" y="647687"/>
                </a:cubicBezTo>
                <a:cubicBezTo>
                  <a:pt x="4138670" y="658704"/>
                  <a:pt x="4149172" y="668177"/>
                  <a:pt x="4153359" y="680738"/>
                </a:cubicBezTo>
                <a:cubicBezTo>
                  <a:pt x="4157031" y="691755"/>
                  <a:pt x="4159802" y="703114"/>
                  <a:pt x="4164376" y="713788"/>
                </a:cubicBezTo>
                <a:cubicBezTo>
                  <a:pt x="4170845" y="728883"/>
                  <a:pt x="4180643" y="742479"/>
                  <a:pt x="4186409" y="757856"/>
                </a:cubicBezTo>
                <a:cubicBezTo>
                  <a:pt x="4191725" y="772033"/>
                  <a:pt x="4193266" y="787364"/>
                  <a:pt x="4197426" y="801923"/>
                </a:cubicBezTo>
                <a:cubicBezTo>
                  <a:pt x="4200616" y="813089"/>
                  <a:pt x="4205253" y="823808"/>
                  <a:pt x="4208443" y="834974"/>
                </a:cubicBezTo>
                <a:cubicBezTo>
                  <a:pt x="4236110" y="931808"/>
                  <a:pt x="4204062" y="832847"/>
                  <a:pt x="4230477" y="912092"/>
                </a:cubicBezTo>
                <a:cubicBezTo>
                  <a:pt x="4226426" y="1029557"/>
                  <a:pt x="4228696" y="1199090"/>
                  <a:pt x="4208443" y="1330733"/>
                </a:cubicBezTo>
                <a:cubicBezTo>
                  <a:pt x="4206141" y="1345698"/>
                  <a:pt x="4201098" y="1360111"/>
                  <a:pt x="4197426" y="1374800"/>
                </a:cubicBezTo>
                <a:cubicBezTo>
                  <a:pt x="4188964" y="1442492"/>
                  <a:pt x="4185530" y="1474153"/>
                  <a:pt x="4175392" y="1540053"/>
                </a:cubicBezTo>
                <a:cubicBezTo>
                  <a:pt x="4171996" y="1562131"/>
                  <a:pt x="4169222" y="1584348"/>
                  <a:pt x="4164376" y="1606154"/>
                </a:cubicBezTo>
                <a:cubicBezTo>
                  <a:pt x="4161857" y="1617490"/>
                  <a:pt x="4156549" y="1628039"/>
                  <a:pt x="4153359" y="1639205"/>
                </a:cubicBezTo>
                <a:cubicBezTo>
                  <a:pt x="4149199" y="1653764"/>
                  <a:pt x="4145627" y="1668492"/>
                  <a:pt x="4142342" y="1683273"/>
                </a:cubicBezTo>
                <a:cubicBezTo>
                  <a:pt x="4138280" y="1701552"/>
                  <a:pt x="4136252" y="1720292"/>
                  <a:pt x="4131325" y="1738357"/>
                </a:cubicBezTo>
                <a:cubicBezTo>
                  <a:pt x="4125214" y="1760764"/>
                  <a:pt x="4114924" y="1781926"/>
                  <a:pt x="4109291" y="1804458"/>
                </a:cubicBezTo>
                <a:cubicBezTo>
                  <a:pt x="4105619" y="1819147"/>
                  <a:pt x="4102625" y="1834023"/>
                  <a:pt x="4098274" y="1848526"/>
                </a:cubicBezTo>
                <a:cubicBezTo>
                  <a:pt x="4091600" y="1870772"/>
                  <a:pt x="4083585" y="1892593"/>
                  <a:pt x="4076241" y="1914627"/>
                </a:cubicBezTo>
                <a:lnTo>
                  <a:pt x="4065224" y="1947677"/>
                </a:lnTo>
                <a:cubicBezTo>
                  <a:pt x="4058366" y="2002542"/>
                  <a:pt x="4048877" y="2095869"/>
                  <a:pt x="4032173" y="2145981"/>
                </a:cubicBezTo>
                <a:cubicBezTo>
                  <a:pt x="4013859" y="2200923"/>
                  <a:pt x="4010225" y="2206189"/>
                  <a:pt x="3999123" y="2256150"/>
                </a:cubicBezTo>
                <a:cubicBezTo>
                  <a:pt x="3995061" y="2274429"/>
                  <a:pt x="3992648" y="2293068"/>
                  <a:pt x="3988106" y="2311234"/>
                </a:cubicBezTo>
                <a:cubicBezTo>
                  <a:pt x="3985289" y="2322500"/>
                  <a:pt x="3979608" y="2332949"/>
                  <a:pt x="3977089" y="2344285"/>
                </a:cubicBezTo>
                <a:cubicBezTo>
                  <a:pt x="3951238" y="2460615"/>
                  <a:pt x="3979855" y="2369037"/>
                  <a:pt x="3955055" y="2443436"/>
                </a:cubicBezTo>
                <a:cubicBezTo>
                  <a:pt x="3947710" y="2487504"/>
                  <a:pt x="3947148" y="2533256"/>
                  <a:pt x="3933021" y="2575639"/>
                </a:cubicBezTo>
                <a:cubicBezTo>
                  <a:pt x="3929349" y="2586656"/>
                  <a:pt x="3924616" y="2597374"/>
                  <a:pt x="3922005" y="2608689"/>
                </a:cubicBezTo>
                <a:cubicBezTo>
                  <a:pt x="3913584" y="2645180"/>
                  <a:pt x="3911814" y="2683330"/>
                  <a:pt x="3899971" y="2718858"/>
                </a:cubicBezTo>
                <a:lnTo>
                  <a:pt x="3877937" y="2784959"/>
                </a:lnTo>
                <a:cubicBezTo>
                  <a:pt x="3874265" y="2795976"/>
                  <a:pt x="3869737" y="2806744"/>
                  <a:pt x="3866920" y="2818010"/>
                </a:cubicBezTo>
                <a:cubicBezTo>
                  <a:pt x="3863248" y="2832699"/>
                  <a:pt x="3860254" y="2847574"/>
                  <a:pt x="3855903" y="2862077"/>
                </a:cubicBezTo>
                <a:cubicBezTo>
                  <a:pt x="3855884" y="2862140"/>
                  <a:pt x="3828372" y="2944672"/>
                  <a:pt x="3822853" y="2961229"/>
                </a:cubicBezTo>
                <a:lnTo>
                  <a:pt x="3800819" y="3027330"/>
                </a:lnTo>
                <a:cubicBezTo>
                  <a:pt x="3797147" y="3038347"/>
                  <a:pt x="3796244" y="3050718"/>
                  <a:pt x="3789802" y="3060381"/>
                </a:cubicBezTo>
                <a:lnTo>
                  <a:pt x="3767768" y="3093432"/>
                </a:lnTo>
                <a:cubicBezTo>
                  <a:pt x="3764096" y="3104449"/>
                  <a:pt x="3768359" y="3126141"/>
                  <a:pt x="3756752" y="3126482"/>
                </a:cubicBezTo>
                <a:cubicBezTo>
                  <a:pt x="3635396" y="3130051"/>
                  <a:pt x="3514498" y="3109502"/>
                  <a:pt x="3393195" y="3104448"/>
                </a:cubicBezTo>
                <a:lnTo>
                  <a:pt x="3128790" y="3093432"/>
                </a:lnTo>
                <a:cubicBezTo>
                  <a:pt x="3066327" y="3090385"/>
                  <a:pt x="3003932" y="3086087"/>
                  <a:pt x="2941503" y="3082415"/>
                </a:cubicBezTo>
                <a:cubicBezTo>
                  <a:pt x="2915797" y="3078743"/>
                  <a:pt x="2890193" y="3074266"/>
                  <a:pt x="2864385" y="3071398"/>
                </a:cubicBezTo>
                <a:cubicBezTo>
                  <a:pt x="2824072" y="3066919"/>
                  <a:pt x="2783448" y="3065412"/>
                  <a:pt x="2743200" y="3060381"/>
                </a:cubicBezTo>
                <a:cubicBezTo>
                  <a:pt x="2724619" y="3058058"/>
                  <a:pt x="2706696" y="3051687"/>
                  <a:pt x="2688115" y="3049364"/>
                </a:cubicBezTo>
                <a:cubicBezTo>
                  <a:pt x="2647867" y="3044333"/>
                  <a:pt x="2607325" y="3042019"/>
                  <a:pt x="2566930" y="3038347"/>
                </a:cubicBezTo>
                <a:cubicBezTo>
                  <a:pt x="2548568" y="3034675"/>
                  <a:pt x="2530353" y="3030177"/>
                  <a:pt x="2511845" y="3027330"/>
                </a:cubicBezTo>
                <a:cubicBezTo>
                  <a:pt x="2416850" y="3012715"/>
                  <a:pt x="2320554" y="3007873"/>
                  <a:pt x="2225407" y="2994280"/>
                </a:cubicBezTo>
                <a:cubicBezTo>
                  <a:pt x="2075491" y="2972863"/>
                  <a:pt x="2174224" y="2984560"/>
                  <a:pt x="1927952" y="2972246"/>
                </a:cubicBezTo>
                <a:cubicBezTo>
                  <a:pt x="1830680" y="2956034"/>
                  <a:pt x="1838740" y="2955255"/>
                  <a:pt x="1707614" y="2950212"/>
                </a:cubicBezTo>
                <a:cubicBezTo>
                  <a:pt x="1663579" y="2948518"/>
                  <a:pt x="1619479" y="2950212"/>
                  <a:pt x="1575412" y="295021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フリーフォーム 25"/>
          <p:cNvSpPr/>
          <p:nvPr/>
        </p:nvSpPr>
        <p:spPr>
          <a:xfrm>
            <a:off x="2852640" y="3227400"/>
            <a:ext cx="3360960" cy="2270160"/>
          </a:xfrm>
          <a:custGeom>
            <a:avLst/>
            <a:gdLst/>
            <a:ahLst/>
            <a:rect l="l" t="t" r="r" b="b"/>
            <a:pathLst>
              <a:path w="3360611" h="2269475">
                <a:moveTo>
                  <a:pt x="3338578" y="0"/>
                </a:moveTo>
                <a:cubicBezTo>
                  <a:pt x="3347137" y="171196"/>
                  <a:pt x="3360611" y="413137"/>
                  <a:pt x="3360611" y="572877"/>
                </a:cubicBezTo>
                <a:cubicBezTo>
                  <a:pt x="3360611" y="789573"/>
                  <a:pt x="3356580" y="1006289"/>
                  <a:pt x="3349594" y="1222872"/>
                </a:cubicBezTo>
                <a:cubicBezTo>
                  <a:pt x="3349220" y="1234479"/>
                  <a:pt x="3341768" y="1244757"/>
                  <a:pt x="3338578" y="1255923"/>
                </a:cubicBezTo>
                <a:cubicBezTo>
                  <a:pt x="3334419" y="1270482"/>
                  <a:pt x="3331721" y="1285432"/>
                  <a:pt x="3327561" y="1299991"/>
                </a:cubicBezTo>
                <a:cubicBezTo>
                  <a:pt x="3324371" y="1311157"/>
                  <a:pt x="3319734" y="1321875"/>
                  <a:pt x="3316544" y="1333041"/>
                </a:cubicBezTo>
                <a:cubicBezTo>
                  <a:pt x="3312384" y="1347600"/>
                  <a:pt x="3309687" y="1362550"/>
                  <a:pt x="3305527" y="1377109"/>
                </a:cubicBezTo>
                <a:cubicBezTo>
                  <a:pt x="3302337" y="1388275"/>
                  <a:pt x="3297700" y="1398993"/>
                  <a:pt x="3294510" y="1410159"/>
                </a:cubicBezTo>
                <a:cubicBezTo>
                  <a:pt x="3290350" y="1424718"/>
                  <a:pt x="3291005" y="1441081"/>
                  <a:pt x="3283493" y="1454227"/>
                </a:cubicBezTo>
                <a:cubicBezTo>
                  <a:pt x="3275763" y="1467754"/>
                  <a:pt x="3260417" y="1475308"/>
                  <a:pt x="3250443" y="1487277"/>
                </a:cubicBezTo>
                <a:cubicBezTo>
                  <a:pt x="3241966" y="1497449"/>
                  <a:pt x="3234978" y="1508832"/>
                  <a:pt x="3228409" y="1520328"/>
                </a:cubicBezTo>
                <a:cubicBezTo>
                  <a:pt x="3194003" y="1580538"/>
                  <a:pt x="3225240" y="1551818"/>
                  <a:pt x="3173325" y="1586429"/>
                </a:cubicBezTo>
                <a:cubicBezTo>
                  <a:pt x="3165980" y="1597446"/>
                  <a:pt x="3161256" y="1610761"/>
                  <a:pt x="3151291" y="1619480"/>
                </a:cubicBezTo>
                <a:cubicBezTo>
                  <a:pt x="3104668" y="1660275"/>
                  <a:pt x="3097533" y="1659433"/>
                  <a:pt x="3052139" y="1674564"/>
                </a:cubicBezTo>
                <a:cubicBezTo>
                  <a:pt x="2993717" y="1732986"/>
                  <a:pt x="3047526" y="1686145"/>
                  <a:pt x="2975021" y="1729648"/>
                </a:cubicBezTo>
                <a:cubicBezTo>
                  <a:pt x="2952313" y="1743273"/>
                  <a:pt x="2934042" y="1765342"/>
                  <a:pt x="2908920" y="1773716"/>
                </a:cubicBezTo>
                <a:cubicBezTo>
                  <a:pt x="2897903" y="1777388"/>
                  <a:pt x="2886256" y="1779540"/>
                  <a:pt x="2875869" y="1784733"/>
                </a:cubicBezTo>
                <a:cubicBezTo>
                  <a:pt x="2864026" y="1790654"/>
                  <a:pt x="2854917" y="1801389"/>
                  <a:pt x="2842818" y="1806766"/>
                </a:cubicBezTo>
                <a:cubicBezTo>
                  <a:pt x="2821594" y="1816199"/>
                  <a:pt x="2776717" y="1828800"/>
                  <a:pt x="2776717" y="1828800"/>
                </a:cubicBezTo>
                <a:cubicBezTo>
                  <a:pt x="2693744" y="1884117"/>
                  <a:pt x="2799196" y="1819166"/>
                  <a:pt x="2699599" y="1861851"/>
                </a:cubicBezTo>
                <a:cubicBezTo>
                  <a:pt x="2593092" y="1907497"/>
                  <a:pt x="2748990" y="1863277"/>
                  <a:pt x="2622481" y="1894901"/>
                </a:cubicBezTo>
                <a:cubicBezTo>
                  <a:pt x="2490667" y="1960810"/>
                  <a:pt x="2678026" y="1868653"/>
                  <a:pt x="2523329" y="1938969"/>
                </a:cubicBezTo>
                <a:cubicBezTo>
                  <a:pt x="2500903" y="1949163"/>
                  <a:pt x="2479967" y="1962544"/>
                  <a:pt x="2457228" y="1972019"/>
                </a:cubicBezTo>
                <a:cubicBezTo>
                  <a:pt x="2435789" y="1980952"/>
                  <a:pt x="2410452" y="1981170"/>
                  <a:pt x="2391127" y="1994053"/>
                </a:cubicBezTo>
                <a:cubicBezTo>
                  <a:pt x="2342496" y="2026474"/>
                  <a:pt x="2371060" y="2013490"/>
                  <a:pt x="2302992" y="2027104"/>
                </a:cubicBezTo>
                <a:cubicBezTo>
                  <a:pt x="2154774" y="2101215"/>
                  <a:pt x="2374685" y="1996088"/>
                  <a:pt x="2203840" y="2060154"/>
                </a:cubicBezTo>
                <a:cubicBezTo>
                  <a:pt x="2191442" y="2064803"/>
                  <a:pt x="2182960" y="2076972"/>
                  <a:pt x="2170790" y="2082188"/>
                </a:cubicBezTo>
                <a:cubicBezTo>
                  <a:pt x="2156873" y="2088153"/>
                  <a:pt x="2141411" y="2089533"/>
                  <a:pt x="2126722" y="2093205"/>
                </a:cubicBezTo>
                <a:cubicBezTo>
                  <a:pt x="2081129" y="2116002"/>
                  <a:pt x="2071015" y="2123656"/>
                  <a:pt x="2016553" y="2137272"/>
                </a:cubicBezTo>
                <a:cubicBezTo>
                  <a:pt x="2001864" y="2140944"/>
                  <a:pt x="1986663" y="2142973"/>
                  <a:pt x="1972486" y="2148289"/>
                </a:cubicBezTo>
                <a:cubicBezTo>
                  <a:pt x="1957109" y="2154056"/>
                  <a:pt x="1943998" y="2165129"/>
                  <a:pt x="1928418" y="2170323"/>
                </a:cubicBezTo>
                <a:cubicBezTo>
                  <a:pt x="1910654" y="2176244"/>
                  <a:pt x="1891579" y="2177129"/>
                  <a:pt x="1873334" y="2181340"/>
                </a:cubicBezTo>
                <a:cubicBezTo>
                  <a:pt x="1843827" y="2188149"/>
                  <a:pt x="1814893" y="2197435"/>
                  <a:pt x="1785199" y="2203374"/>
                </a:cubicBezTo>
                <a:cubicBezTo>
                  <a:pt x="1766838" y="2207046"/>
                  <a:pt x="1748360" y="2210181"/>
                  <a:pt x="1730115" y="2214391"/>
                </a:cubicBezTo>
                <a:cubicBezTo>
                  <a:pt x="1700608" y="2221200"/>
                  <a:pt x="1671358" y="2229080"/>
                  <a:pt x="1641980" y="2236424"/>
                </a:cubicBezTo>
                <a:cubicBezTo>
                  <a:pt x="1608284" y="2244848"/>
                  <a:pt x="1565577" y="2256770"/>
                  <a:pt x="1531811" y="2258458"/>
                </a:cubicBezTo>
                <a:cubicBezTo>
                  <a:pt x="1407055" y="2264696"/>
                  <a:pt x="1282096" y="2265803"/>
                  <a:pt x="1157238" y="2269475"/>
                </a:cubicBezTo>
                <a:lnTo>
                  <a:pt x="727580" y="2258458"/>
                </a:lnTo>
                <a:cubicBezTo>
                  <a:pt x="701029" y="2257304"/>
                  <a:pt x="626093" y="2243512"/>
                  <a:pt x="595378" y="2236424"/>
                </a:cubicBezTo>
                <a:cubicBezTo>
                  <a:pt x="565871" y="2229615"/>
                  <a:pt x="507243" y="2214391"/>
                  <a:pt x="507243" y="2214391"/>
                </a:cubicBezTo>
                <a:cubicBezTo>
                  <a:pt x="480301" y="2200920"/>
                  <a:pt x="459302" y="2187824"/>
                  <a:pt x="430125" y="2181340"/>
                </a:cubicBezTo>
                <a:cubicBezTo>
                  <a:pt x="408319" y="2176494"/>
                  <a:pt x="386057" y="2173995"/>
                  <a:pt x="364023" y="2170323"/>
                </a:cubicBezTo>
                <a:cubicBezTo>
                  <a:pt x="341989" y="2162978"/>
                  <a:pt x="320454" y="2153922"/>
                  <a:pt x="297922" y="2148289"/>
                </a:cubicBezTo>
                <a:cubicBezTo>
                  <a:pt x="283233" y="2144617"/>
                  <a:pt x="267913" y="2142895"/>
                  <a:pt x="253855" y="2137272"/>
                </a:cubicBezTo>
                <a:cubicBezTo>
                  <a:pt x="87798" y="2070850"/>
                  <a:pt x="255608" y="2132641"/>
                  <a:pt x="154703" y="2082188"/>
                </a:cubicBezTo>
                <a:cubicBezTo>
                  <a:pt x="46892" y="2028282"/>
                  <a:pt x="143143" y="2089170"/>
                  <a:pt x="66568" y="2038121"/>
                </a:cubicBezTo>
                <a:cubicBezTo>
                  <a:pt x="0" y="1938270"/>
                  <a:pt x="24897" y="1998392"/>
                  <a:pt x="11484" y="1850834"/>
                </a:cubicBezTo>
                <a:cubicBezTo>
                  <a:pt x="15156" y="1711287"/>
                  <a:pt x="15860" y="1571630"/>
                  <a:pt x="22500" y="1432193"/>
                </a:cubicBezTo>
                <a:cubicBezTo>
                  <a:pt x="23220" y="1417069"/>
                  <a:pt x="32260" y="1403214"/>
                  <a:pt x="33517" y="1388125"/>
                </a:cubicBezTo>
                <a:cubicBezTo>
                  <a:pt x="65533" y="1003942"/>
                  <a:pt x="27177" y="1289284"/>
                  <a:pt x="55551" y="1090670"/>
                </a:cubicBezTo>
                <a:cubicBezTo>
                  <a:pt x="42962" y="826303"/>
                  <a:pt x="44534" y="936521"/>
                  <a:pt x="44534" y="76016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フリーフォーム 26"/>
          <p:cNvSpPr/>
          <p:nvPr/>
        </p:nvSpPr>
        <p:spPr>
          <a:xfrm>
            <a:off x="2919240" y="5475240"/>
            <a:ext cx="528840" cy="903240"/>
          </a:xfrm>
          <a:custGeom>
            <a:avLst/>
            <a:gdLst/>
            <a:ahLst/>
            <a:rect l="l" t="t" r="r" b="b"/>
            <a:pathLst>
              <a:path w="528810" h="903383">
                <a:moveTo>
                  <a:pt x="528810" y="0"/>
                </a:moveTo>
                <a:cubicBezTo>
                  <a:pt x="525138" y="124858"/>
                  <a:pt x="524535" y="249844"/>
                  <a:pt x="517793" y="374574"/>
                </a:cubicBezTo>
                <a:cubicBezTo>
                  <a:pt x="517166" y="386170"/>
                  <a:pt x="508685" y="396169"/>
                  <a:pt x="506776" y="407624"/>
                </a:cubicBezTo>
                <a:cubicBezTo>
                  <a:pt x="501309" y="440426"/>
                  <a:pt x="498770" y="473659"/>
                  <a:pt x="495759" y="506776"/>
                </a:cubicBezTo>
                <a:cubicBezTo>
                  <a:pt x="491424" y="554460"/>
                  <a:pt x="489754" y="602377"/>
                  <a:pt x="484742" y="649995"/>
                </a:cubicBezTo>
                <a:cubicBezTo>
                  <a:pt x="482404" y="672210"/>
                  <a:pt x="488435" y="699286"/>
                  <a:pt x="473725" y="716097"/>
                </a:cubicBezTo>
                <a:cubicBezTo>
                  <a:pt x="458431" y="733576"/>
                  <a:pt x="426949" y="725247"/>
                  <a:pt x="407624" y="738130"/>
                </a:cubicBezTo>
                <a:lnTo>
                  <a:pt x="308472" y="804231"/>
                </a:lnTo>
                <a:cubicBezTo>
                  <a:pt x="297455" y="811575"/>
                  <a:pt x="287983" y="822078"/>
                  <a:pt x="275422" y="826265"/>
                </a:cubicBezTo>
                <a:lnTo>
                  <a:pt x="143219" y="870333"/>
                </a:lnTo>
                <a:lnTo>
                  <a:pt x="77118" y="892366"/>
                </a:lnTo>
                <a:cubicBezTo>
                  <a:pt x="66101" y="896038"/>
                  <a:pt x="55680" y="903383"/>
                  <a:pt x="44067" y="903383"/>
                </a:cubicBezTo>
                <a:lnTo>
                  <a:pt x="0" y="90338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フリーフォーム 27"/>
          <p:cNvSpPr/>
          <p:nvPr/>
        </p:nvSpPr>
        <p:spPr>
          <a:xfrm>
            <a:off x="2886120" y="6167520"/>
            <a:ext cx="517320" cy="23760"/>
          </a:xfrm>
          <a:custGeom>
            <a:avLst/>
            <a:gdLst/>
            <a:ahLst/>
            <a:rect l="l" t="t" r="r" b="b"/>
            <a:pathLst>
              <a:path w="517793" h="24621">
                <a:moveTo>
                  <a:pt x="517793" y="24621"/>
                </a:moveTo>
                <a:cubicBezTo>
                  <a:pt x="445869" y="646"/>
                  <a:pt x="469311" y="5491"/>
                  <a:pt x="341523" y="2587"/>
                </a:cubicBezTo>
                <a:cubicBezTo>
                  <a:pt x="227711" y="0"/>
                  <a:pt x="113841" y="2587"/>
                  <a:pt x="0" y="258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フリーフォーム 28"/>
          <p:cNvSpPr/>
          <p:nvPr/>
        </p:nvSpPr>
        <p:spPr>
          <a:xfrm>
            <a:off x="2986200" y="6224760"/>
            <a:ext cx="396720" cy="365040"/>
          </a:xfrm>
          <a:custGeom>
            <a:avLst/>
            <a:gdLst/>
            <a:ahLst/>
            <a:rect l="l" t="t" r="r" b="b"/>
            <a:pathLst>
              <a:path w="396607" h="364718">
                <a:moveTo>
                  <a:pt x="396607" y="0"/>
                </a:moveTo>
                <a:lnTo>
                  <a:pt x="330506" y="44068"/>
                </a:lnTo>
                <a:cubicBezTo>
                  <a:pt x="319489" y="51412"/>
                  <a:pt x="306818" y="56739"/>
                  <a:pt x="297456" y="66101"/>
                </a:cubicBezTo>
                <a:cubicBezTo>
                  <a:pt x="275422" y="88135"/>
                  <a:pt x="257281" y="114918"/>
                  <a:pt x="231354" y="132203"/>
                </a:cubicBezTo>
                <a:cubicBezTo>
                  <a:pt x="220337" y="139547"/>
                  <a:pt x="208476" y="145760"/>
                  <a:pt x="198304" y="154236"/>
                </a:cubicBezTo>
                <a:cubicBezTo>
                  <a:pt x="113916" y="224559"/>
                  <a:pt x="214093" y="146305"/>
                  <a:pt x="143219" y="231354"/>
                </a:cubicBezTo>
                <a:cubicBezTo>
                  <a:pt x="134743" y="241526"/>
                  <a:pt x="121186" y="246043"/>
                  <a:pt x="110169" y="253388"/>
                </a:cubicBezTo>
                <a:cubicBezTo>
                  <a:pt x="102824" y="264405"/>
                  <a:pt x="96612" y="276267"/>
                  <a:pt x="88135" y="286439"/>
                </a:cubicBezTo>
                <a:cubicBezTo>
                  <a:pt x="78161" y="298408"/>
                  <a:pt x="63726" y="306525"/>
                  <a:pt x="55084" y="319489"/>
                </a:cubicBezTo>
                <a:cubicBezTo>
                  <a:pt x="48642" y="329151"/>
                  <a:pt x="52279" y="344328"/>
                  <a:pt x="44068" y="352540"/>
                </a:cubicBezTo>
                <a:cubicBezTo>
                  <a:pt x="31890" y="364718"/>
                  <a:pt x="14928" y="363557"/>
                  <a:pt x="0" y="36355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フリーフォーム 29"/>
          <p:cNvSpPr/>
          <p:nvPr/>
        </p:nvSpPr>
        <p:spPr>
          <a:xfrm>
            <a:off x="5265720" y="5200560"/>
            <a:ext cx="363600" cy="1189080"/>
          </a:xfrm>
          <a:custGeom>
            <a:avLst/>
            <a:gdLst/>
            <a:ahLst/>
            <a:rect l="l" t="t" r="r" b="b"/>
            <a:pathLst>
              <a:path w="363556" h="1189822">
                <a:moveTo>
                  <a:pt x="110168" y="0"/>
                </a:moveTo>
                <a:cubicBezTo>
                  <a:pt x="152252" y="63127"/>
                  <a:pt x="134694" y="21638"/>
                  <a:pt x="121185" y="143220"/>
                </a:cubicBezTo>
                <a:cubicBezTo>
                  <a:pt x="115833" y="191391"/>
                  <a:pt x="110923" y="239349"/>
                  <a:pt x="99151" y="286439"/>
                </a:cubicBezTo>
                <a:cubicBezTo>
                  <a:pt x="96335" y="297705"/>
                  <a:pt x="90951" y="308224"/>
                  <a:pt x="88135" y="319490"/>
                </a:cubicBezTo>
                <a:cubicBezTo>
                  <a:pt x="65425" y="410335"/>
                  <a:pt x="88714" y="339497"/>
                  <a:pt x="66101" y="418641"/>
                </a:cubicBezTo>
                <a:cubicBezTo>
                  <a:pt x="62911" y="429807"/>
                  <a:pt x="57901" y="440426"/>
                  <a:pt x="55084" y="451692"/>
                </a:cubicBezTo>
                <a:cubicBezTo>
                  <a:pt x="41053" y="507816"/>
                  <a:pt x="39906" y="544228"/>
                  <a:pt x="33050" y="605928"/>
                </a:cubicBezTo>
                <a:cubicBezTo>
                  <a:pt x="29378" y="712424"/>
                  <a:pt x="28112" y="819031"/>
                  <a:pt x="22033" y="925417"/>
                </a:cubicBezTo>
                <a:cubicBezTo>
                  <a:pt x="20759" y="947718"/>
                  <a:pt x="14414" y="969441"/>
                  <a:pt x="11017" y="991519"/>
                </a:cubicBezTo>
                <a:cubicBezTo>
                  <a:pt x="7069" y="1017184"/>
                  <a:pt x="3672" y="1042931"/>
                  <a:pt x="0" y="1068637"/>
                </a:cubicBezTo>
                <a:cubicBezTo>
                  <a:pt x="3672" y="1083326"/>
                  <a:pt x="1558" y="1100881"/>
                  <a:pt x="11017" y="1112704"/>
                </a:cubicBezTo>
                <a:cubicBezTo>
                  <a:pt x="18271" y="1121772"/>
                  <a:pt x="32731" y="1121202"/>
                  <a:pt x="44067" y="1123721"/>
                </a:cubicBezTo>
                <a:cubicBezTo>
                  <a:pt x="65873" y="1128567"/>
                  <a:pt x="88191" y="1130742"/>
                  <a:pt x="110168" y="1134738"/>
                </a:cubicBezTo>
                <a:cubicBezTo>
                  <a:pt x="128591" y="1138088"/>
                  <a:pt x="146813" y="1142501"/>
                  <a:pt x="165253" y="1145755"/>
                </a:cubicBezTo>
                <a:lnTo>
                  <a:pt x="297455" y="1167788"/>
                </a:lnTo>
                <a:lnTo>
                  <a:pt x="363556" y="1189822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フリーフォーム 30"/>
          <p:cNvSpPr/>
          <p:nvPr/>
        </p:nvSpPr>
        <p:spPr>
          <a:xfrm>
            <a:off x="5251320" y="6284880"/>
            <a:ext cx="411120" cy="27000"/>
          </a:xfrm>
          <a:custGeom>
            <a:avLst/>
            <a:gdLst/>
            <a:ahLst/>
            <a:rect l="l" t="t" r="r" b="b"/>
            <a:pathLst>
              <a:path w="411326" h="27299">
                <a:moveTo>
                  <a:pt x="14719" y="27299"/>
                </a:moveTo>
                <a:cubicBezTo>
                  <a:pt x="96614" y="0"/>
                  <a:pt x="0" y="27299"/>
                  <a:pt x="168955" y="27299"/>
                </a:cubicBezTo>
                <a:cubicBezTo>
                  <a:pt x="224162" y="27299"/>
                  <a:pt x="279124" y="19954"/>
                  <a:pt x="334208" y="16282"/>
                </a:cubicBezTo>
                <a:cubicBezTo>
                  <a:pt x="388963" y="2593"/>
                  <a:pt x="363134" y="5265"/>
                  <a:pt x="411326" y="526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フリーフォーム 31"/>
          <p:cNvSpPr/>
          <p:nvPr/>
        </p:nvSpPr>
        <p:spPr>
          <a:xfrm>
            <a:off x="5254560" y="6323040"/>
            <a:ext cx="243000" cy="264960"/>
          </a:xfrm>
          <a:custGeom>
            <a:avLst/>
            <a:gdLst/>
            <a:ahLst/>
            <a:rect l="l" t="t" r="r" b="b"/>
            <a:pathLst>
              <a:path w="242371" h="264405">
                <a:moveTo>
                  <a:pt x="0" y="0"/>
                </a:moveTo>
                <a:cubicBezTo>
                  <a:pt x="11017" y="3672"/>
                  <a:pt x="22663" y="5824"/>
                  <a:pt x="33050" y="11017"/>
                </a:cubicBezTo>
                <a:cubicBezTo>
                  <a:pt x="69039" y="29012"/>
                  <a:pt x="96947" y="59490"/>
                  <a:pt x="110168" y="99152"/>
                </a:cubicBezTo>
                <a:lnTo>
                  <a:pt x="132202" y="165253"/>
                </a:lnTo>
                <a:cubicBezTo>
                  <a:pt x="135874" y="176270"/>
                  <a:pt x="133556" y="191862"/>
                  <a:pt x="143219" y="198304"/>
                </a:cubicBezTo>
                <a:lnTo>
                  <a:pt x="209320" y="242371"/>
                </a:lnTo>
                <a:lnTo>
                  <a:pt x="242371" y="264405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フリーフォーム 32"/>
          <p:cNvSpPr/>
          <p:nvPr/>
        </p:nvSpPr>
        <p:spPr>
          <a:xfrm>
            <a:off x="2897280" y="3579840"/>
            <a:ext cx="3313080" cy="741240"/>
          </a:xfrm>
          <a:custGeom>
            <a:avLst/>
            <a:gdLst/>
            <a:ahLst/>
            <a:rect l="l" t="t" r="r" b="b"/>
            <a:pathLst>
              <a:path w="3313225" h="741350">
                <a:moveTo>
                  <a:pt x="3283027" y="33051"/>
                </a:moveTo>
                <a:cubicBezTo>
                  <a:pt x="3156723" y="7790"/>
                  <a:pt x="3313225" y="37697"/>
                  <a:pt x="3139807" y="11017"/>
                </a:cubicBezTo>
                <a:cubicBezTo>
                  <a:pt x="3121300" y="8170"/>
                  <a:pt x="3103084" y="3672"/>
                  <a:pt x="3084723" y="0"/>
                </a:cubicBezTo>
                <a:cubicBezTo>
                  <a:pt x="3066362" y="3672"/>
                  <a:pt x="3045219" y="630"/>
                  <a:pt x="3029639" y="11017"/>
                </a:cubicBezTo>
                <a:cubicBezTo>
                  <a:pt x="3019977" y="17458"/>
                  <a:pt x="3019421" y="32482"/>
                  <a:pt x="3018622" y="44067"/>
                </a:cubicBezTo>
                <a:cubicBezTo>
                  <a:pt x="3012048" y="139391"/>
                  <a:pt x="3014751" y="235223"/>
                  <a:pt x="3007605" y="330506"/>
                </a:cubicBezTo>
                <a:cubicBezTo>
                  <a:pt x="3003721" y="382295"/>
                  <a:pt x="2992916" y="433330"/>
                  <a:pt x="2985571" y="484742"/>
                </a:cubicBezTo>
                <a:lnTo>
                  <a:pt x="2732183" y="473725"/>
                </a:lnTo>
                <a:cubicBezTo>
                  <a:pt x="2717360" y="470637"/>
                  <a:pt x="2725517" y="444161"/>
                  <a:pt x="2721166" y="429658"/>
                </a:cubicBezTo>
                <a:cubicBezTo>
                  <a:pt x="2680936" y="295555"/>
                  <a:pt x="2713508" y="421057"/>
                  <a:pt x="2688116" y="319489"/>
                </a:cubicBezTo>
                <a:cubicBezTo>
                  <a:pt x="2674762" y="119179"/>
                  <a:pt x="2731604" y="170616"/>
                  <a:pt x="2622015" y="143219"/>
                </a:cubicBezTo>
                <a:cubicBezTo>
                  <a:pt x="2610749" y="140402"/>
                  <a:pt x="2599981" y="135874"/>
                  <a:pt x="2588964" y="132202"/>
                </a:cubicBezTo>
                <a:cubicBezTo>
                  <a:pt x="2515518" y="135874"/>
                  <a:pt x="2439335" y="123016"/>
                  <a:pt x="2368627" y="143219"/>
                </a:cubicBezTo>
                <a:cubicBezTo>
                  <a:pt x="2350622" y="148363"/>
                  <a:pt x="2361672" y="180025"/>
                  <a:pt x="2357610" y="198304"/>
                </a:cubicBezTo>
                <a:cubicBezTo>
                  <a:pt x="2344843" y="255757"/>
                  <a:pt x="2343672" y="239658"/>
                  <a:pt x="2335576" y="308472"/>
                </a:cubicBezTo>
                <a:cubicBezTo>
                  <a:pt x="2322363" y="420785"/>
                  <a:pt x="2319578" y="524296"/>
                  <a:pt x="2313542" y="638978"/>
                </a:cubicBezTo>
                <a:cubicBezTo>
                  <a:pt x="1896433" y="617025"/>
                  <a:pt x="2248027" y="705099"/>
                  <a:pt x="2082188" y="220337"/>
                </a:cubicBezTo>
                <a:cubicBezTo>
                  <a:pt x="2069059" y="181959"/>
                  <a:pt x="2001287" y="214059"/>
                  <a:pt x="1961003" y="209320"/>
                </a:cubicBezTo>
                <a:cubicBezTo>
                  <a:pt x="1938818" y="206710"/>
                  <a:pt x="1916935" y="201976"/>
                  <a:pt x="1894901" y="198304"/>
                </a:cubicBezTo>
                <a:lnTo>
                  <a:pt x="1652530" y="209320"/>
                </a:lnTo>
                <a:cubicBezTo>
                  <a:pt x="1637734" y="212536"/>
                  <a:pt x="1646829" y="239211"/>
                  <a:pt x="1641513" y="253388"/>
                </a:cubicBezTo>
                <a:cubicBezTo>
                  <a:pt x="1635747" y="268765"/>
                  <a:pt x="1625949" y="282360"/>
                  <a:pt x="1619480" y="297455"/>
                </a:cubicBezTo>
                <a:cubicBezTo>
                  <a:pt x="1608159" y="323870"/>
                  <a:pt x="1605433" y="346620"/>
                  <a:pt x="1597446" y="374573"/>
                </a:cubicBezTo>
                <a:cubicBezTo>
                  <a:pt x="1594256" y="385739"/>
                  <a:pt x="1590101" y="396607"/>
                  <a:pt x="1586429" y="407624"/>
                </a:cubicBezTo>
                <a:cubicBezTo>
                  <a:pt x="1582757" y="459036"/>
                  <a:pt x="1579877" y="510511"/>
                  <a:pt x="1575412" y="561860"/>
                </a:cubicBezTo>
                <a:cubicBezTo>
                  <a:pt x="1572531" y="594989"/>
                  <a:pt x="1595271" y="648662"/>
                  <a:pt x="1564395" y="661012"/>
                </a:cubicBezTo>
                <a:cubicBezTo>
                  <a:pt x="1499522" y="686961"/>
                  <a:pt x="1424848" y="653667"/>
                  <a:pt x="1355075" y="649995"/>
                </a:cubicBezTo>
                <a:cubicBezTo>
                  <a:pt x="1358747" y="506776"/>
                  <a:pt x="1366092" y="363603"/>
                  <a:pt x="1366092" y="220337"/>
                </a:cubicBezTo>
                <a:cubicBezTo>
                  <a:pt x="1366092" y="208724"/>
                  <a:pt x="1366500" y="189364"/>
                  <a:pt x="1355075" y="187287"/>
                </a:cubicBezTo>
                <a:cubicBezTo>
                  <a:pt x="1318764" y="180685"/>
                  <a:pt x="1281629" y="194632"/>
                  <a:pt x="1244906" y="198304"/>
                </a:cubicBezTo>
                <a:cubicBezTo>
                  <a:pt x="1190463" y="361631"/>
                  <a:pt x="1228143" y="227960"/>
                  <a:pt x="1211856" y="561860"/>
                </a:cubicBezTo>
                <a:cubicBezTo>
                  <a:pt x="1209345" y="613342"/>
                  <a:pt x="1204511" y="664684"/>
                  <a:pt x="1200839" y="716096"/>
                </a:cubicBezTo>
                <a:lnTo>
                  <a:pt x="1145754" y="705079"/>
                </a:lnTo>
                <a:cubicBezTo>
                  <a:pt x="919949" y="664025"/>
                  <a:pt x="1081802" y="741350"/>
                  <a:pt x="1057619" y="209320"/>
                </a:cubicBezTo>
                <a:cubicBezTo>
                  <a:pt x="984173" y="212992"/>
                  <a:pt x="907358" y="198040"/>
                  <a:pt x="837282" y="220337"/>
                </a:cubicBezTo>
                <a:cubicBezTo>
                  <a:pt x="815150" y="227379"/>
                  <a:pt x="828131" y="267113"/>
                  <a:pt x="815248" y="286438"/>
                </a:cubicBezTo>
                <a:lnTo>
                  <a:pt x="793215" y="319489"/>
                </a:lnTo>
                <a:cubicBezTo>
                  <a:pt x="745336" y="511002"/>
                  <a:pt x="772225" y="377359"/>
                  <a:pt x="760164" y="727113"/>
                </a:cubicBezTo>
                <a:cubicBezTo>
                  <a:pt x="701160" y="722574"/>
                  <a:pt x="583017" y="715113"/>
                  <a:pt x="517793" y="705079"/>
                </a:cubicBezTo>
                <a:cubicBezTo>
                  <a:pt x="420254" y="690074"/>
                  <a:pt x="535354" y="686785"/>
                  <a:pt x="374574" y="683046"/>
                </a:cubicBezTo>
                <a:cubicBezTo>
                  <a:pt x="249750" y="680143"/>
                  <a:pt x="124858" y="683046"/>
                  <a:pt x="0" y="683046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0:29:19Z</dcterms:created>
  <dc:creator>m2111139</dc:creator>
  <dc:description/>
  <dc:language>en-US</dc:language>
  <cp:lastModifiedBy>m2111139</cp:lastModifiedBy>
  <dcterms:modified xsi:type="dcterms:W3CDTF">2011-12-05T00:56:13Z</dcterms:modified>
  <cp:revision>3</cp:revision>
  <dc:subject/>
  <dc:title>キョロちゃん</dc:title>
</cp:coreProperties>
</file>