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8999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9BCB-66C2-43DE-93E1-028865D2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099880"/>
            <a:ext cx="6172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" y="5202720"/>
            <a:ext cx="6172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07A7-493B-488D-88BD-7DD6409C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09988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5320" y="209988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520272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05320" y="520272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E763-1839-4D72-B175-579C9BEF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099880"/>
            <a:ext cx="1987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9640" y="2099880"/>
            <a:ext cx="1987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16560" y="2099880"/>
            <a:ext cx="1987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720" y="5202720"/>
            <a:ext cx="1987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9640" y="5202720"/>
            <a:ext cx="1987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516560" y="5202720"/>
            <a:ext cx="1987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9942-747F-48C5-9AAE-93B5AF89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720" y="2099880"/>
            <a:ext cx="61722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D827-32A8-4D94-A4BF-294842E7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099880"/>
            <a:ext cx="617220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1EAD-A66F-499D-8B20-9CFD5DDF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099880"/>
            <a:ext cx="301176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099880"/>
            <a:ext cx="301176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1465-4E86-4818-B5C7-77C1ACEA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3706-98AA-4D88-9BA1-7E6D7CE3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2720" y="361800"/>
            <a:ext cx="6172200" cy="695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B307-63EC-40B4-AD15-47918D46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09988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099880"/>
            <a:ext cx="301176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720" y="520272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716B-CF75-45F5-81AA-54B52973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099880"/>
            <a:ext cx="301176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09988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05320" y="520272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1D4D-448E-437C-B75E-7D317FF4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09988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2099880"/>
            <a:ext cx="301176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202720"/>
            <a:ext cx="61722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4BAD-C1E7-4A52-8AF0-11244D16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099880"/>
            <a:ext cx="617220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196120"/>
            <a:ext cx="160020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4280" y="7796160"/>
            <a:ext cx="217188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16280" y="8540280"/>
            <a:ext cx="262872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ABA8-795A-4476-BF44-ABA0A25DE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143000" y="3000240"/>
            <a:ext cx="457200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692280" y="708120"/>
          <a:ext cx="5581440" cy="767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708120"/>
                    <a:ext cx="5581440" cy="767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508560" y="86821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61800"/>
            <a:ext cx="61722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　　　　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20:27:33Z</dcterms:created>
  <dc:creator>Alpine</dc:creator>
  <dc:description/>
  <dc:language>en-US</dc:language>
  <cp:lastModifiedBy>jism</cp:lastModifiedBy>
  <dcterms:modified xsi:type="dcterms:W3CDTF">2006-10-31T17:04:17Z</dcterms:modified>
  <cp:revision>2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12561937</vt:r8>
  </property>
  <property fmtid="{D5CDD505-2E9C-101B-9397-08002B2CF9AE}" pid="3" name="_AuthorEmail">
    <vt:lpwstr>yos@jism.de</vt:lpwstr>
  </property>
  <property fmtid="{D5CDD505-2E9C-101B-9397-08002B2CF9AE}" pid="4" name="_AuthorEmailDisplayName">
    <vt:lpwstr>yos</vt:lpwstr>
  </property>
  <property fmtid="{D5CDD505-2E9C-101B-9397-08002B2CF9AE}" pid="5" name="_EmailSubject">
    <vt:lpwstr>SUC 規約、各申請書送付及び、ホームページへの貼り付け依頼</vt:lpwstr>
  </property>
  <property fmtid="{D5CDD505-2E9C-101B-9397-08002B2CF9AE}" pid="6" name="_ReviewingToolsShownOnce">
    <vt:lpwstr/>
  </property>
</Properties>
</file>