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748-0FD9-4D62-AD48-35AF7776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20272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FFF-4642-4DC6-A929-65E8FC30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343-537D-4EAA-AC0B-B334E940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B87-62E1-408D-9318-E0950CBC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CD3-E532-41BB-98D6-B78D102E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7DC-3EAE-4E65-9C50-FBBF5C65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941-50CA-4A8D-A8EA-B72C8E34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46B-7AA5-462C-B970-5C17FAFF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1800"/>
            <a:ext cx="6172200" cy="69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F77-282E-4A5A-9859-62A0BC89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63B-38AD-4159-BB19-E81580F0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10D-AC48-4293-AF3D-AF7488B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816-3EFD-4F00-A2DC-FF78E0A7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196120"/>
            <a:ext cx="16002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4280" y="7796160"/>
            <a:ext cx="217188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16280" y="8540280"/>
            <a:ext cx="2628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18EF-FD24-4154-A1B1-896794437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143000" y="3000240"/>
            <a:ext cx="45720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92280" y="708120"/>
          <a:ext cx="5581440" cy="76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8120"/>
                    <a:ext cx="5581440" cy="76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08560" y="8682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27:33Z</dcterms:created>
  <dc:creator>Alpine</dc:creator>
  <dc:description/>
  <dc:language>en-US</dc:language>
  <cp:lastModifiedBy>jism</cp:lastModifiedBy>
  <dcterms:modified xsi:type="dcterms:W3CDTF">2006-10-31T17:04:17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12561937</vt:r8>
  </property>
  <property fmtid="{D5CDD505-2E9C-101B-9397-08002B2CF9AE}" pid="3" name="_AuthorEmail">
    <vt:lpwstr>yos@jism.de</vt:lpwstr>
  </property>
  <property fmtid="{D5CDD505-2E9C-101B-9397-08002B2CF9AE}" pid="4" name="_AuthorEmailDisplayName">
    <vt:lpwstr>yos</vt:lpwstr>
  </property>
  <property fmtid="{D5CDD505-2E9C-101B-9397-08002B2CF9AE}" pid="5" name="_EmailSubject">
    <vt:lpwstr>SUC 規約、各申請書送付及び、ホームページへの貼り付け依頼</vt:lpwstr>
  </property>
  <property fmtid="{D5CDD505-2E9C-101B-9397-08002B2CF9AE}" pid="6" name="_ReviewingToolsShownOnce">
    <vt:lpwstr/>
  </property>
</Properties>
</file>