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31A-7942-484C-A47A-A4A5D484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20272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7D7-9DF2-44B0-A24A-1508A91C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A58-82FC-4ADE-A349-F5B585C9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4F6-A5BC-455E-9820-256E7BBB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F38-3433-4B1E-A647-A5E71F71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306D-5175-41FD-B931-AA7139DF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241-C49F-4C57-9C1E-FF5D543A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9552-FF3C-448E-860D-B0AB7EED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1800"/>
            <a:ext cx="6172200" cy="69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DF2-A28E-4D07-9DDF-5D379D1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B8B-1E23-418E-8E0A-5EA4CC97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7E33-F3FA-4613-A73D-6DBF8A1C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27A-BB8E-4349-B6CD-ABA4210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196120"/>
            <a:ext cx="16002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4280" y="7796160"/>
            <a:ext cx="217188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16280" y="8540280"/>
            <a:ext cx="2628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7A78-33B8-4CC5-91D2-BAC932A5C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143000" y="3000240"/>
            <a:ext cx="45720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16280" y="223920"/>
            <a:ext cx="22683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Claim she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( example</a:t>
            </a:r>
            <a:r>
              <a:rPr b="1" lang="zh-CN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記入例 </a:t>
            </a:r>
            <a:r>
              <a:rPr b="1" lang="en-US" sz="14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10200" y="65160"/>
            <a:ext cx="2206440" cy="779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バス利用者は以下の欄にご記入下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下表赤字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Date 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日付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、 ③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Bus number 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バス番号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②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Name 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氏名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)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、④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Matter (</a:t>
            </a:r>
            <a:r>
              <a:rPr b="0" lang="zh-CN" sz="800" spc="-1" strike="noStrike">
                <a:solidFill>
                  <a:srgbClr val="000000"/>
                </a:solidFill>
                <a:latin typeface="ＭＳ Ｐゴシック"/>
                <a:ea typeface="Times New Roman"/>
              </a:rPr>
              <a:t>クレーム内容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52760" y="2855880"/>
            <a:ext cx="3543120" cy="17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《典型的記入例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（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分）遅延 　　　　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20 min. de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チャイルドシートなし  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no child seat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シートベルトなし　　　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no seat bel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バス標識なし　　　　　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no bus sign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身分証明書なし　　　  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no certification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・小型タクシー　　　　　：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by small tax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6360" y="920880"/>
          <a:ext cx="5761080" cy="7669080"/>
        </p:xfrm>
        <a:graphic>
          <a:graphicData uri="http://schemas.openxmlformats.org/drawingml/2006/table">
            <a:tbl>
              <a:tblPr/>
              <a:tblGrid>
                <a:gridCol w="1620720"/>
                <a:gridCol w="2610000"/>
                <a:gridCol w="1530360"/>
              </a:tblGrid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Date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1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09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日付  （日・月・年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Name: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Kenji Miyam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氏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Bus number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9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バス番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1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8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Matter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　　　　　　　　　　　　　　　　　　　　　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user)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クレーム内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               　　　　　　　　　　　　　　　　　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バス利用者記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遅延、チャイルドシート、通学バス標識、身分証明書の有無など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This morning, 25min. del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今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分遅れました。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ＭＳ Ｐゴシック"/>
                          <a:ea typeface="Times New Roman"/>
                        </a:rPr>
                        <a:t>We didn’t hear from Johanniter about the del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ヨハニータからその遅延についての連絡をもらいませんでした。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6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From Die Johanniter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date  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4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Die Johanni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ヨハニータの対応　　　　　　　　　　　　　　　　　　　　  　　　 ヨハニータ記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ヨハニータからの対応、状況説明など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We called you, but couldn’t rea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電話をかけましたが、連絡が取れませんでした。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Transaction / request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date  1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9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4) 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　　　　　　　　　　　　　　　　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SU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クレーム処理　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リクエスト　　　　　　　　　　　　　　　　　　　　　　　　　　　　　　　　　　　　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SUC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記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実際の対応とヨハニータへのリクエスト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 Children came to school by bus, and 5 children by Tax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児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名はバスで登校し、児童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名はタクシーで登校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Result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date   1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・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04)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　　　　　　　　　　　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SU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結果　　　　　　　　　　　　　　　　　　　　　　　　　　　　　　　　　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SUC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記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当該ルートの支払いの有無など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We don’t pay to Die Johanniter for JIS9 (the way to the school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JI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９往路分の支払不可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577800" y="8516160"/>
            <a:ext cx="428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"/>
              <a:buChar char="※"/>
              <a:tabLst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Please fill in the form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"/>
                <a:ea typeface="ＭＳ ゴシック"/>
              </a:rPr>
              <a:t>in English</a:t>
            </a:r>
            <a:r>
              <a:rPr b="0" lang="en-US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!  </a:t>
            </a:r>
            <a:r>
              <a:rPr b="0" lang="zh-CN" sz="1200" spc="-1" strike="noStrike">
                <a:solidFill>
                  <a:srgbClr val="000000"/>
                </a:solidFill>
                <a:latin typeface="Century"/>
                <a:ea typeface="ＭＳ ゴシック"/>
              </a:rPr>
              <a:t>英語でご記入下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19360" y="230040"/>
            <a:ext cx="1116000" cy="28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76360" y="1833480"/>
            <a:ext cx="576900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2480" y="514044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2480" y="6472080"/>
            <a:ext cx="57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2200" y="7796160"/>
            <a:ext cx="574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37280" y="8731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27:33Z</dcterms:created>
  <dc:creator>Alpine</dc:creator>
  <dc:description/>
  <dc:language>en-US</dc:language>
  <cp:lastModifiedBy>jism</cp:lastModifiedBy>
  <dcterms:modified xsi:type="dcterms:W3CDTF">2006-10-31T17:04:46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12561937</vt:r8>
  </property>
  <property fmtid="{D5CDD505-2E9C-101B-9397-08002B2CF9AE}" pid="3" name="_AuthorEmail">
    <vt:lpwstr>yos@jism.de</vt:lpwstr>
  </property>
  <property fmtid="{D5CDD505-2E9C-101B-9397-08002B2CF9AE}" pid="4" name="_AuthorEmailDisplayName">
    <vt:lpwstr>yos</vt:lpwstr>
  </property>
  <property fmtid="{D5CDD505-2E9C-101B-9397-08002B2CF9AE}" pid="5" name="_EmailSubject">
    <vt:lpwstr>SUC 規約、各申請書送付及び、ホームページへの貼り付け依頼</vt:lpwstr>
  </property>
  <property fmtid="{D5CDD505-2E9C-101B-9397-08002B2CF9AE}" pid="6" name="_ReviewingToolsShownOnce">
    <vt:lpwstr/>
  </property>
</Properties>
</file>