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120-1CBB-483B-867C-E813050A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20272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3F9-D318-43FB-AE5D-76BB7786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0E1-5B5E-472C-913B-A7D29A15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822-F13A-44D0-BE77-CA6E9F45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D2C-DB85-4941-A5A0-C1C70538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F1E-8DBB-436F-819F-D86317D5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725-6037-43C0-94CF-9DDA4E4B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35B-997A-4DA5-8989-443E8E08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61800"/>
            <a:ext cx="6172200" cy="69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DA2-D2A8-4278-9B11-42974ABF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57C-5C24-439D-AD0D-9848FB47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472-D93B-46D7-8C86-A7BE600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567-E04E-49A9-AEEF-23CF3A58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196120"/>
            <a:ext cx="16002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4280" y="7796160"/>
            <a:ext cx="217188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16280" y="8540280"/>
            <a:ext cx="2628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3E80-E5A2-4B1E-AB8E-187427BF4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143000" y="3000240"/>
            <a:ext cx="45720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16280" y="223920"/>
            <a:ext cx="22683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Claim she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( example</a:t>
            </a:r>
            <a:r>
              <a:rPr b="1" lang="zh-CN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記入例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0200" y="65160"/>
            <a:ext cx="2206440" cy="77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バス利用者は以下の欄にご記入下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下表赤字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Date (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日付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、 ③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Bus number (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バス番号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②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Name (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氏名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、④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Matter (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クレーム内容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52760" y="2855880"/>
            <a:ext cx="3543120" cy="17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《典型的記入例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（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分）遅延 　　　　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20 min. de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チャイルドシートなし  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no child seat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シートベルトなし　　　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no seat bel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バス標識なし　　　　　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no bus sign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身分証明書なし　　　  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no certification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小型タクシー　　　　　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by small ta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76360" y="920880"/>
          <a:ext cx="5761080" cy="7669080"/>
        </p:xfrm>
        <a:graphic>
          <a:graphicData uri="http://schemas.openxmlformats.org/drawingml/2006/table">
            <a:tbl>
              <a:tblPr/>
              <a:tblGrid>
                <a:gridCol w="1620720"/>
                <a:gridCol w="2610000"/>
                <a:gridCol w="1530360"/>
              </a:tblGrid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Date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1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09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日付  （日・月・年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Name: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Kenji Miyam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氏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Bus number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9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バス番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1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Matte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　　　　　　　　　　　　　　　　　　　　　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user)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クレーム内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               　　　　　　　　　　　　　　　　　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バス利用者記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遅延、チャイルドシート、通学バス標識、身分証明書の有無など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This morning, 25min. del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今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分遅れました。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We didn’t hear from Johanniter about the del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ヨハニータからその遅延についての連絡をもらいませんでした。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6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From Die Johanniter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date  1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4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Die Johanni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ヨハニータの対応　　　　　　　　　　　　　　　　　　　　  　　　 ヨハニータ記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ヨハニータからの対応、状況説明など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We called you, but couldn’t reac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電話をかけましたが、連絡が取れませんでした。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Transaction / reques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date  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4)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　　　　　　　　　　　　　　　　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SU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クレーム処理　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リクエスト　　　　　　　　　　　　　　　　　　　　　　　　　　　　　　　　　　　　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SUC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記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実際の対応とヨハニータへのリクエスト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 Children came to school by bus, and 5 children by Tax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児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名はバスで登校し、児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名はタクシーで登校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Resul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date   1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4)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　　　　　　　　　　　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SU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結果　　　　　　　　　　　　　　　　　　　　　　　　　　　　　　　　　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SUC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記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当該ルートの支払いの有無など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We don’t pay to Die Johanniter for JIS9 (the way to the school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J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９往路分の支払不可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577800" y="8516160"/>
            <a:ext cx="428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※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Please fill in the form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"/>
                <a:ea typeface="ＭＳ ゴシック"/>
              </a:rPr>
              <a:t>in English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! 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英語でご記入下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19360" y="230040"/>
            <a:ext cx="1116000" cy="2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76360" y="1833480"/>
            <a:ext cx="5769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2480" y="5140440"/>
            <a:ext cx="57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2480" y="6472080"/>
            <a:ext cx="57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2200" y="7796160"/>
            <a:ext cx="574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37280" y="8731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27:33Z</dcterms:created>
  <dc:creator>Alpine</dc:creator>
  <dc:description/>
  <dc:language>en-US</dc:language>
  <cp:lastModifiedBy>jism</cp:lastModifiedBy>
  <dcterms:modified xsi:type="dcterms:W3CDTF">2006-10-31T17:04:46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12561937</vt:r8>
  </property>
  <property fmtid="{D5CDD505-2E9C-101B-9397-08002B2CF9AE}" pid="3" name="_AuthorEmail">
    <vt:lpwstr>yos@jism.de</vt:lpwstr>
  </property>
  <property fmtid="{D5CDD505-2E9C-101B-9397-08002B2CF9AE}" pid="4" name="_AuthorEmailDisplayName">
    <vt:lpwstr>yos</vt:lpwstr>
  </property>
  <property fmtid="{D5CDD505-2E9C-101B-9397-08002B2CF9AE}" pid="5" name="_EmailSubject">
    <vt:lpwstr>SUC 規約、各申請書送付及び、ホームページへの貼り付け依頼</vt:lpwstr>
  </property>
  <property fmtid="{D5CDD505-2E9C-101B-9397-08002B2CF9AE}" pid="6" name="_ReviewingToolsShownOnce">
    <vt:lpwstr/>
  </property>
</Properties>
</file>