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9023-02AF-484C-A915-BC7382FD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B92-0D99-4345-B887-79A72B1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054-6AA9-475C-BAA1-46716311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1756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9740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1756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9740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B5B4-A41A-4033-A37A-47C1F792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C8B8-A508-492C-8BA1-6D4001DE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0D6D-DA3B-47B6-A461-283B33F8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F36B-07E0-4D4A-8D51-C413CA44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D659-79D0-4278-ADAD-162BF850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52B1-C067-4AFA-8471-CD41D22A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439200"/>
            <a:ext cx="7925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410E-96BF-4EFC-A8B5-83365EB3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861D-C3DE-4461-936D-9DBA8ADF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2303-2E98-47DF-B3B8-5CA37693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0977-197D-4AB1-B85F-F3EBA2A2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8FF-C32C-4B07-80BD-4F4C2D1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80ED-7143-483C-A0F9-418CF35D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30FF-17F9-4A48-A49B-1EC79E27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51756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97400" y="160020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51756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97400" y="3948480"/>
            <a:ext cx="2551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0B0F-94EF-457B-AD85-1C40EE41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16F-2071-4403-A1CA-CF08D4E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4433-E3B7-4AAB-9733-23113C3A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9118-6B9E-419B-B251-E1599902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439200"/>
            <a:ext cx="792504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D2F-DB4E-4358-8DC8-A615FD61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F73-DB62-44B3-A9EC-7A281C82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98880" y="394848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81DA-9E8E-4157-AD74-2502FF94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8880" y="1600200"/>
            <a:ext cx="3867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948480"/>
            <a:ext cx="792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E1C-DC67-401F-B3AB-1139B35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371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3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676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828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1981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133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286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438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2590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2743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2895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3048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3200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352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505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657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809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3962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14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4267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419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4572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724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4876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5029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5181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5334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5486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638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5791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943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095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248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00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29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46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18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39080" y="9360"/>
            <a:ext cx="7632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991720" y="9360"/>
            <a:ext cx="7596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0"/>
            <a:ext cx="84628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95280"/>
            <a:ext cx="6950160" cy="7488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6F97-38D9-4BF4-8A12-09E74D319A21}" type="slidenum">
              <a:rPr b="0" lang="ja-JP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215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A614-9319-4439-AA74-EB6D8002193D}" type="slidenum">
              <a:rPr b="0" lang="ja-JP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400" y="1886400"/>
            <a:ext cx="7678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3366"/>
                </a:solidFill>
                <a:latin typeface="Verdana"/>
              </a:rPr>
              <a:t>看護における</a:t>
            </a:r>
            <a:r>
              <a:rPr b="0" lang="ja-JP" sz="36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3600" spc="-1" strike="noStrike">
                <a:solidFill>
                  <a:srgbClr val="003366"/>
                </a:solidFill>
                <a:latin typeface="Verdana"/>
              </a:rPr>
              <a:t>の可能性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聖路加看護大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中山和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これは第１１回兵庫県立大学看護学部国際セミナー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004.9.18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で「看護教育における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ICT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の活用」という講演をしたときの資料で、タイトルだけ変更したものです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ブレンデッドラーニングが理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315200" cy="216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191120" cy="2925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09480" y="1295280"/>
            <a:ext cx="4038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対面授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シミュレーション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CB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B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協調学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遠隔講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図書・情報・各種メディア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データベー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の提供３システム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教材作成　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CAI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CBT→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　　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ンテンツ作成　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音声 ビデ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アニメーション・・・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マルチメディ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LMS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Learning Management System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）</a:t>
            </a:r>
            <a:br>
              <a:rPr sz="2800"/>
            </a:b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＋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Database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ース作成・管理　受講者登録・管理　アクセス記録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進捗･成績管理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掲示板・チャット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学習効果測定　テスト作成（自動採点）　アンケート（自動集計）　レポート提出･管理　・・・・　　　　　　　上と合体した</a:t>
            </a:r>
            <a:r>
              <a:rPr b="0" lang="ja-JP" sz="2400" spc="-1" strike="noStrike">
                <a:solidFill>
                  <a:srgbClr val="0033cc"/>
                </a:solidFill>
                <a:latin typeface="Verdana"/>
              </a:rPr>
              <a:t>LCMS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ライブ授業　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TV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会議→</a:t>
            </a:r>
            <a:r>
              <a:rPr b="0" lang="ja-JP" sz="2800" spc="-1" strike="noStrike">
                <a:solidFill>
                  <a:srgbClr val="480404"/>
                </a:solidFill>
                <a:latin typeface="Verdana"/>
              </a:rPr>
              <a:t>Web</a:t>
            </a:r>
            <a:br>
              <a:rPr sz="28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教材とお互いの顔を見ながら質問、発言、ディスカッション・・・</a:t>
            </a:r>
            <a:r>
              <a:rPr b="0" lang="ja-JP" sz="2400" spc="-1" strike="noStrike">
                <a:solidFill>
                  <a:srgbClr val="ff3300"/>
                </a:solidFill>
                <a:latin typeface="Verdana"/>
              </a:rPr>
              <a:t>リアルタイムのコミュニケーショ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による変化ー学習者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2001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年大学設置基準改正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12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単位中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単位まで（通信制の場合はすべて）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インターネットで履修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可能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2003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年大学院は修士に加え博士で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教え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受動的）から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ぶ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自発的）へ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教員中心から学習者中心へ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from teaching(education) to learning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何故？どこがいいの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者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自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促進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生涯学習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へ　教員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ファシリテーター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者へ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個別対応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必要性拡大　</a:t>
            </a:r>
            <a:r>
              <a:rPr b="0" lang="ja-JP" sz="2800" spc="-1" strike="noStrike">
                <a:solidFill>
                  <a:srgbClr val="ff0000"/>
                </a:solidFill>
                <a:latin typeface="Verdana"/>
              </a:rPr>
              <a:t>個人化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基礎知識、テストの効率化で時間確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変化　時代はコラボレーショ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コミュニティ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形成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新しい教育理論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可能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　掲示板等によるコミュニケーションツールの拡大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協調学習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Collaborative 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共創型学習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ritical Think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学習継続に有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明朝"/>
              </a:rPr>
              <a:t>提供側も受講側も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より多くの選択肢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キャンパス･学校間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授業･講師の共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競争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連携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→「どこで」より「誰から何を」学ぶか　著名教員･コンテンツを持つ学校（学部、学科）に学生が集中し寡占化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メリットー教育再確認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社会人の学習ニーズ、キャリアの再確認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大学院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継続教育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大きなメリット？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資格、学位、認定、研修、義務、評価、教養？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看護職対象の調査、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e-Learning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希望者７割、看護診断・計画、リスクマネジメントへの高い要望（どう答える？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目標、課題、方法、効果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一致度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確認，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研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コア・カリ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Outcome-based educa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OB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カークパトリックの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段階評価モデル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１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Reaction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反応）】学習後の学習者の満足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２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Learning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学習）】理解度、知識習得度、スキル獲得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３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Behavior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行動）】学習後の行動の変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　　　【レベル４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Results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　成果）】最終的にどのような成果が出た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メリットー看護の質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同内容を同時に大量に提供・効果測定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看護教育・教育者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質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看護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質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看護職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者としての自立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ritical Thinker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継続した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コミュニティ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しての看護職集団の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確立とアピー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育機関の競争と連携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コラボレーション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推進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既製の市販教材販売開始！生き残り・・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看護の役割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＝他職種との相違の再確認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情報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市民・消費者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わかりやすく提供＝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onsumer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Health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nformatics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EB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PUS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Public understanding of scienc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の課題ー組織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ビジネスとして戦略的ゴールの明確化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経営・管理者による全体調整、マーケティング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e-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研究、コース開発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F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実施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I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基盤整備、規程整備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損もしないが儲かりもしないビジネス　高コスト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要員・組織　教育支援センター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バイトや教員のボランティア精神では不可能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企画、コンテンツ、ネットワーク→最低３人必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教育工学者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nstructional Designer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導入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継続性　画面集中限度約１６分　パワポだけ？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コンテンツ作成、コース設計のプロフェッショナ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の課題ー教員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オンライン教員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研修と評価　コンテンツよりも教員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高度なスキル　学習者にも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向き不向き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継続的コンタクト　生活スタイル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時間、プライバシー）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１クラス２０人上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員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処遇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インセンティブ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が不可欠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知的所有権、著書と同等評価、新たな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サポート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看護情報学者、看護管理・教育学者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養成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ノウハウ、エビデンスなしでは必ず失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ネット上の看護系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無料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コンテンツの不足</a:t>
            </a:r>
            <a:br>
              <a:rPr sz="2800"/>
            </a:b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　情報発信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情報共有　コミュニティ　リテラシ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看護への導入の課題ー教育目的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ナレッジマネジメント、コンピテンシーマネジメント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実践、管理、研究、教育の連携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e-H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コスト削減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よりも</a:t>
            </a:r>
            <a:r>
              <a:rPr b="0" lang="ja-JP" sz="2800" spc="-1" strike="noStrike">
                <a:solidFill>
                  <a:srgbClr val="ff0000"/>
                </a:solidFill>
                <a:latin typeface="Verdana"/>
              </a:rPr>
              <a:t>人材育成、離職率低下、サービスの質の向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新しいテクノロジー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既存のものの本質を問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情報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よる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意思決定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生き方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支援としての看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市民向け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e-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ビジネスをリード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従来の対面授業のデメリット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授業をある一定のレベルに統一する必要があるため、受講生がそ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レベルに合っていないと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効果がほとんどな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聴講形式が中心になるため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受け身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なりやす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授業に出席できなかった場合、モチベーションが低下し、その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遅れを取り戻すことが困難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時間の拘束、スケジュールが学校や教員主体で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者のペースではない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仕事を持つ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社会人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出席だけで満足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しやすく、学習成果に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アイコンタクト、ボディランゲージは・・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教育の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ICT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化の流れ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AI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Computer-Aide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Instruction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、　　　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CB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(Computer-Based Training) 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の登場　　→伸び悩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高性能で安価な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PC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、ブロードバンドの普及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材設計理論（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nstructional Design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　　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教育工学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ー教育の学際領域ー認知心理学、学習心理学、教育学、工学、社会学、文化人類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コンテンツ化、学習履歴管理、コミュニケーションツールによる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WBT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-Based Trai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WBL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-Based Learning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　標準規格化、品質評価で加速　米大企業、大学で普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とは？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447920"/>
            <a:ext cx="8077320" cy="47242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5040" y="1447920"/>
            <a:ext cx="4013280" cy="30398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9640" y="2532240"/>
            <a:ext cx="1230120" cy="1328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93920" y="3352680"/>
            <a:ext cx="4213080" cy="2800440"/>
          </a:xfrm>
          <a:prstGeom prst="ellipse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68720" y="1447920"/>
            <a:ext cx="4213440" cy="303984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05840" y="1557360"/>
            <a:ext cx="1326960" cy="14428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6120" y="1768320"/>
            <a:ext cx="201600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CD-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D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59480" y="1758960"/>
            <a:ext cx="12430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</a:rPr>
              <a:t>MBL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携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828800"/>
            <a:ext cx="367020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 Black"/>
              </a:rPr>
              <a:t>WBT,WB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ＭＳ Ｐゴシック"/>
              </a:rPr>
              <a:t>狭義の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Mail, WWW,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　　　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Databa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82800" y="2786040"/>
            <a:ext cx="1403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4114800"/>
            <a:ext cx="40831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 Black"/>
                <a:ea typeface="ＭＳ 明朝"/>
              </a:rPr>
              <a:t>DL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ＭＳ 明朝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(Distan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明朝"/>
              </a:rPr>
              <a:t>Learning)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遠隔教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4876920"/>
            <a:ext cx="23018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Century"/>
              </a:rPr>
              <a:t>広義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e-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410080"/>
            <a:ext cx="180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V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会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824600">
            <a:off x="3809880" y="22860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7458800">
            <a:off x="5028840" y="41140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9225200">
            <a:off x="1371240" y="228564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の種類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2892960" y="5715000"/>
            <a:ext cx="35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4-tier Learn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solution10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22960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４層（段階）の学習で高い学習効果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４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through Collocation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集まる、コミュニティ・関係づくり、生かす、実践す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実習（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Experience Based Learning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ケーススタディ、ロールプレイング、「ヒューマンタッチ」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３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from Collaboration 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議論、練習す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コラボレーティブ・ラーニング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(Collaborative Learn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ライブバーチャルクラスルーム、ライブカンファレンス</a:t>
            </a:r>
            <a:r>
              <a:rPr b="0" lang="ja-JP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２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through Interaction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調べる、試す、遊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インタラクティブ・ラーニング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(Interactive Learn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ＣＢＴ、ＷＢＴ、シミュレーション、インタラクティブなゲー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１　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Learn from</a:t>
            </a:r>
            <a:r>
              <a:rPr b="0" i="1" lang="ja-JP" sz="2800" spc="-1" strike="noStrike">
                <a:solidFill>
                  <a:srgbClr val="480404"/>
                </a:solidFill>
                <a:latin typeface="Helvetica-Oblique"/>
              </a:rPr>
              <a:t> </a:t>
            </a:r>
            <a:r>
              <a:rPr b="0" i="1" lang="ja-JP" sz="2400" spc="-1" strike="noStrike">
                <a:solidFill>
                  <a:srgbClr val="480404"/>
                </a:solidFill>
                <a:latin typeface="Helvetica-Oblique"/>
              </a:rPr>
              <a:t>Information</a:t>
            </a:r>
            <a:r>
              <a:rPr b="0" i="1" lang="ja-JP" sz="2800" spc="-1" strike="noStrike">
                <a:solidFill>
                  <a:srgbClr val="480404"/>
                </a:solidFill>
                <a:latin typeface="Helvetica-Oblique"/>
              </a:rPr>
              <a:t>  </a:t>
            </a:r>
            <a:r>
              <a:rPr b="0" lang="ja-JP" sz="2400" spc="-1" strike="noStrike">
                <a:solidFill>
                  <a:srgbClr val="480404"/>
                </a:solidFill>
                <a:latin typeface="Arial Black"/>
              </a:rPr>
              <a:t>読む、見る、聞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情報提供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(Performance Support, Reference Material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講義、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ページ、ビデ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情報化の４特性と合わせると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14400" y="1676520"/>
          <a:ext cx="7924680" cy="4267080"/>
        </p:xfrm>
        <a:graphic>
          <a:graphicData uri="http://schemas.openxmlformats.org/drawingml/2006/table">
            <a:tbl>
              <a:tblPr/>
              <a:tblGrid>
                <a:gridCol w="2590920"/>
                <a:gridCol w="1143000"/>
                <a:gridCol w="1447560"/>
                <a:gridCol w="1447920"/>
                <a:gridCol w="1295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電子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非同期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双方向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多報性（１対ｎ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abor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c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2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従来の講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e-Learning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の特徴･メリット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コンピュータ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と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ネットワーク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を利用した教育･学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環境があれば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いつでも、どこで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理解度を確認しつつ（即時フィードバック、進捗把握）、学習者のペースで、わかるまで、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個別的、主体的、効率的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　</a:t>
            </a:r>
            <a:r>
              <a:rPr b="0" lang="ja-JP" sz="2800" spc="-1" strike="noStrike">
                <a:solidFill>
                  <a:srgbClr val="ff0000"/>
                </a:solidFill>
                <a:latin typeface="Verdan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更新（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）された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最新教材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にアクセス可能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情報共有し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学習コミュニティ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形成が容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教材を公開し学びたいこと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自由に検索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が可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興味や関心のあることを</a:t>
            </a:r>
            <a:r>
              <a:rPr b="0" lang="ja-JP" sz="2800" spc="-1" strike="noStrike">
                <a:solidFill>
                  <a:srgbClr val="ff3300"/>
                </a:solidFill>
                <a:latin typeface="Verdana"/>
              </a:rPr>
              <a:t>誰でも</a:t>
            </a: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学習できるボーダーレス学習社会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439200"/>
            <a:ext cx="7925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教育プロセスモデル（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IBM</a:t>
            </a:r>
            <a:r>
              <a:rPr b="0" lang="ja-JP" sz="4000" spc="-1" strike="noStrike">
                <a:solidFill>
                  <a:srgbClr val="003366"/>
                </a:solidFill>
                <a:latin typeface="Verdana"/>
              </a:rPr>
              <a:t>）で行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-3657600" y="2666880"/>
            <a:ext cx="12191760" cy="624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-1143000" y="3809880"/>
            <a:ext cx="7162560" cy="39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7040" y="4800600"/>
            <a:ext cx="27424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438280" y="228564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791320"/>
            <a:ext cx="632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86000"/>
            <a:ext cx="1904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学習目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スキル適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スキル獲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情報伝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952880"/>
            <a:ext cx="8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配信技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4952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インタラクティブ技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4952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ラボレーティブ技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5867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教育者中心　 学習者中心　 学習チーム中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76720" y="2590920"/>
            <a:ext cx="4038480" cy="2666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57600" y="16002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コラボレーションの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高い学習効果（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cf.PBL</a:t>
            </a: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Verdana"/>
              </a:rPr>
              <a:t>　学習の変容　研究対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07:57:41Z</dcterms:created>
  <dc:creator>nakayama</dc:creator>
  <dc:description/>
  <dc:language>en-US</dc:language>
  <cp:lastModifiedBy>junka</cp:lastModifiedBy>
  <dcterms:modified xsi:type="dcterms:W3CDTF">2004-10-24T04:49:57Z</dcterms:modified>
  <cp:revision>168</cp:revision>
  <dc:subject/>
  <dc:title>看護教育におけるICTの活用</dc:title>
</cp:coreProperties>
</file>