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AAEE-DE28-43DC-B317-E815AC7C6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838080" y="3948480"/>
            <a:ext cx="792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42C1-C18A-4B8C-A5B9-3AF59CE1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67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98880" y="1600200"/>
            <a:ext cx="3867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838080" y="3948480"/>
            <a:ext cx="3867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898880" y="3948480"/>
            <a:ext cx="3867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9378-8BF1-4D2D-BB70-9859F2369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51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517560" y="1600200"/>
            <a:ext cx="2551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97400" y="1600200"/>
            <a:ext cx="2551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838080" y="3948480"/>
            <a:ext cx="2551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517560" y="3948480"/>
            <a:ext cx="2551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97400" y="3948480"/>
            <a:ext cx="2551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734A-2EBC-4171-81C2-73944C871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B7BE7-5C3E-4033-B8B6-654D3B706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C4EC-162F-4CEF-8E64-B1D96AE9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1E44-A391-4DEE-BE0B-EFD453C9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67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98880" y="1600200"/>
            <a:ext cx="3867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12FA-D3EA-4993-BADC-CE4B1718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7E5E-30DD-4241-AD90-F462D83A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38080" y="439200"/>
            <a:ext cx="792504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4247-8652-4884-8773-BDA602FA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67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98880" y="1600200"/>
            <a:ext cx="3867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8080" y="3948480"/>
            <a:ext cx="3867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6EC8-65B4-407A-B343-54AFEE60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F8F2-159D-47FD-8DAD-0798648B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67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98880" y="1600200"/>
            <a:ext cx="3867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898880" y="3948480"/>
            <a:ext cx="3867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50954-3876-49DD-9626-D7C408F3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67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98880" y="1600200"/>
            <a:ext cx="3867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8080" y="3948480"/>
            <a:ext cx="792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120C-CA81-4A58-8359-3DD73CD3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838080" y="3948480"/>
            <a:ext cx="792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15C3-8614-4A31-981B-64B76BE4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67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98880" y="1600200"/>
            <a:ext cx="3867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8080" y="3948480"/>
            <a:ext cx="3867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898880" y="3948480"/>
            <a:ext cx="3867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9B43-DB96-467F-A5AA-60645572A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51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517560" y="1600200"/>
            <a:ext cx="2551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197400" y="1600200"/>
            <a:ext cx="2551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838080" y="3948480"/>
            <a:ext cx="2551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517560" y="3948480"/>
            <a:ext cx="2551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197400" y="3948480"/>
            <a:ext cx="2551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C3A62-7FF9-4E50-8062-B48E73A4B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CCE4-381F-4C76-ABE5-7FD64E81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67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8880" y="1600200"/>
            <a:ext cx="3867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6131-4E2C-4466-99AE-1971909F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0EC0-B71B-4E10-8D8F-96DB244A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439200"/>
            <a:ext cx="792504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F48B-6359-4CC0-941A-EECAA10D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67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8880" y="1600200"/>
            <a:ext cx="3867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3948480"/>
            <a:ext cx="3867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E48E-2781-418B-8797-999676A4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67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98880" y="1600200"/>
            <a:ext cx="3867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898880" y="3948480"/>
            <a:ext cx="3867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B799-776E-4C4D-B51D-BC04184C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67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8880" y="1600200"/>
            <a:ext cx="3867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3948480"/>
            <a:ext cx="792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A3FD-F6A1-4DC3-8047-14D6DB4E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219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371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523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676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1828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1981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2133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22860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2438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2590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2743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2895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3048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"/>
          <p:cNvSpPr/>
          <p:nvPr/>
        </p:nvSpPr>
        <p:spPr>
          <a:xfrm>
            <a:off x="3200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>
            <a:off x="3352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>
            <a:off x="3505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3657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3809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3962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4114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4267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"/>
          <p:cNvSpPr/>
          <p:nvPr/>
        </p:nvSpPr>
        <p:spPr>
          <a:xfrm>
            <a:off x="4419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"/>
          <p:cNvSpPr/>
          <p:nvPr/>
        </p:nvSpPr>
        <p:spPr>
          <a:xfrm>
            <a:off x="45720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"/>
          <p:cNvSpPr/>
          <p:nvPr/>
        </p:nvSpPr>
        <p:spPr>
          <a:xfrm>
            <a:off x="4724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4876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5029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"/>
          <p:cNvSpPr/>
          <p:nvPr/>
        </p:nvSpPr>
        <p:spPr>
          <a:xfrm>
            <a:off x="5181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5334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"/>
          <p:cNvSpPr/>
          <p:nvPr/>
        </p:nvSpPr>
        <p:spPr>
          <a:xfrm>
            <a:off x="5486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5638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5791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5943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6095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248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00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553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05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10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62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15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467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0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772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24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77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29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1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534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686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839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991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0"/>
            <a:ext cx="846288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295280"/>
            <a:ext cx="6950160" cy="7488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B128-B085-41B8-8FCC-730D516A6C50}" type="slidenum">
              <a:rPr b="0" lang="ja-JP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4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5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79400" y="1215720"/>
            <a:ext cx="7678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28CE-1B7A-418F-A85B-FE23AAB296AA}" type="slidenum">
              <a:rPr b="0" lang="ja-JP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79400" y="1886400"/>
            <a:ext cx="7678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3366"/>
                </a:solidFill>
                <a:latin typeface="Verdana"/>
              </a:rPr>
              <a:t>看護における</a:t>
            </a:r>
            <a:r>
              <a:rPr b="0" lang="ja-JP" sz="3600" spc="-1" strike="noStrike">
                <a:solidFill>
                  <a:srgbClr val="003366"/>
                </a:solidFill>
                <a:latin typeface="Verdana"/>
              </a:rPr>
              <a:t>e-Learning</a:t>
            </a:r>
            <a:r>
              <a:rPr b="0" lang="ja-JP" sz="3600" spc="-1" strike="noStrike">
                <a:solidFill>
                  <a:srgbClr val="003366"/>
                </a:solidFill>
                <a:latin typeface="Verdana"/>
              </a:rPr>
              <a:t>の可能性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聖路加看護大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中山和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これは第１１回兵庫県立大学看護学部国際セミナー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2004.9.18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で「看護教育における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ICT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の活用」という講演をしたときの資料で、タイトルだけ変更したものです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3366"/>
                </a:solidFill>
                <a:latin typeface="Verdana"/>
              </a:rPr>
              <a:t>ブレンデッドラーニングが理想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85800" y="4343400"/>
            <a:ext cx="7315200" cy="21607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4572000" y="1371600"/>
            <a:ext cx="4191120" cy="29257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09480" y="1295280"/>
            <a:ext cx="4038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対面授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シミュレーション（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CBT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WB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協調学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遠隔講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図書・情報・各種メディア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　データベー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3366"/>
                </a:solidFill>
                <a:latin typeface="Verdana"/>
              </a:rPr>
              <a:t>e-Learning</a:t>
            </a:r>
            <a:r>
              <a:rPr b="0" lang="ja-JP" sz="4000" spc="-1" strike="noStrike">
                <a:solidFill>
                  <a:srgbClr val="003366"/>
                </a:solidFill>
                <a:latin typeface="Verdana"/>
              </a:rPr>
              <a:t>の提供３システム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80404"/>
                </a:solidFill>
                <a:latin typeface="Verdana"/>
              </a:rPr>
              <a:t>教材作成　</a:t>
            </a:r>
            <a:r>
              <a:rPr b="0" lang="ja-JP" sz="2800" spc="-1" strike="noStrike">
                <a:solidFill>
                  <a:srgbClr val="480404"/>
                </a:solidFill>
                <a:latin typeface="Verdana"/>
              </a:rPr>
              <a:t>CAI</a:t>
            </a:r>
            <a:r>
              <a:rPr b="0" lang="ja-JP" sz="2800" spc="-1" strike="noStrike">
                <a:solidFill>
                  <a:srgbClr val="480404"/>
                </a:solidFill>
                <a:latin typeface="Verdana"/>
              </a:rPr>
              <a:t>、</a:t>
            </a:r>
            <a:r>
              <a:rPr b="0" lang="ja-JP" sz="2800" spc="-1" strike="noStrike">
                <a:solidFill>
                  <a:srgbClr val="480404"/>
                </a:solidFill>
                <a:latin typeface="Verdana"/>
              </a:rPr>
              <a:t>CBT→Web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　　　</a:t>
            </a:r>
            <a:br>
              <a:rPr sz="2800"/>
            </a:b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コンテンツ作成　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PowerPoint 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音声 ビデオ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アニメーション・・・</a:t>
            </a:r>
            <a:r>
              <a:rPr b="0" lang="ja-JP" sz="2400" spc="-1" strike="noStrike">
                <a:solidFill>
                  <a:srgbClr val="ff3300"/>
                </a:solidFill>
                <a:latin typeface="Verdana"/>
              </a:rPr>
              <a:t>マルチメディア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80404"/>
                </a:solidFill>
                <a:latin typeface="Verdana"/>
              </a:rPr>
              <a:t>LMS</a:t>
            </a:r>
            <a:r>
              <a:rPr b="0" lang="ja-JP" sz="2800" spc="-1" strike="noStrike">
                <a:solidFill>
                  <a:srgbClr val="480404"/>
                </a:solidFill>
                <a:latin typeface="Verdana"/>
              </a:rPr>
              <a:t>（</a:t>
            </a:r>
            <a:r>
              <a:rPr b="0" lang="ja-JP" sz="2800" spc="-1" strike="noStrike">
                <a:solidFill>
                  <a:srgbClr val="480404"/>
                </a:solidFill>
                <a:latin typeface="Verdana"/>
              </a:rPr>
              <a:t>Learning Management System</a:t>
            </a:r>
            <a:r>
              <a:rPr b="0" lang="ja-JP" sz="2800" spc="-1" strike="noStrike">
                <a:solidFill>
                  <a:srgbClr val="480404"/>
                </a:solidFill>
                <a:latin typeface="Verdana"/>
              </a:rPr>
              <a:t>）</a:t>
            </a:r>
            <a:br>
              <a:rPr sz="2800"/>
            </a:br>
            <a:r>
              <a:rPr b="0" lang="ja-JP" sz="2800" spc="-1" strike="noStrike">
                <a:solidFill>
                  <a:srgbClr val="480404"/>
                </a:solidFill>
                <a:latin typeface="Verdana"/>
              </a:rPr>
              <a:t>　</a:t>
            </a:r>
            <a:r>
              <a:rPr b="0" lang="ja-JP" sz="2800" spc="-1" strike="noStrike">
                <a:solidFill>
                  <a:srgbClr val="480404"/>
                </a:solidFill>
                <a:latin typeface="Verdana"/>
              </a:rPr>
              <a:t>Web</a:t>
            </a:r>
            <a:r>
              <a:rPr b="0" lang="ja-JP" sz="2800" spc="-1" strike="noStrike">
                <a:solidFill>
                  <a:srgbClr val="480404"/>
                </a:solidFill>
                <a:latin typeface="Verdana"/>
              </a:rPr>
              <a:t>＋</a:t>
            </a:r>
            <a:r>
              <a:rPr b="0" lang="ja-JP" sz="2800" spc="-1" strike="noStrike">
                <a:solidFill>
                  <a:srgbClr val="480404"/>
                </a:solidFill>
                <a:latin typeface="Verdana"/>
              </a:rPr>
              <a:t>Database</a:t>
            </a:r>
            <a:br>
              <a:rPr sz="2800"/>
            </a:b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コース作成・管理　受講者登録・管理　アクセス記録</a:t>
            </a:r>
            <a:r>
              <a:rPr b="0" lang="ja-JP" sz="2400" spc="-1" strike="noStrike">
                <a:solidFill>
                  <a:srgbClr val="ff3300"/>
                </a:solidFill>
                <a:latin typeface="Verdana"/>
              </a:rPr>
              <a:t>進捗･成績管理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　</a:t>
            </a:r>
            <a:r>
              <a:rPr b="0" lang="ja-JP" sz="2400" spc="-1" strike="noStrike">
                <a:solidFill>
                  <a:srgbClr val="ff3300"/>
                </a:solidFill>
                <a:latin typeface="Verdana"/>
              </a:rPr>
              <a:t>掲示板・チャット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　学習効果測定　テスト作成（自動採点）　アンケート（自動集計）　レポート提出･管理　・・・・　　　　　　　上と合体した</a:t>
            </a:r>
            <a:r>
              <a:rPr b="0" lang="ja-JP" sz="2400" spc="-1" strike="noStrike">
                <a:solidFill>
                  <a:srgbClr val="0033cc"/>
                </a:solidFill>
                <a:latin typeface="Verdana"/>
              </a:rPr>
              <a:t>LCMS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80404"/>
                </a:solidFill>
                <a:latin typeface="Verdana"/>
              </a:rPr>
              <a:t>ライブ授業　</a:t>
            </a:r>
            <a:r>
              <a:rPr b="0" lang="ja-JP" sz="2800" spc="-1" strike="noStrike">
                <a:solidFill>
                  <a:srgbClr val="480404"/>
                </a:solidFill>
                <a:latin typeface="Verdana"/>
              </a:rPr>
              <a:t>TV</a:t>
            </a:r>
            <a:r>
              <a:rPr b="0" lang="ja-JP" sz="2800" spc="-1" strike="noStrike">
                <a:solidFill>
                  <a:srgbClr val="480404"/>
                </a:solidFill>
                <a:latin typeface="Verdana"/>
              </a:rPr>
              <a:t>会議→</a:t>
            </a:r>
            <a:r>
              <a:rPr b="0" lang="ja-JP" sz="2800" spc="-1" strike="noStrike">
                <a:solidFill>
                  <a:srgbClr val="480404"/>
                </a:solidFill>
                <a:latin typeface="Verdana"/>
              </a:rPr>
              <a:t>Web</a:t>
            </a:r>
            <a:br>
              <a:rPr sz="2800"/>
            </a:b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教材とお互いの顔を見ながら質問、発言、ディスカッション・・・</a:t>
            </a:r>
            <a:r>
              <a:rPr b="0" lang="ja-JP" sz="2400" spc="-1" strike="noStrike">
                <a:solidFill>
                  <a:srgbClr val="ff3300"/>
                </a:solidFill>
                <a:latin typeface="Verdana"/>
              </a:rPr>
              <a:t>リアルタイムのコミュニケーショ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3366"/>
                </a:solidFill>
                <a:latin typeface="Verdana"/>
              </a:rPr>
              <a:t>e-Learning</a:t>
            </a:r>
            <a:r>
              <a:rPr b="0" lang="ja-JP" sz="4000" spc="-1" strike="noStrike">
                <a:solidFill>
                  <a:srgbClr val="003366"/>
                </a:solidFill>
                <a:latin typeface="Verdana"/>
              </a:rPr>
              <a:t>による変化ー学習者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2001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年大学設置基準改正、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124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単位中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60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単位まで（通信制の場合はすべて）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インターネットで履修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可能、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2003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年大学院は修士に加え博士で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教える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（受動的）から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学ぶ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（自発的）へ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　教員中心から学習者中心へ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　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from teaching(education) to learning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何故？どこがいいの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学習者の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自立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促進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　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生涯学習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へ　教員→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ファシリテーター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学習者への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個別対応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の必要性拡大　</a:t>
            </a:r>
            <a:r>
              <a:rPr b="0" lang="ja-JP" sz="2800" spc="-1" strike="noStrike">
                <a:solidFill>
                  <a:srgbClr val="ff0000"/>
                </a:solidFill>
                <a:latin typeface="Verdana"/>
              </a:rPr>
              <a:t>個人化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　基礎知識、テストの効率化で時間確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3366"/>
                </a:solidFill>
                <a:latin typeface="Verdana"/>
              </a:rPr>
              <a:t>変化　時代はコラボレーション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学習コミュニティ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形成、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新しい教育理論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の可能性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　　掲示板等によるコミュニケーションツールの拡大、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協調学習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Collaborative Learning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、共創型学習→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Critical Thinking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、学習継続に有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明朝"/>
              </a:rPr>
              <a:t>提供側も受講側も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より多くの選択肢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　キャンパス･学校間の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授業･講師の共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競争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と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連携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→「どこで」より「誰から何を」学ぶか　著名教員･コンテンツを持つ学校（学部、学科）に学生が集中し寡占化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3366"/>
                </a:solidFill>
                <a:latin typeface="Verdana"/>
              </a:rPr>
              <a:t>看護への導入メリットー教育再確認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社会人の学習ニーズ、キャリアの再確認</a:t>
            </a:r>
            <a:br>
              <a:rPr sz="2800"/>
            </a:b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大学院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継続教育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に大きなメリット？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資格、学位、認定、研修、義務、評価、教養？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看護職対象の調査、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e-Learning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希望者７割、看護診断・計画、リスクマネジメントへの高い要望（どう答える？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学習目標、課題、方法、効果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の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一致度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確認，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研究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　　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コア・カリ、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Outcome-based education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OBE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　　　　カークパトリックの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段階評価モデル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　　　　【レベル１（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Reaction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　反応）】学習後の学習者の満足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　　　　【レベル２（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Learning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　学習）】理解度、知識習得度、スキル獲得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　　　　【レベル３（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Behavior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　行動）】学習後の行動の変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　　　　【レベル４（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Results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　成果）】最終的にどのような成果が出た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3366"/>
                </a:solidFill>
                <a:latin typeface="Verdana"/>
              </a:rPr>
              <a:t>看護への導入メリットー看護の質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同内容を同時に大量に提供・効果測定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　看護教育・教育者の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質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、看護の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質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管理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看護職の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学習者としての自立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Critical Thinker</a:t>
            </a:r>
            <a:br>
              <a:rPr sz="2800"/>
            </a:b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　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継続した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学習コミュニティ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としての看護職集団の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　確立とアピール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教育機関の競争と連携　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コラボレーション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推進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　既製の市販教材販売開始！生き残り・・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看護の役割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＝他職種との相違の再確認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　情報を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市民・消費者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にわかりやすく提供＝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　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Consumer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　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Health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　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Informatics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　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EBN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と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PUS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Public understanding of science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3366"/>
                </a:solidFill>
                <a:latin typeface="Verdana"/>
              </a:rPr>
              <a:t>看護への導入の課題ー組織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ビジネスとして戦略的ゴールの明確化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　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　経営・管理者による全体調整、マーケティング、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　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e-Learning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の研究、コース開発、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FD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実施、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　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IT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基盤整備、規程整備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　損もしないが儲かりもしないビジネス　高コスト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要員・組織　教育支援センター</a:t>
            </a:r>
            <a:br>
              <a:rPr sz="2800"/>
            </a:b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　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バイトや教員のボランティア精神では不可能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　企画、コンテンツ、ネットワーク→最低３人必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教育工学者　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Instructional Designer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導入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　継続性　画面集中限度約１６分　パワポだけ？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　コンテンツ作成、コース設計のプロフェッショナル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3366"/>
                </a:solidFill>
                <a:latin typeface="Verdana"/>
              </a:rPr>
              <a:t>看護への導入の課題ー教員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オンライン教員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研修と評価　コンテンツよりも教員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　高度なスキル　学習者にも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向き不向き　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継続的コンタクト　生活スタイル（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24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時間、プライバシー）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１クラス２０人上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教員の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処遇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　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インセンティブ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が不可欠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　知的所有権、著書と同等評価、新たな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サポート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看護情報学者、看護管理・教育学者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の養成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　ノウハウ、エビデンスなしでは必ず失敗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ネット上の看護系の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無料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学習コンテンツの不足</a:t>
            </a:r>
            <a:br>
              <a:rPr sz="2800"/>
            </a:b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　情報発信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と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情報共有　コミュニティ　リテラシ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3366"/>
                </a:solidFill>
                <a:latin typeface="Verdana"/>
              </a:rPr>
              <a:t>看護への導入の課題ー教育目的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ナレッジマネジメント、コンピテンシーマネジメント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　実践、管理、研究、教育の連携　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e-H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コスト削減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よりも</a:t>
            </a:r>
            <a:r>
              <a:rPr b="0" lang="ja-JP" sz="2800" spc="-1" strike="noStrike">
                <a:solidFill>
                  <a:srgbClr val="ff0000"/>
                </a:solidFill>
                <a:latin typeface="Verdana"/>
              </a:rPr>
              <a:t>人材育成、離職率低下、サービスの質の向上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新しいテクノロジー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　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既存のものの本質を問う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情報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による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意思決定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＝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生き方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支援としての看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市民向け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e-Learning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ビジネスをリード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3366"/>
                </a:solidFill>
                <a:latin typeface="Verdana"/>
              </a:rPr>
              <a:t>従来の対面授業のデメリット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授業をある一定のレベルに統一する必要があるため、受講生がその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レベルに合っていないと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学習効果がほとんどない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聴講形式が中心になるため、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受け身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になりやすい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授業に出席できなかった場合、モチベーションが低下し、その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遅れを取り戻すことが困難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時間の拘束、スケジュールが学校や教員主体で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学習者のペースではない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　仕事を持つ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社会人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出席だけで満足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しやすく、学習成果に差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アイコンタクト、ボディランゲージは・・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3366"/>
                </a:solidFill>
                <a:latin typeface="Verdana"/>
              </a:rPr>
              <a:t>教育の</a:t>
            </a:r>
            <a:r>
              <a:rPr b="0" lang="ja-JP" sz="4000" spc="-1" strike="noStrike">
                <a:solidFill>
                  <a:srgbClr val="003366"/>
                </a:solidFill>
                <a:latin typeface="Verdana"/>
              </a:rPr>
              <a:t>ICT</a:t>
            </a:r>
            <a:r>
              <a:rPr b="0" lang="ja-JP" sz="4000" spc="-1" strike="noStrike">
                <a:solidFill>
                  <a:srgbClr val="003366"/>
                </a:solidFill>
                <a:latin typeface="Verdana"/>
              </a:rPr>
              <a:t>化の流れ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CAI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Computer-Aided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　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Instruction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）、　　　　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CBT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(Computer-Based Training) 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の登場　　→伸び悩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高性能で安価な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PC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、ブロードバンドの普及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教材設計理論（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Instructional Design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、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ID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　　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教育工学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ー教育の学際領域ー認知心理学、学習心理学、教育学、工学、社会学、文化人類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コンテンツ化、学習履歴管理、コミュニケーションツールによる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WBT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Web-Based Training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）、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WBL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Web-Based Learning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）　標準規格化、品質評価で加速　米大企業、大学で普及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3366"/>
                </a:solidFill>
                <a:latin typeface="Verdana"/>
              </a:rPr>
              <a:t>e-Learning</a:t>
            </a:r>
            <a:r>
              <a:rPr b="0" lang="ja-JP" sz="4000" spc="-1" strike="noStrike">
                <a:solidFill>
                  <a:srgbClr val="003366"/>
                </a:solidFill>
                <a:latin typeface="Verdana"/>
              </a:rPr>
              <a:t>とは？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1447920"/>
            <a:ext cx="8077320" cy="47242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5040" y="1447920"/>
            <a:ext cx="4013280" cy="30398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09640" y="2532240"/>
            <a:ext cx="1230120" cy="13284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93920" y="3352680"/>
            <a:ext cx="4213080" cy="2800440"/>
          </a:xfrm>
          <a:prstGeom prst="ellipse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068720" y="1447920"/>
            <a:ext cx="4213440" cy="303984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05840" y="1557360"/>
            <a:ext cx="1326960" cy="14428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86120" y="1768320"/>
            <a:ext cx="2016000" cy="20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明朝"/>
              </a:rPr>
              <a:t>CD-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明朝"/>
              </a:rPr>
              <a:t>DV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59480" y="1758960"/>
            <a:ext cx="124308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 Black"/>
              </a:rPr>
              <a:t>MBL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P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携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1828800"/>
            <a:ext cx="3670200" cy="26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 Black"/>
              </a:rPr>
              <a:t>WBT,WB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800" spc="-1" strike="noStrike">
                <a:solidFill>
                  <a:srgbClr val="000000"/>
                </a:solidFill>
                <a:latin typeface="ＭＳ Ｐゴシック"/>
              </a:rPr>
              <a:t>狭義の</a:t>
            </a:r>
            <a:r>
              <a:rPr b="0" i="1" lang="ja-JP" sz="2800" spc="-1" strike="noStrike">
                <a:solidFill>
                  <a:srgbClr val="000000"/>
                </a:solidFill>
                <a:latin typeface="Arial"/>
              </a:rPr>
              <a:t>e-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明朝"/>
              </a:rPr>
              <a:t>    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明朝"/>
              </a:rPr>
              <a:t>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明朝"/>
              </a:rPr>
              <a:t>Mail, WWW,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明朝"/>
              </a:rPr>
              <a:t>　　　　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明朝"/>
              </a:rPr>
              <a:t>Databas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明朝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82800" y="2786040"/>
            <a:ext cx="140328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AI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666880" y="4114800"/>
            <a:ext cx="40831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 Black"/>
                <a:ea typeface="ＭＳ 明朝"/>
              </a:rPr>
              <a:t>DL</a:t>
            </a:r>
            <a:r>
              <a:rPr b="0" lang="ja-JP" sz="2800" spc="-1" strike="noStrike">
                <a:solidFill>
                  <a:srgbClr val="000000"/>
                </a:solidFill>
                <a:latin typeface="Arial Black"/>
                <a:ea typeface="ＭＳ 明朝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明朝"/>
              </a:rPr>
              <a:t>(Distan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明朝"/>
              </a:rPr>
              <a:t>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明朝"/>
              </a:rPr>
              <a:t>Learning)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遠隔教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248520" y="4876920"/>
            <a:ext cx="230184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800" spc="-1" strike="noStrike">
                <a:solidFill>
                  <a:srgbClr val="000000"/>
                </a:solidFill>
                <a:latin typeface="Century"/>
              </a:rPr>
              <a:t>広義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800" spc="-1" strike="noStrike">
                <a:solidFill>
                  <a:srgbClr val="000000"/>
                </a:solidFill>
                <a:latin typeface="Arial"/>
              </a:rPr>
              <a:t>e-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05320" y="5410080"/>
            <a:ext cx="180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TV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会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1824600">
            <a:off x="3809880" y="22860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7458800">
            <a:off x="5028840" y="4114080"/>
            <a:ext cx="685800" cy="381240"/>
          </a:xfrm>
          <a:prstGeom prst="rightArrow">
            <a:avLst>
              <a:gd name="adj1" fmla="val 50000"/>
              <a:gd name="adj2" fmla="val 449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9225200">
            <a:off x="1371240" y="228564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3366"/>
                </a:solidFill>
                <a:latin typeface="Verdana"/>
              </a:rPr>
              <a:t>e-Learning</a:t>
            </a:r>
            <a:r>
              <a:rPr b="0" lang="ja-JP" sz="4000" spc="-1" strike="noStrike">
                <a:solidFill>
                  <a:srgbClr val="003366"/>
                </a:solidFill>
                <a:latin typeface="Verdana"/>
              </a:rPr>
              <a:t>の種類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2892960" y="5715000"/>
            <a:ext cx="354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M 4-tier Learning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solution10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8229600" cy="38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3366"/>
                </a:solidFill>
                <a:latin typeface="Verdana"/>
              </a:rPr>
              <a:t>４層（段階）の学習で高い学習効果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４　</a:t>
            </a:r>
            <a:r>
              <a:rPr b="0" i="1" lang="ja-JP" sz="2400" spc="-1" strike="noStrike">
                <a:solidFill>
                  <a:srgbClr val="480404"/>
                </a:solidFill>
                <a:latin typeface="Helvetica-Oblique"/>
              </a:rPr>
              <a:t>Learn through Collocation </a:t>
            </a:r>
            <a:r>
              <a:rPr b="0" lang="ja-JP" sz="2400" spc="-1" strike="noStrike">
                <a:solidFill>
                  <a:srgbClr val="480404"/>
                </a:solidFill>
                <a:latin typeface="Arial Black"/>
              </a:rPr>
              <a:t>集まる、コミュニティ・関係づくり、生かす、実践す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実習（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Experience Based Learning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ケーススタディ、ロールプレイング、「ヒューマンタッチ」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３　</a:t>
            </a:r>
            <a:r>
              <a:rPr b="0" i="1" lang="ja-JP" sz="2400" spc="-1" strike="noStrike">
                <a:solidFill>
                  <a:srgbClr val="480404"/>
                </a:solidFill>
                <a:latin typeface="Helvetica-Oblique"/>
              </a:rPr>
              <a:t>Learn from Collaboration  </a:t>
            </a:r>
            <a:r>
              <a:rPr b="0" lang="ja-JP" sz="2400" spc="-1" strike="noStrike">
                <a:solidFill>
                  <a:srgbClr val="480404"/>
                </a:solidFill>
                <a:latin typeface="Arial Black"/>
              </a:rPr>
              <a:t>議論、練習す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コラボレーティブ・ラーニング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(Collaborative Learn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ライブバーチャルクラスルーム、ライブカンファレンス</a:t>
            </a:r>
            <a:r>
              <a:rPr b="0" lang="ja-JP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２　</a:t>
            </a:r>
            <a:r>
              <a:rPr b="0" i="1" lang="ja-JP" sz="2400" spc="-1" strike="noStrike">
                <a:solidFill>
                  <a:srgbClr val="480404"/>
                </a:solidFill>
                <a:latin typeface="Helvetica-Oblique"/>
              </a:rPr>
              <a:t>Learn through Interaction </a:t>
            </a:r>
            <a:r>
              <a:rPr b="0" lang="ja-JP" sz="2400" spc="-1" strike="noStrike">
                <a:solidFill>
                  <a:srgbClr val="480404"/>
                </a:solidFill>
                <a:latin typeface="Arial Black"/>
              </a:rPr>
              <a:t> </a:t>
            </a:r>
            <a:r>
              <a:rPr b="0" lang="ja-JP" sz="2400" spc="-1" strike="noStrike">
                <a:solidFill>
                  <a:srgbClr val="480404"/>
                </a:solidFill>
                <a:latin typeface="Arial Black"/>
              </a:rPr>
              <a:t>調べる、試す、遊ぶ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インタラクティブ・ラーニング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(Interactive Learn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ＣＢＴ、ＷＢＴ、シミュレーション、インタラクティブなゲー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１　</a:t>
            </a:r>
            <a:r>
              <a:rPr b="0" i="1" lang="ja-JP" sz="2400" spc="-1" strike="noStrike">
                <a:solidFill>
                  <a:srgbClr val="480404"/>
                </a:solidFill>
                <a:latin typeface="Helvetica-Oblique"/>
              </a:rPr>
              <a:t>Learn from</a:t>
            </a:r>
            <a:r>
              <a:rPr b="0" i="1" lang="ja-JP" sz="2800" spc="-1" strike="noStrike">
                <a:solidFill>
                  <a:srgbClr val="480404"/>
                </a:solidFill>
                <a:latin typeface="Helvetica-Oblique"/>
              </a:rPr>
              <a:t> </a:t>
            </a:r>
            <a:r>
              <a:rPr b="0" i="1" lang="ja-JP" sz="2400" spc="-1" strike="noStrike">
                <a:solidFill>
                  <a:srgbClr val="480404"/>
                </a:solidFill>
                <a:latin typeface="Helvetica-Oblique"/>
              </a:rPr>
              <a:t>Information</a:t>
            </a:r>
            <a:r>
              <a:rPr b="0" i="1" lang="ja-JP" sz="2800" spc="-1" strike="noStrike">
                <a:solidFill>
                  <a:srgbClr val="480404"/>
                </a:solidFill>
                <a:latin typeface="Helvetica-Oblique"/>
              </a:rPr>
              <a:t>  </a:t>
            </a:r>
            <a:r>
              <a:rPr b="0" lang="ja-JP" sz="2400" spc="-1" strike="noStrike">
                <a:solidFill>
                  <a:srgbClr val="480404"/>
                </a:solidFill>
                <a:latin typeface="Arial Black"/>
              </a:rPr>
              <a:t>読む、見る、聞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情報提供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(Performance Support, Reference Material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講義、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ページ、ビデオ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3366"/>
                </a:solidFill>
                <a:latin typeface="Verdana"/>
              </a:rPr>
              <a:t>情報化の４特性と合わせると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914400" y="1676520"/>
          <a:ext cx="7924680" cy="4267080"/>
        </p:xfrm>
        <a:graphic>
          <a:graphicData uri="http://schemas.openxmlformats.org/drawingml/2006/table">
            <a:tbl>
              <a:tblPr/>
              <a:tblGrid>
                <a:gridCol w="2590920"/>
                <a:gridCol w="1143000"/>
                <a:gridCol w="1447560"/>
                <a:gridCol w="1447920"/>
                <a:gridCol w="12952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電子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非同期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双方向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多報性（１対ｎ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702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o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85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abora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85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ac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2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orm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7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従来の講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3366"/>
                </a:solidFill>
                <a:latin typeface="Verdana"/>
              </a:rPr>
              <a:t>e-Learning</a:t>
            </a:r>
            <a:r>
              <a:rPr b="0" lang="ja-JP" sz="4000" spc="-1" strike="noStrike">
                <a:solidFill>
                  <a:srgbClr val="003366"/>
                </a:solidFill>
                <a:latin typeface="Verdana"/>
              </a:rPr>
              <a:t>の特徴･メリット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コンピュータ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と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ネットワーク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を利用した教育･学習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環境があれば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いつでも、どこで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理解度を確認しつつ（即時フィードバック、進捗把握）、学習者のペースで、わかるまで、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個別的、主体的、効率的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に　</a:t>
            </a:r>
            <a:r>
              <a:rPr b="0" lang="ja-JP" sz="2800" spc="-1" strike="noStrike">
                <a:solidFill>
                  <a:srgbClr val="ff0000"/>
                </a:solidFill>
                <a:latin typeface="Verdan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更新（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update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）された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最新教材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にアクセス可能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学習情報共有し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学習コミュニティ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形成が容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教材を公開し学びたいことを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自由に検索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が可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興味や関心のあることを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誰でも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学習できるボーダーレス学習社会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3366"/>
                </a:solidFill>
                <a:latin typeface="Verdana"/>
              </a:rPr>
              <a:t>教育プロセスモデル（</a:t>
            </a:r>
            <a:r>
              <a:rPr b="0" lang="ja-JP" sz="4000" spc="-1" strike="noStrike">
                <a:solidFill>
                  <a:srgbClr val="003366"/>
                </a:solidFill>
                <a:latin typeface="Verdana"/>
              </a:rPr>
              <a:t>IBM</a:t>
            </a:r>
            <a:r>
              <a:rPr b="0" lang="ja-JP" sz="4000" spc="-1" strike="noStrike">
                <a:solidFill>
                  <a:srgbClr val="003366"/>
                </a:solidFill>
                <a:latin typeface="Verdana"/>
              </a:rPr>
              <a:t>）で行く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"/>
          <p:cNvSpPr/>
          <p:nvPr/>
        </p:nvSpPr>
        <p:spPr>
          <a:xfrm>
            <a:off x="-3657600" y="2666880"/>
            <a:ext cx="12191760" cy="624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-1143000" y="3809880"/>
            <a:ext cx="7162560" cy="396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7040" y="4800600"/>
            <a:ext cx="274248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438280" y="228564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438280" y="5791320"/>
            <a:ext cx="6324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3520" y="2286000"/>
            <a:ext cx="19047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学習目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　スキル適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　スキル獲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　情報伝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95288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配信技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05320" y="49528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インタラクティブ技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4952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コラボレーティブ技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09680" y="586728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教育者中心　 学習者中心　 学習チーム中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276720" y="2590920"/>
            <a:ext cx="4038480" cy="26668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57600" y="16002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コラボレーションの程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　高い学習効果（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cf.PBL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）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　学習の変容　研究対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1T07:57:41Z</dcterms:created>
  <dc:creator>nakayama</dc:creator>
  <dc:description/>
  <dc:language>en-US</dc:language>
  <cp:lastModifiedBy>junka</cp:lastModifiedBy>
  <dcterms:modified xsi:type="dcterms:W3CDTF">2004-10-24T04:49:57Z</dcterms:modified>
  <cp:revision>168</cp:revision>
  <dc:subject/>
  <dc:title>看護教育におけるICTの活用</dc:title>
</cp:coreProperties>
</file>