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708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780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708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7800" y="103320"/>
            <a:ext cx="851544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708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6636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780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708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6636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7800" y="103320"/>
            <a:ext cx="851544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8708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6360" y="166860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0780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8708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66360" y="4056840"/>
            <a:ext cx="274176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7800" y="103320"/>
            <a:ext cx="851544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360" y="405684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68600"/>
            <a:ext cx="415548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7800" y="4056840"/>
            <a:ext cx="8515440" cy="2180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106524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304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9380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13120" indent="-443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13120" indent="-443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8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13120" indent="-443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9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c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07800" y="1668600"/>
            <a:ext cx="461808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 fontScale="87000"/>
          </a:bodyPr>
          <a:p>
            <a:pPr marL="64764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Click to edit the outline text format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1" marL="92664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econd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2" marL="119448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Third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3" marL="147348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Four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4" marL="175140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Fif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5" marL="175140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ix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6" marL="1751400" indent="-385200">
              <a:spcBef>
                <a:spcPts val="3149"/>
              </a:spcBef>
              <a:buClr>
                <a:srgbClr val="6078ae"/>
              </a:buClr>
              <a:buSzPct val="52000"/>
              <a:buFont typeface="ＭＳ Ｐゴシック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even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2228760"/>
            <a:ext cx="85154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b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7800" y="3760920"/>
            <a:ext cx="8515440" cy="8683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t">
            <a:normAutofit fontScale="35000"/>
          </a:bodyPr>
          <a:p>
            <a:pPr indent="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Click to edit the outline text format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1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econd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2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Third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3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Four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4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Fif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5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ix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lvl="6" algn="ctr">
              <a:buClr>
                <a:srgbClr val="6078ae"/>
              </a:buClr>
              <a:buFont typeface="ＭＳ Ｐゴシック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Seventh Outline Level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http://www.geocities.jp/kazu_hiro/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.slcn.ac.jp/hishinuma/index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jocw.jp/index.htm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son.washington.edu/faculty/faculty_bio.asp?id=11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cango.jp/home.html" TargetMode="External"/><Relationship Id="rId10" Type="http://schemas.openxmlformats.org/officeDocument/2006/relationships/hyperlink" Target="http://www.cango.jp/home.html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678800" cy="131112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b">
            <a:noAutofit/>
          </a:bodyPr>
          <a:p>
            <a:pPr marL="22320"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ＭＳ Ｐゴシック"/>
              </a:rPr>
              <a:t>e-learning</a:t>
            </a:r>
            <a:r>
              <a:rPr b="0" lang="zh-CN" sz="4400" spc="-1" strike="noStrike">
                <a:solidFill>
                  <a:srgbClr val="3f3f3f"/>
                </a:solidFill>
                <a:latin typeface="ＭＳ Ｐゴシック"/>
              </a:rPr>
              <a:t>を利用した看護大学大学院・継続教育システムの</a:t>
            </a:r>
            <a:br>
              <a:rPr sz="4400"/>
            </a:br>
            <a:r>
              <a:rPr b="0" lang="zh-CN" sz="4400" spc="-1" strike="noStrike">
                <a:solidFill>
                  <a:srgbClr val="3f3f3f"/>
                </a:solidFill>
                <a:latin typeface="ＭＳ Ｐゴシック"/>
              </a:rPr>
              <a:t>構築と評価</a:t>
            </a:r>
            <a:endParaRPr b="0" lang="en-US" sz="44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中山和弘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平成１８年度聖路加看護大学看護実践開発研究</a:t>
            </a:r>
            <a:br>
              <a:rPr sz="2300"/>
            </a:b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センター研究成果発表会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日時：８月１日（火）　１３：００～１７：００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 </a:t>
            </a: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場所：アリス・</a:t>
            </a:r>
            <a:r>
              <a:rPr b="0" lang="en-US" sz="2300" spc="-1" strike="noStrike">
                <a:solidFill>
                  <a:srgbClr val="6078ae"/>
                </a:solidFill>
                <a:latin typeface="ＭＳ Ｐゴシック"/>
              </a:rPr>
              <a:t>C</a:t>
            </a:r>
            <a:r>
              <a:rPr b="0" lang="zh-CN" sz="2300" spc="-1" strike="noStrike">
                <a:solidFill>
                  <a:srgbClr val="6078ae"/>
                </a:solidFill>
                <a:latin typeface="ＭＳ Ｐゴシック"/>
              </a:rPr>
              <a:t>・セントジョン・メモリアルホール </a:t>
            </a:r>
            <a:endParaRPr b="0" lang="en-US" sz="2300" spc="-1" strike="noStrike">
              <a:solidFill>
                <a:srgbClr val="6078ae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看護での</a:t>
            </a: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の調査結果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全国看護師が対象の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ラーニングのニーズ調査で受講希望は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７割以上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希望科目として多いものは「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看護診断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」「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研究法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」など。基礎教育＋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教育、大学院教育の必要性。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看護学生と臨床看護師が対象の調査では、ほとんどが「役にたった」「今後活用したい」と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良好な評価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問題は「教員の交流がないことへの不安」「プログラムの質への不安」「単位取得や資格とのつながり」→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（教員）の質への不安とキャリアの保証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ラーニングと対面授業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成果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はほぼ同等、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修了率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はむしろ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ラーニングのほうが高い。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導入の課題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 fontScale="92000"/>
          </a:bodyPr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組織の存在意義として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戦略的ゴール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明確化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トップの全体調整、マーケティング、研究体制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コスト削減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より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離職（休退学）減少、ケアの質の向上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専門部門設置</a:t>
            </a:r>
            <a:r>
              <a:rPr b="0" lang="zh-CN" sz="2800" spc="-1" strike="noStrike">
                <a:solidFill>
                  <a:srgbClr val="ff3300"/>
                </a:solidFill>
                <a:latin typeface="ＭＳ Ｐゴシック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教員のボランティアでは不可能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教育工学者　</a:t>
            </a:r>
            <a:r>
              <a:rPr b="0" lang="en-US" sz="2800" spc="-1" strike="noStrike">
                <a:solidFill>
                  <a:srgbClr val="006699"/>
                </a:solidFill>
                <a:latin typeface="ＭＳ Ｐゴシック"/>
              </a:rPr>
              <a:t>Instructional Designer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導入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教員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処遇　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新たな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サポート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が不可欠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看護情報学者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養成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84720" indent="-40716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8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ネット上の看護系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無料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学習コンテンツの不足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助け合い精神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ＭＳ Ｐゴシック"/>
                <a:hlinkClick r:id="rId9"/>
              </a:rPr>
              <a:t>ナースに役立つ種類のサイトとは？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結論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ラーニングは社会の学習のありかたの変化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社会変化のための大学にこそ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必要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　「知」「情報」の囲い込みの崩壊　　</a:t>
            </a:r>
            <a:r>
              <a:rPr b="0" lang="en-US" sz="2800" spc="-1" strike="noStrike">
                <a:solidFill>
                  <a:srgbClr val="006699"/>
                </a:solidFill>
                <a:latin typeface="ＭＳ Ｐゴシック"/>
              </a:rPr>
              <a:t>Google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導入のため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課題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は明確になってきてい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その障害（バリア）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を取り除くための検討が必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教育者中心の研究</a:t>
            </a: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＜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者中心の研究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が大学の存在理由であることの確認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学習者中心＝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市民中心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への転換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研究目的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看護系の大学院、卒業後の継続教育におけ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-learning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活用の可能性を探るために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従来の対面授業と比較し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-learning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特徴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を知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国内外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導入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状況を知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全国の看護職を対象に、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-learning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ニーズ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調査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看護学生と臨床看護師による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-learning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受講後の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プログラムの評価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対面授業と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-learning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成果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違いを検証するための無作為化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比較試験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従来の対面授業のデメリット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受講生がそ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レベル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に合っていないと学習効果がほとんどない・・・・事前評価は？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聴講形式が中心で、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受け身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になりやす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スケジュールが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教育者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主体で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者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のペースではない・・・・・仕事を持つ社会人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１回でも欠席すると、モチベーションが低下し、その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遅れ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を取り戻すことが困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他方、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出席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だけで満足しやすく、学習成果に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アイコンタクト、ボディランゲージ・・・？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対面授業と</a:t>
            </a: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4284720" y="5445000"/>
            <a:ext cx="1079280" cy="519120"/>
          </a:xfrm>
          <a:prstGeom prst="leftArrow">
            <a:avLst>
              <a:gd name="adj1" fmla="val 50000"/>
              <a:gd name="adj2" fmla="val 51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4508640"/>
            <a:ext cx="1119240" cy="506160"/>
          </a:xfrm>
          <a:prstGeom prst="leftRightArrow">
            <a:avLst>
              <a:gd name="adj1" fmla="val 50000"/>
              <a:gd name="adj2" fmla="val 440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3573360"/>
            <a:ext cx="452160" cy="519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3573360"/>
            <a:ext cx="452520" cy="5209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2637000"/>
            <a:ext cx="1119240" cy="506160"/>
          </a:xfrm>
          <a:prstGeom prst="leftRightArrow">
            <a:avLst>
              <a:gd name="adj1" fmla="val 50000"/>
              <a:gd name="adj2" fmla="val 44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7720" y="-89388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7720" y="-89388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20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対面授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7720" y="-89388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-93996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549000" cy="601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9160" y="-93996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7720" y="-89388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549000" cy="601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57720" y="-89388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549360" cy="6019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568320" y="2425680"/>
            <a:ext cx="387000" cy="714240"/>
            <a:chOff x="3568320" y="2425680"/>
            <a:chExt cx="387000" cy="714240"/>
          </a:xfrm>
        </p:grpSpPr>
        <p:sp>
          <p:nvSpPr>
            <p:cNvPr id="139" name=""/>
            <p:cNvSpPr/>
            <p:nvPr/>
          </p:nvSpPr>
          <p:spPr>
            <a:xfrm>
              <a:off x="3571560" y="2462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06480" y="2425680"/>
              <a:ext cx="31248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68320" y="2759040"/>
              <a:ext cx="38700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3040" y="2425680"/>
            <a:ext cx="387000" cy="714240"/>
            <a:chOff x="5513040" y="2425680"/>
            <a:chExt cx="387000" cy="714240"/>
          </a:xfrm>
        </p:grpSpPr>
        <p:sp>
          <p:nvSpPr>
            <p:cNvPr id="143" name=""/>
            <p:cNvSpPr/>
            <p:nvPr/>
          </p:nvSpPr>
          <p:spPr>
            <a:xfrm>
              <a:off x="5516280" y="2462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51200" y="2425680"/>
              <a:ext cx="31248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3040" y="2759040"/>
              <a:ext cx="38700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207960" y="3433680"/>
            <a:ext cx="387000" cy="714240"/>
            <a:chOff x="3207960" y="3433680"/>
            <a:chExt cx="387000" cy="714240"/>
          </a:xfrm>
        </p:grpSpPr>
        <p:sp>
          <p:nvSpPr>
            <p:cNvPr id="147" name=""/>
            <p:cNvSpPr/>
            <p:nvPr/>
          </p:nvSpPr>
          <p:spPr>
            <a:xfrm>
              <a:off x="3211200" y="3470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6120" y="3433680"/>
              <a:ext cx="31248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7960" y="3767040"/>
              <a:ext cx="38700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29040" y="3433680"/>
            <a:ext cx="387360" cy="714240"/>
            <a:chOff x="5729040" y="3433680"/>
            <a:chExt cx="387360" cy="714240"/>
          </a:xfrm>
        </p:grpSpPr>
        <p:sp>
          <p:nvSpPr>
            <p:cNvPr id="151" name=""/>
            <p:cNvSpPr/>
            <p:nvPr/>
          </p:nvSpPr>
          <p:spPr>
            <a:xfrm>
              <a:off x="5732640" y="3470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7200" y="3433680"/>
              <a:ext cx="31284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29040" y="3767040"/>
              <a:ext cx="38736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84680" y="4370400"/>
            <a:ext cx="387360" cy="714240"/>
            <a:chOff x="5584680" y="4370400"/>
            <a:chExt cx="387360" cy="714240"/>
          </a:xfrm>
        </p:grpSpPr>
        <p:sp>
          <p:nvSpPr>
            <p:cNvPr id="155" name=""/>
            <p:cNvSpPr/>
            <p:nvPr/>
          </p:nvSpPr>
          <p:spPr>
            <a:xfrm>
              <a:off x="5588280" y="440676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22840" y="4370400"/>
              <a:ext cx="31284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4680" y="4703760"/>
              <a:ext cx="38736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84680" y="5234040"/>
            <a:ext cx="387360" cy="714240"/>
            <a:chOff x="5584680" y="5234040"/>
            <a:chExt cx="387360" cy="714240"/>
          </a:xfrm>
        </p:grpSpPr>
        <p:sp>
          <p:nvSpPr>
            <p:cNvPr id="159" name=""/>
            <p:cNvSpPr/>
            <p:nvPr/>
          </p:nvSpPr>
          <p:spPr>
            <a:xfrm>
              <a:off x="5588280" y="527040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22840" y="5234040"/>
              <a:ext cx="31284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4680" y="5567400"/>
              <a:ext cx="38736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032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講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協調学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4640" y="44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双方向学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3200" y="530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情報提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284640"/>
            <a:ext cx="8353440" cy="28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3200" y="249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体験学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39960" y="1633320"/>
            <a:ext cx="387000" cy="714240"/>
            <a:chOff x="5439960" y="1633320"/>
            <a:chExt cx="387000" cy="714240"/>
          </a:xfrm>
        </p:grpSpPr>
        <p:sp>
          <p:nvSpPr>
            <p:cNvPr id="169" name=""/>
            <p:cNvSpPr/>
            <p:nvPr/>
          </p:nvSpPr>
          <p:spPr>
            <a:xfrm>
              <a:off x="5443200" y="16696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633320"/>
              <a:ext cx="312480" cy="309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9960" y="1966680"/>
              <a:ext cx="38700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568320" y="1633320"/>
            <a:ext cx="387000" cy="714240"/>
            <a:chOff x="3568320" y="1633320"/>
            <a:chExt cx="387000" cy="714240"/>
          </a:xfrm>
        </p:grpSpPr>
        <p:sp>
          <p:nvSpPr>
            <p:cNvPr id="173" name=""/>
            <p:cNvSpPr/>
            <p:nvPr/>
          </p:nvSpPr>
          <p:spPr>
            <a:xfrm>
              <a:off x="3571560" y="16696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6480" y="1633320"/>
              <a:ext cx="312480" cy="3096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8320" y="1966680"/>
              <a:ext cx="387000" cy="380880"/>
            </a:xfrm>
            <a:custGeom>
              <a:avLst/>
              <a:gdLst/>
              <a:ahLst/>
              <a:rect l="l" t="t" r="r" b="b"/>
              <a:pathLst>
                <a:path w="488" h="481">
                  <a:moveTo>
                    <a:pt x="0" y="240"/>
                  </a:moveTo>
                  <a:lnTo>
                    <a:pt x="0" y="215"/>
                  </a:lnTo>
                  <a:lnTo>
                    <a:pt x="6" y="192"/>
                  </a:lnTo>
                  <a:lnTo>
                    <a:pt x="11" y="169"/>
                  </a:lnTo>
                  <a:lnTo>
                    <a:pt x="19" y="146"/>
                  </a:lnTo>
                  <a:lnTo>
                    <a:pt x="29" y="125"/>
                  </a:lnTo>
                  <a:lnTo>
                    <a:pt x="42" y="106"/>
                  </a:lnTo>
                  <a:lnTo>
                    <a:pt x="72" y="71"/>
                  </a:lnTo>
                  <a:lnTo>
                    <a:pt x="108" y="41"/>
                  </a:lnTo>
                  <a:lnTo>
                    <a:pt x="128" y="29"/>
                  </a:lnTo>
                  <a:lnTo>
                    <a:pt x="149" y="20"/>
                  </a:lnTo>
                  <a:lnTo>
                    <a:pt x="172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4" y="0"/>
                  </a:lnTo>
                  <a:lnTo>
                    <a:pt x="269" y="2"/>
                  </a:lnTo>
                  <a:lnTo>
                    <a:pt x="292" y="6"/>
                  </a:lnTo>
                  <a:lnTo>
                    <a:pt x="316" y="12"/>
                  </a:lnTo>
                  <a:lnTo>
                    <a:pt x="339" y="20"/>
                  </a:lnTo>
                  <a:lnTo>
                    <a:pt x="360" y="29"/>
                  </a:lnTo>
                  <a:lnTo>
                    <a:pt x="380" y="41"/>
                  </a:lnTo>
                  <a:lnTo>
                    <a:pt x="416" y="71"/>
                  </a:lnTo>
                  <a:lnTo>
                    <a:pt x="446" y="106"/>
                  </a:lnTo>
                  <a:lnTo>
                    <a:pt x="459" y="125"/>
                  </a:lnTo>
                  <a:lnTo>
                    <a:pt x="469" y="146"/>
                  </a:lnTo>
                  <a:lnTo>
                    <a:pt x="477" y="169"/>
                  </a:lnTo>
                  <a:lnTo>
                    <a:pt x="482" y="192"/>
                  </a:lnTo>
                  <a:lnTo>
                    <a:pt x="486" y="215"/>
                  </a:lnTo>
                  <a:lnTo>
                    <a:pt x="488" y="240"/>
                  </a:lnTo>
                  <a:lnTo>
                    <a:pt x="488" y="481"/>
                  </a:lnTo>
                  <a:lnTo>
                    <a:pt x="0" y="48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0800000">
            <a:off x="4211280" y="1773360"/>
            <a:ext cx="1079640" cy="519120"/>
          </a:xfrm>
          <a:prstGeom prst="leftArrow">
            <a:avLst>
              <a:gd name="adj1" fmla="val 50000"/>
              <a:gd name="adj2" fmla="val 519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4365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ＭＳ Ｐゴシック"/>
              </a:rPr>
              <a:t>e</a:t>
            </a:r>
            <a:r>
              <a:rPr b="0" lang="zh-CN" sz="3200" spc="-1" strike="noStrike">
                <a:solidFill>
                  <a:srgbClr val="006699"/>
                </a:solidFill>
                <a:latin typeface="ＭＳ Ｐゴシック"/>
              </a:rPr>
              <a:t>ラーニン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5084640"/>
            <a:ext cx="287280" cy="3603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38920" y="4941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78ae"/>
                </a:solidFill>
                <a:latin typeface="Palatino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659640" y="5589720"/>
            <a:ext cx="393480" cy="431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948360" y="5516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78ae"/>
                </a:solidFill>
                <a:latin typeface="Palatino"/>
              </a:rPr>
              <a:t>中に教員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の実際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pic>
        <p:nvPicPr>
          <p:cNvPr id="1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484280"/>
            <a:ext cx="5975280" cy="4948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3357720"/>
            <a:ext cx="4032000" cy="100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078ae"/>
                </a:solidFill>
                <a:latin typeface="Palatino"/>
              </a:rPr>
              <a:t>ログイン：ｓｌｃｎｓｔｕｄｅｎｔ</a:t>
            </a:r>
            <a:br>
              <a:rPr sz="3000"/>
            </a:br>
            <a:r>
              <a:rPr b="0" lang="zh-CN" sz="3000" spc="-1" strike="noStrike">
                <a:solidFill>
                  <a:srgbClr val="6078ae"/>
                </a:solidFill>
                <a:latin typeface="Palatino"/>
              </a:rPr>
              <a:t>パスワード：</a:t>
            </a:r>
            <a:r>
              <a:rPr b="0" lang="en-US" sz="3000" spc="-1" strike="noStrike">
                <a:solidFill>
                  <a:srgbClr val="6078ae"/>
                </a:solidFill>
                <a:latin typeface="Palatino"/>
              </a:rPr>
              <a:t>ma5yp2k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のメリット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コンピュータ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ネットワーク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を利用した教育･学習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ＭＳ Ｐゴシック"/>
              </a:rPr>
              <a:t>Web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接続のパソコン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があれば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いつでも、どこでも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理解度を確認しつつ（即時フィードバック、進捗把握）、学習者のペースで、わかるまで、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個別的、主体的、自立的、効率的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更新された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最新教材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にアクセス可能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教材を公開し学びたいことを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自由に検索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が可能　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学習情報を共有する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学習コミュニティ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形成が容易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 algn="just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8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公開により興味や関心のあることを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誰でも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学習可能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による変化　学習者中心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 fontScale="88000"/>
          </a:bodyPr>
          <a:p>
            <a:pPr marL="654840" indent="-38952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教える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から</a:t>
            </a: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学ぶ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へ　教育者中心から学習者中心へ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54840" indent="-38952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多様な学習者への</a:t>
            </a: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個別対応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時間拡大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→基礎知識、テストは効率化して時間確保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54840" indent="-38952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競争と連携（講師・</a:t>
            </a: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授業共有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→「どこで」より「</a:t>
            </a: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誰から何を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」学ぶ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54840" indent="-38952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形成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組織、専門職は、学習による質の保証をアピール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社会貢献として</a:t>
            </a:r>
            <a:r>
              <a:rPr b="0" lang="ja-JP" sz="2800" spc="-1" strike="noStrike">
                <a:solidFill>
                  <a:srgbClr val="006699"/>
                </a:solidFill>
                <a:latin typeface="ＭＳ 明朝"/>
              </a:rPr>
              <a:t>市民とともに生涯学習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54840" indent="-38952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ウェブサイト＋</a:t>
            </a:r>
            <a:r>
              <a:rPr b="0" lang="ja-JP" sz="2800" spc="-1" strike="noStrike">
                <a:solidFill>
                  <a:srgbClr val="006699"/>
                </a:solidFill>
                <a:latin typeface="ＭＳ Ｐゴシック"/>
              </a:rPr>
              <a:t>ブログ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＋掲示板　市民の知の共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654840" indent="-389520"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7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2800" spc="-1" strike="noStrike">
                <a:solidFill>
                  <a:srgbClr val="006699"/>
                </a:solidFill>
                <a:latin typeface="ＭＳ 明朝"/>
              </a:rPr>
              <a:t>無料の百科事典　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Wikipedia</a:t>
            </a:r>
            <a:r>
              <a:rPr b="0" lang="ja-JP" sz="2800" spc="-1" strike="noStrike">
                <a:solidFill>
                  <a:srgbClr val="000000"/>
                </a:solidFill>
                <a:latin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明朝"/>
              </a:rPr>
              <a:t>　市民がつく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c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２つのブレンデッドラーニングへ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276640"/>
            <a:ext cx="4038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対象と内容にあわせ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対面授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シミュレーション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BT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協調学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遠隔講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図書、メディア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　データベ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8960" y="2276640"/>
            <a:ext cx="161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zh-CN" sz="3000" spc="-1" strike="noStrike">
                <a:solidFill>
                  <a:srgbClr val="000000"/>
                </a:solidFill>
                <a:latin typeface="Palatino"/>
              </a:rPr>
              <a:t>ラーニング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Palatino"/>
              </a:rPr>
              <a:t>（予習、入門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>
              <a:alpha val="25000"/>
            </a:srgbClr>
          </a:solid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5680" y="3860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Palatino"/>
              </a:rPr>
              <a:t>対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450864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>
              <a:alpha val="25000"/>
            </a:srgbClr>
          </a:solid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0480" y="5013360"/>
            <a:ext cx="161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zh-CN" sz="3000" spc="-1" strike="noStrike">
                <a:solidFill>
                  <a:srgbClr val="000000"/>
                </a:solidFill>
                <a:latin typeface="Palatino"/>
              </a:rPr>
              <a:t>ラーニング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Palatino"/>
              </a:rPr>
              <a:t>（復習、試験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3320"/>
            <a:ext cx="8515440" cy="960480"/>
          </a:xfrm>
          <a:prstGeom prst="rect">
            <a:avLst/>
          </a:prstGeom>
          <a:noFill/>
          <a:ln w="0">
            <a:noFill/>
          </a:ln>
        </p:spPr>
        <p:txBody>
          <a:bodyPr lIns="123480" rIns="147960" tIns="0" bIns="0" anchor="ctr">
            <a:noAutofit/>
          </a:bodyPr>
          <a:p>
            <a:pPr marL="22320"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大学での</a:t>
            </a:r>
            <a:r>
              <a:rPr b="0" lang="en-US" sz="4000" spc="-1" strike="noStrike">
                <a:solidFill>
                  <a:srgbClr val="3f3f3f"/>
                </a:solidFill>
                <a:latin typeface="ＭＳ Ｐゴシック"/>
              </a:rPr>
              <a:t>e</a:t>
            </a:r>
            <a:r>
              <a:rPr b="0" lang="zh-CN" sz="4000" spc="-1" strike="noStrike">
                <a:solidFill>
                  <a:srgbClr val="3f3f3f"/>
                </a:solidFill>
                <a:latin typeface="ＭＳ Ｐゴシック"/>
              </a:rPr>
              <a:t>ラーニング導入の現状</a:t>
            </a:r>
            <a:endParaRPr b="0" lang="en-US" sz="4000" spc="-1" strike="noStrike">
              <a:solidFill>
                <a:srgbClr val="3f3f3f"/>
              </a:solidFill>
              <a:latin typeface="ＭＳ Ｐゴシック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7800" y="166860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0" bIns="0" anchor="ctr">
            <a:normAutofit/>
          </a:bodyPr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年大学設置基準改正、半分弱の単位（通信制は全部）</a:t>
            </a:r>
            <a:r>
              <a:rPr b="0" lang="zh-CN" sz="2800" spc="-1" strike="noStrike">
                <a:solidFill>
                  <a:srgbClr val="006699"/>
                </a:solidFill>
                <a:latin typeface="ＭＳ Ｐゴシック"/>
              </a:rPr>
              <a:t>インターネットで履修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可能、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年大学院も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ＭＳ Ｐゴシック"/>
                <a:hlinkClick r:id="rId4"/>
              </a:rPr>
              <a:t>日本オープンコースウェア・コンソーシア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授業を無料一般公開　自由かつ制約のない「知」 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MIT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（マサチューセッツ工科大学）</a:t>
            </a: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全教材を無料公開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ワシントン大学看護学部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ＭＳ Ｐゴシック"/>
                <a:hlinkClick r:id="rId7"/>
              </a:rPr>
              <a:t>Donna Berry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がん看護と健康情報学）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何らかのかたちで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ラーニング化は１００％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744480" indent="-442800">
              <a:spcBef>
                <a:spcPts val="349"/>
              </a:spcBef>
              <a:spcAft>
                <a:spcPts val="1049"/>
              </a:spcAft>
              <a:buSzPct val="100000"/>
              <a:buBlip>
                <a:blip r:embed="rId8"/>
              </a:buBlip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大阪府立大学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ＭＳ Ｐゴシック"/>
                <a:hlinkClick r:id="rId9"/>
              </a:rPr>
              <a:t>看護実践能力の獲得を支援するe-Learnin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ＭＳ Ｐゴシック"/>
                <a:hlinkClick r:id="rId1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7:57:41Z</dcterms:created>
  <dc:creator>nakayama</dc:creator>
  <dc:description/>
  <dc:language>en-US</dc:language>
  <cp:lastModifiedBy>nakayama</cp:lastModifiedBy>
  <dcterms:modified xsi:type="dcterms:W3CDTF">2006-08-20T13:04:46Z</dcterms:modified>
  <cp:revision>233</cp:revision>
  <dc:subject/>
  <dc:title>eラーニングによる教育者中心から学習者中心への転換</dc:title>
</cp:coreProperties>
</file>