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2801600" cy="96012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65520" rIns="65520" tIns="32760" bIns="327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65520" rIns="65520" tIns="32760" bIns="327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9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65520" rIns="6552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move the slide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65520" rIns="65520" tIns="32760" bIns="32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65520" rIns="65520" tIns="32760" bIns="327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65520" rIns="65520" tIns="32760" bIns="32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9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30300624-E092-4F1F-A07A-2856BF597127}" type="slidenum">
              <a:rPr b="0" lang="ja-JP" sz="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スライド番号プレースホルダ 3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520" rIns="65520" tIns="32760" bIns="32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B97453F3-0FCD-4BCF-8286-7D67EBDD4FFA}" type="slidenum">
              <a:rPr b="0" lang="ja-JP" sz="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 Pゴシック体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31B8-B399-4D51-A6B2-4BE13D7C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7606-2405-4320-9809-1440049F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441EF-EB96-4112-B533-BA76B618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7223EA-B1DB-4BFC-B984-6B2B53D2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22280" y="320760"/>
            <a:ext cx="11949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DA2741-CF17-46A5-BD03-9B8D056C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B5CB5D-3ACE-4040-81E3-BA874850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DCB52-DB72-4785-8BA3-B7C51A0D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FEBDD-5F58-4BF2-85C8-51D3589C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F6B30-BAD2-4ED2-A80C-9D64D4A7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B23F4-BF80-4175-A0F5-2305F6FF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46220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5024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222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46220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5024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FD1B45-9D3E-4990-8E25-09313021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B00734-E678-47D2-A1E0-D562C3F1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2FF-ECF4-473D-B200-32CA0A37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3F4B9C-7225-49F1-95E6-513FB9AC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6B1A28-D556-4FA5-839E-E699882A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B7CFFC-FA9A-4F38-B448-B1B14F9A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75DAE7-C039-4E4E-9F7F-DC9B67F9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22280" y="320760"/>
            <a:ext cx="11949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0A7E0-FCDD-449F-A61E-6B730BAB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79F5A3-FBCC-4477-A71B-37D30521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AD3B5-2450-444B-B7A8-35488B0F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9E5EE-CD45-45BD-92C4-4F2CF3B1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53CF53-A8D2-47A5-823D-96AF186A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59FE6-B7FC-47D6-BB04-08EFB9E4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6220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5024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222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46220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5024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995B-CEB7-45A6-894C-7453ECD0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46220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5024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222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46220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85024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505DF2-2167-4307-A8C5-B0817F8A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0149C-D8EC-4997-96E8-C48921C2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C8FB4-5524-4354-AD17-D4308ED3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2370C-3CD1-4990-922E-78E3D47F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49057-9577-446E-BF9D-B291AA7D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DB3C7-19AF-4AE7-9B74-44E5ADD2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22280" y="320760"/>
            <a:ext cx="11949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3ADB0-2E30-4D55-8266-DCAB163B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4ABAC-E2A1-4759-82AC-0BD22C19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78940-F086-4D27-A086-AAEA6475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77295-6807-4344-9B69-FA4D01D7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083C-B49E-44E8-BEF3-77EB84D6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6535A-6D4E-4EAF-BFC0-B4ADACCD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A1C32-80B9-4B42-A48D-EABA842A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46220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5024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222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446220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85024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C68C2-8336-408D-B29C-190937A7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4D100-747E-4F0C-96AD-C971F820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C8D81D-D0D2-471F-B854-82F6E28F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C37D91-E291-4D31-AB38-35FDCD88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C535C8-4E71-4C4C-8206-ECBB0980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908E83-E1D9-44E0-8A11-108EE5D7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22280" y="320760"/>
            <a:ext cx="11949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CB20A4-4C46-4477-9BB6-E944E3F6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0DBE07-6041-49C9-B452-248B0ED3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AFE2-468E-4806-830A-1CBB3579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BB0E2-5DBD-4D12-AA67-9A25B214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C55FA5-B90C-4225-B06D-7DB674F9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A1E96D-DE6C-4E7B-B59B-314E77A1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BECCDA-EB1B-4334-B286-C24A71CC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46220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5024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222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446220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85024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66A2EE-3AD2-48D7-B570-2B36F1CE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B3A5-1784-4662-A9AA-C28571A8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9F2A-A74C-4D86-BC5B-CB7B6CE9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22DA-16E1-400C-8942-553287CC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2280" y="320760"/>
            <a:ext cx="11949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1E4C-CBDA-4579-BFC5-E22CB644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2038-4181-491D-8FAF-C7EEFD95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58E1-9890-43B0-BF2D-693DEF35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3C2A-DBEF-4232-B069-B5D9A180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E1FC-779B-40C7-83AC-E536D6FA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290A-FC45-4D11-AA83-C8DA74CD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5995-8280-491F-AD7E-5767C07D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6220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5024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222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46220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5024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2140-16C1-4311-841E-30A0255A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93BE3-722C-41A1-A8E6-C9F132B4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E0F57-EE7D-4178-B064-F9AC98FC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6BDE4-8D5F-4D0D-BA6E-E56C1221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5D918-9260-4713-9119-C2CD0386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32C89-6E0E-42EE-ACEE-7D556BDC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29CF-C42B-4898-9B82-4441A1CB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22280" y="320760"/>
            <a:ext cx="11949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1CB91-6183-4995-9BEA-7C8ABE58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156F7-BE49-471B-B3AE-2BD1F224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7AE79-22F4-46CB-AE77-B6E20023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7D328-0EAC-4C86-A952-8A29D473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21A1D-DC31-4C4E-8E79-1E6D6727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F6E4F-A882-4AB6-A8B1-17A321E0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6220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024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222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46220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5024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23DBF-09F0-46F9-BEB7-1BB6F0EE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A1BD2-AAE6-4760-A388-84A3CA6E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ED6BA-661E-42A8-B6A3-CA2E1DD1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4AF7D-1778-4A31-A083-C734CAEB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6AB5-3172-479B-B3A2-798FBD32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E24FB-55CA-459F-A378-41C03C93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26D0C-A881-4CEE-BDA3-C0906ADD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22280" y="320760"/>
            <a:ext cx="11949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2759F-C179-4DEB-A105-C271FAE5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05AF1-1AF0-4199-A3DF-DE0489F6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A2603-C44D-4A53-9375-58AEC7AB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884A5-36FC-451C-9750-A36BE0AE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F06CF-1CED-4F2B-995C-A43C4354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CB77D-4A24-4023-8F84-CAAEC90B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6220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5024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222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46220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85024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E195D-96DA-47C5-84B3-593F96F8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B6CA4-2EA0-4785-916E-D8BC5F79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F4F1-AA88-46F0-A153-F24CB9F3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9F300-681D-42C1-A208-7A4FAF91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3D6E2-35C2-4E5D-827C-A62A4A96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3B70E-FC00-4615-8E2B-A02D0BA4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A002E-61F1-4A37-869C-014E84AB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22280" y="320760"/>
            <a:ext cx="11949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DB480-EE82-45A6-AEEF-C9B512F9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6155B-9E13-42B7-B7FE-B0AA1374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1F621-7D72-419D-B7EF-776D7E72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55D57-CC59-46B9-8CD4-CC636D2F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6DAE9-D414-48D8-9493-BB7ED002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6569A-D05C-438B-A45A-BF131662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22280" y="320760"/>
            <a:ext cx="11949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378-90A3-4DF6-9606-0D3EA8BE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6220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5024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222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46220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5024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B80CF-7C4F-48E4-992E-754425A4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FFF10-600D-462F-B601-0DD050E3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AA082-21D6-4B5D-882A-F7CDA0E4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530E5-2708-4564-8E45-69D37055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1E649-8266-4765-9E9A-B1AA0C1E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CD87F-1FAA-4848-B2B2-4B7EB659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22280" y="320760"/>
            <a:ext cx="11949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6FB65-D228-4B77-BB26-D972466C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18421-7E08-4E30-A60B-7094B58B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7C9CF-AAF8-48D3-800F-64052930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6837C-2913-4578-A7CC-56E121EC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E21B-81D1-4836-8F44-5BA7C41E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4FEE1-B6E2-4ADD-9248-F1FFB38D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AB78A-2A5F-4A73-B892-F23FBFFF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46220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5024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222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46220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5024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02180-8430-4932-822B-9475E3F1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39A9B-5F88-42E4-A342-B20CFE48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4632B-0DD4-49FF-8F5F-C3F180D8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362BA-2D61-4F77-B093-33870924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C93C9-334A-4010-B353-72707BD7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1E80E-AC54-4616-B676-5486BE52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22280" y="320760"/>
            <a:ext cx="11949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658C5-274A-4E08-807C-32C5A968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6CBFB-460C-4688-9D20-E5D2EE01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477-870B-4CF0-AF8D-95C92950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FD39B-4DAB-48EE-82CF-4BD42370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FFF65-0D0E-40A1-8FD7-7DB9DB1B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A000A-0DC6-4485-BEBF-82270DB9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60266-4AF5-439C-A3A1-C3EF84C4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46220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5024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222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46220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85024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90F78-DB0B-4288-950D-0E33DADE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1CCC6-748A-4446-8F1F-0CE8B95F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933B8-4C51-4EA6-9D60-FF2E934C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A4F9E-89B1-4C37-B56A-30B4218B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81798-E2FD-4F7C-8E55-4348946C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22D82-5C71-4791-9A99-DAC9E24E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A60C-4B15-4CBF-B277-05CC2620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22280" y="320760"/>
            <a:ext cx="119491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2352D-0313-4567-8E33-E700D380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9A91B-CC77-4929-9758-6D3F0E5B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7DBE8-A68F-4292-87F9-25B99D2D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90F8C-74C2-47F8-A453-5E195A58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22280" y="5497200"/>
            <a:ext cx="119491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B22BD-40C4-422B-AA3F-C0805DB7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545160" y="213372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2228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545160" y="5497200"/>
            <a:ext cx="58309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0BA4F-11E8-4E26-8FF0-6A3C817F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46220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502480" y="213372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222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446220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8502480" y="5497200"/>
            <a:ext cx="3847320" cy="307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B6617-7639-40D2-A802-55DEE079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48A783-9EC7-4872-B1D7-030025EA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701BB-2CEB-4944-B95E-670D6F59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79D650-0F55-4F78-A00B-5632908A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16"/>
          <p:cNvSpPr/>
          <p:nvPr/>
        </p:nvSpPr>
        <p:spPr>
          <a:xfrm>
            <a:off x="0" y="938844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" name="正方形/長方形 15"/>
          <p:cNvSpPr/>
          <p:nvPr/>
        </p:nvSpPr>
        <p:spPr>
          <a:xfrm>
            <a:off x="0" y="0"/>
            <a:ext cx="12801600" cy="195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" name="正方形/長方形 17"/>
          <p:cNvSpPr/>
          <p:nvPr/>
        </p:nvSpPr>
        <p:spPr>
          <a:xfrm>
            <a:off x="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" name="正方形/長方形 18"/>
          <p:cNvSpPr/>
          <p:nvPr/>
        </p:nvSpPr>
        <p:spPr>
          <a:xfrm>
            <a:off x="1258884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" name="正方形/長方形 8"/>
          <p:cNvSpPr/>
          <p:nvPr/>
        </p:nvSpPr>
        <p:spPr>
          <a:xfrm>
            <a:off x="209520" y="8943840"/>
            <a:ext cx="12366720" cy="4334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8106840" y="8966160"/>
            <a:ext cx="4264200" cy="512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426960" y="8975880"/>
            <a:ext cx="501336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7" name="正方形/長方形 7"/>
          <p:cNvSpPr/>
          <p:nvPr/>
        </p:nvSpPr>
        <p:spPr>
          <a:xfrm>
            <a:off x="212760" y="217440"/>
            <a:ext cx="12366720" cy="916632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8" name="直線コネクタ 9"/>
          <p:cNvSpPr/>
          <p:nvPr/>
        </p:nvSpPr>
        <p:spPr>
          <a:xfrm>
            <a:off x="212760" y="1787400"/>
            <a:ext cx="1236672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-63720" bIns="-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9" name="円/楕円 11"/>
          <p:cNvSpPr/>
          <p:nvPr/>
        </p:nvSpPr>
        <p:spPr>
          <a:xfrm>
            <a:off x="5973840" y="1338120"/>
            <a:ext cx="853920" cy="85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0" name="円/楕円 14"/>
          <p:cNvSpPr/>
          <p:nvPr/>
        </p:nvSpPr>
        <p:spPr>
          <a:xfrm>
            <a:off x="6107040" y="1469880"/>
            <a:ext cx="587520" cy="588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080040" y="1455840"/>
            <a:ext cx="641520" cy="6192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64080" bIns="64080" anchor="ctr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2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E54BEEDF-16F0-4901-A80B-03DCA746D801}" type="slidenum">
              <a:rPr b="0" lang="ja-JP" sz="22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edit the title text format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1" marL="766800" indent="-382680">
              <a:spcBef>
                <a:spcPts val="9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spcBef>
                <a:spcPts val="950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3" marL="1535040" indent="-318960">
              <a:spcBef>
                <a:spcPts val="950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4" marL="1919160" indent="-318960">
              <a:spcBef>
                <a:spcPts val="950"/>
              </a:spcBef>
              <a:buClr>
                <a:srgbClr val="918485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5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6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直線コネクタ 19"/>
          <p:cNvSpPr/>
          <p:nvPr/>
        </p:nvSpPr>
        <p:spPr>
          <a:xfrm>
            <a:off x="212760" y="746280"/>
            <a:ext cx="1236672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-63720" bIns="-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55" name="正方形/長方形 20"/>
          <p:cNvSpPr/>
          <p:nvPr/>
        </p:nvSpPr>
        <p:spPr>
          <a:xfrm>
            <a:off x="0" y="938844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56" name="正方形/長方形 23"/>
          <p:cNvSpPr/>
          <p:nvPr/>
        </p:nvSpPr>
        <p:spPr>
          <a:xfrm>
            <a:off x="1258884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57" name="正方形/長方形 24"/>
          <p:cNvSpPr/>
          <p:nvPr/>
        </p:nvSpPr>
        <p:spPr>
          <a:xfrm>
            <a:off x="0" y="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58" name="正方形/長方形 25"/>
          <p:cNvSpPr/>
          <p:nvPr/>
        </p:nvSpPr>
        <p:spPr>
          <a:xfrm>
            <a:off x="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59" name="正方形/長方形 26"/>
          <p:cNvSpPr/>
          <p:nvPr/>
        </p:nvSpPr>
        <p:spPr>
          <a:xfrm>
            <a:off x="212760" y="212760"/>
            <a:ext cx="12366720" cy="42372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60" name="正方形/長方形 27"/>
          <p:cNvSpPr/>
          <p:nvPr/>
        </p:nvSpPr>
        <p:spPr>
          <a:xfrm>
            <a:off x="212760" y="853920"/>
            <a:ext cx="3841560" cy="82137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61" name="正方形/長方形 28"/>
          <p:cNvSpPr/>
          <p:nvPr/>
        </p:nvSpPr>
        <p:spPr>
          <a:xfrm>
            <a:off x="212760" y="217440"/>
            <a:ext cx="12366720" cy="916632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62" name="円/楕円 29"/>
          <p:cNvSpPr/>
          <p:nvPr/>
        </p:nvSpPr>
        <p:spPr>
          <a:xfrm>
            <a:off x="1812960" y="320760"/>
            <a:ext cx="853920" cy="852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63" name="円/楕円 30"/>
          <p:cNvSpPr/>
          <p:nvPr/>
        </p:nvSpPr>
        <p:spPr>
          <a:xfrm>
            <a:off x="1946160" y="452520"/>
            <a:ext cx="588960" cy="588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64" name="正方形/長方形 31"/>
          <p:cNvSpPr/>
          <p:nvPr/>
        </p:nvSpPr>
        <p:spPr>
          <a:xfrm>
            <a:off x="209520" y="8943840"/>
            <a:ext cx="12366720" cy="4334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edit the title text format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1" marL="766800" indent="-382680">
              <a:spcBef>
                <a:spcPts val="9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spcBef>
                <a:spcPts val="950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3" marL="1535040" indent="-318960">
              <a:spcBef>
                <a:spcPts val="950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4" marL="1919160" indent="-318960">
              <a:spcBef>
                <a:spcPts val="950"/>
              </a:spcBef>
              <a:buClr>
                <a:srgbClr val="918485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5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6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920600" y="437760"/>
            <a:ext cx="639720" cy="6174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64080" bIns="64080" anchor="ctr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2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4F34EBC1-8C4E-4E30-9D67-6B4B6408BD2F}" type="slidenum">
              <a:rPr b="0" lang="ja-JP" sz="22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8104320" y="8966160"/>
            <a:ext cx="4262400" cy="512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421920" y="8975880"/>
            <a:ext cx="501804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正方形/長方形 16"/>
          <p:cNvSpPr/>
          <p:nvPr/>
        </p:nvSpPr>
        <p:spPr>
          <a:xfrm>
            <a:off x="0" y="938844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07" name="正方形/長方形 15"/>
          <p:cNvSpPr/>
          <p:nvPr/>
        </p:nvSpPr>
        <p:spPr>
          <a:xfrm>
            <a:off x="0" y="0"/>
            <a:ext cx="12801600" cy="195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08" name="正方形/長方形 17"/>
          <p:cNvSpPr/>
          <p:nvPr/>
        </p:nvSpPr>
        <p:spPr>
          <a:xfrm>
            <a:off x="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09" name="正方形/長方形 18"/>
          <p:cNvSpPr/>
          <p:nvPr/>
        </p:nvSpPr>
        <p:spPr>
          <a:xfrm>
            <a:off x="1258884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10" name="正方形/長方形 8"/>
          <p:cNvSpPr/>
          <p:nvPr/>
        </p:nvSpPr>
        <p:spPr>
          <a:xfrm>
            <a:off x="209520" y="8943840"/>
            <a:ext cx="12366720" cy="4334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11" name="正方形/長方形 7"/>
          <p:cNvSpPr/>
          <p:nvPr/>
        </p:nvSpPr>
        <p:spPr>
          <a:xfrm>
            <a:off x="212760" y="217440"/>
            <a:ext cx="12366720" cy="916632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12" name="直線コネクタ 9"/>
          <p:cNvSpPr/>
          <p:nvPr/>
        </p:nvSpPr>
        <p:spPr>
          <a:xfrm>
            <a:off x="212760" y="1787400"/>
            <a:ext cx="1236672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-63720" bIns="-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13" name="円/楕円 11"/>
          <p:cNvSpPr/>
          <p:nvPr/>
        </p:nvSpPr>
        <p:spPr>
          <a:xfrm>
            <a:off x="5973840" y="1338120"/>
            <a:ext cx="853920" cy="85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14" name="円/楕円 14"/>
          <p:cNvSpPr/>
          <p:nvPr/>
        </p:nvSpPr>
        <p:spPr>
          <a:xfrm>
            <a:off x="6107040" y="1469880"/>
            <a:ext cx="587520" cy="588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edit the title text format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1" marL="766800" indent="-382680">
              <a:spcBef>
                <a:spcPts val="9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spcBef>
                <a:spcPts val="950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3" marL="1535040" indent="-318960">
              <a:spcBef>
                <a:spcPts val="950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4" marL="1919160" indent="-318960">
              <a:spcBef>
                <a:spcPts val="950"/>
              </a:spcBef>
              <a:buClr>
                <a:srgbClr val="918485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5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6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8106840" y="8966160"/>
            <a:ext cx="4264200" cy="512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426960" y="8975880"/>
            <a:ext cx="501336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6080040" y="1455840"/>
            <a:ext cx="641520" cy="6192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64080" bIns="64080" anchor="ctr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2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E09642CA-2AD0-4A86-8410-FF8F3E81081F}" type="slidenum">
              <a:rPr b="0" lang="ja-JP" sz="22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正方形/長方形 19"/>
          <p:cNvSpPr/>
          <p:nvPr/>
        </p:nvSpPr>
        <p:spPr>
          <a:xfrm>
            <a:off x="0" y="938844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57" name="正方形/長方形 20"/>
          <p:cNvSpPr/>
          <p:nvPr/>
        </p:nvSpPr>
        <p:spPr>
          <a:xfrm>
            <a:off x="9813960" y="0"/>
            <a:ext cx="298764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58" name="正方形/長方形 23"/>
          <p:cNvSpPr/>
          <p:nvPr/>
        </p:nvSpPr>
        <p:spPr>
          <a:xfrm>
            <a:off x="0" y="0"/>
            <a:ext cx="1280160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59" name="正方形/長方形 24"/>
          <p:cNvSpPr/>
          <p:nvPr/>
        </p:nvSpPr>
        <p:spPr>
          <a:xfrm>
            <a:off x="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60" name="正方形/長方形 25"/>
          <p:cNvSpPr/>
          <p:nvPr/>
        </p:nvSpPr>
        <p:spPr>
          <a:xfrm>
            <a:off x="204840" y="8948880"/>
            <a:ext cx="12366720" cy="43308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61" name="正方形/長方形 26"/>
          <p:cNvSpPr/>
          <p:nvPr/>
        </p:nvSpPr>
        <p:spPr>
          <a:xfrm>
            <a:off x="212760" y="217440"/>
            <a:ext cx="12366720" cy="916632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62" name="直線コネクタ 27"/>
          <p:cNvSpPr/>
          <p:nvPr/>
        </p:nvSpPr>
        <p:spPr>
          <a:xfrm>
            <a:off x="10002960" y="217440"/>
            <a:ext cx="0" cy="874404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63" name="円/楕円 28"/>
          <p:cNvSpPr/>
          <p:nvPr/>
        </p:nvSpPr>
        <p:spPr>
          <a:xfrm>
            <a:off x="9575640" y="4095720"/>
            <a:ext cx="852480" cy="85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64" name="円/楕円 29"/>
          <p:cNvSpPr/>
          <p:nvPr/>
        </p:nvSpPr>
        <p:spPr>
          <a:xfrm>
            <a:off x="9707400" y="4229280"/>
            <a:ext cx="588960" cy="5871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edit the title text format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1" marL="766800" indent="-382680">
              <a:spcBef>
                <a:spcPts val="9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spcBef>
                <a:spcPts val="950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3" marL="1535040" indent="-318960">
              <a:spcBef>
                <a:spcPts val="950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4" marL="1919160" indent="-318960">
              <a:spcBef>
                <a:spcPts val="950"/>
              </a:spcBef>
              <a:buClr>
                <a:srgbClr val="918485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5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6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9681840" y="4213080"/>
            <a:ext cx="639720" cy="6192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64080" bIns="64080" anchor="ctr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2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D5B3CD8C-7A5D-408C-ADEF-5A489C08C07C}" type="slidenum">
              <a:rPr b="0" lang="ja-JP" sz="22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8106840" y="8966160"/>
            <a:ext cx="4264200" cy="512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426960" y="8975880"/>
            <a:ext cx="501336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正方形/長方形 19"/>
          <p:cNvSpPr/>
          <p:nvPr/>
        </p:nvSpPr>
        <p:spPr>
          <a:xfrm>
            <a:off x="0" y="938844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1" name="正方形/長方形 20"/>
          <p:cNvSpPr/>
          <p:nvPr/>
        </p:nvSpPr>
        <p:spPr>
          <a:xfrm>
            <a:off x="12588840" y="468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2" name="正方形/長方形 23"/>
          <p:cNvSpPr/>
          <p:nvPr/>
        </p:nvSpPr>
        <p:spPr>
          <a:xfrm>
            <a:off x="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3" name="正方形/長方形 24"/>
          <p:cNvSpPr/>
          <p:nvPr/>
        </p:nvSpPr>
        <p:spPr>
          <a:xfrm>
            <a:off x="0" y="0"/>
            <a:ext cx="12801600" cy="352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4" name="正方形/長方形 25"/>
          <p:cNvSpPr/>
          <p:nvPr/>
        </p:nvSpPr>
        <p:spPr>
          <a:xfrm>
            <a:off x="204840" y="8948880"/>
            <a:ext cx="12366720" cy="43308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5" name="直線コネクタ 26"/>
          <p:cNvSpPr/>
          <p:nvPr/>
        </p:nvSpPr>
        <p:spPr>
          <a:xfrm>
            <a:off x="217440" y="3387600"/>
            <a:ext cx="1236672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-63720" bIns="-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6" name="正方形/長方形 27"/>
          <p:cNvSpPr/>
          <p:nvPr/>
        </p:nvSpPr>
        <p:spPr>
          <a:xfrm>
            <a:off x="212760" y="212760"/>
            <a:ext cx="12366720" cy="916632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7" name="円/楕円 28"/>
          <p:cNvSpPr/>
          <p:nvPr/>
        </p:nvSpPr>
        <p:spPr>
          <a:xfrm>
            <a:off x="5973840" y="2960640"/>
            <a:ext cx="853920" cy="85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8" name="円/楕円 29"/>
          <p:cNvSpPr/>
          <p:nvPr/>
        </p:nvSpPr>
        <p:spPr>
          <a:xfrm>
            <a:off x="6107040" y="3094200"/>
            <a:ext cx="587520" cy="588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edit the title text format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1" marL="766800" indent="-382680">
              <a:spcBef>
                <a:spcPts val="9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spcBef>
                <a:spcPts val="950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3" marL="1535040" indent="-318960">
              <a:spcBef>
                <a:spcPts val="950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4" marL="1919160" indent="-318960">
              <a:spcBef>
                <a:spcPts val="950"/>
              </a:spcBef>
              <a:buClr>
                <a:srgbClr val="918485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5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6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8106840" y="8966160"/>
            <a:ext cx="4264200" cy="512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26960" y="8975880"/>
            <a:ext cx="501336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080040" y="3079440"/>
            <a:ext cx="641520" cy="6174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64080" bIns="64080" anchor="ctr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2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EC1ADFEA-5057-49B9-8AC3-AB512B915DD0}" type="slidenum">
              <a:rPr b="0" lang="ja-JP" sz="22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正方形/長方形 16"/>
          <p:cNvSpPr/>
          <p:nvPr/>
        </p:nvSpPr>
        <p:spPr>
          <a:xfrm>
            <a:off x="0" y="938844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01" name="正方形/長方形 15"/>
          <p:cNvSpPr/>
          <p:nvPr/>
        </p:nvSpPr>
        <p:spPr>
          <a:xfrm>
            <a:off x="0" y="0"/>
            <a:ext cx="12801600" cy="195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02" name="正方形/長方形 17"/>
          <p:cNvSpPr/>
          <p:nvPr/>
        </p:nvSpPr>
        <p:spPr>
          <a:xfrm>
            <a:off x="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03" name="正方形/長方形 18"/>
          <p:cNvSpPr/>
          <p:nvPr/>
        </p:nvSpPr>
        <p:spPr>
          <a:xfrm>
            <a:off x="1258884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04" name="正方形/長方形 8"/>
          <p:cNvSpPr/>
          <p:nvPr/>
        </p:nvSpPr>
        <p:spPr>
          <a:xfrm>
            <a:off x="209520" y="8943840"/>
            <a:ext cx="12366720" cy="4334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05" name="正方形/長方形 7"/>
          <p:cNvSpPr/>
          <p:nvPr/>
        </p:nvSpPr>
        <p:spPr>
          <a:xfrm>
            <a:off x="212760" y="217440"/>
            <a:ext cx="12366720" cy="916632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06" name="直線コネクタ 9"/>
          <p:cNvSpPr/>
          <p:nvPr/>
        </p:nvSpPr>
        <p:spPr>
          <a:xfrm>
            <a:off x="212760" y="1787400"/>
            <a:ext cx="1236672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-63720" bIns="-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07" name="円/楕円 11"/>
          <p:cNvSpPr/>
          <p:nvPr/>
        </p:nvSpPr>
        <p:spPr>
          <a:xfrm>
            <a:off x="5973840" y="1338120"/>
            <a:ext cx="853920" cy="85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08" name="円/楕円 14"/>
          <p:cNvSpPr/>
          <p:nvPr/>
        </p:nvSpPr>
        <p:spPr>
          <a:xfrm>
            <a:off x="6107040" y="1469880"/>
            <a:ext cx="587520" cy="588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edit the title text format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1" marL="766800" indent="-382680">
              <a:spcBef>
                <a:spcPts val="9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spcBef>
                <a:spcPts val="950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3" marL="1535040" indent="-318960">
              <a:spcBef>
                <a:spcPts val="950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4" marL="1919160" indent="-318960">
              <a:spcBef>
                <a:spcPts val="950"/>
              </a:spcBef>
              <a:buClr>
                <a:srgbClr val="918485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5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6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8106840" y="8966160"/>
            <a:ext cx="4264200" cy="512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426960" y="8975880"/>
            <a:ext cx="501336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106680" y="1436400"/>
            <a:ext cx="639720" cy="6174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64080" bIns="64080" anchor="ctr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2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841D7F66-6C0A-4253-933E-03EFA6EC8A17}" type="slidenum">
              <a:rPr b="0" lang="ja-JP" sz="22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正方形/長方形 19"/>
          <p:cNvSpPr/>
          <p:nvPr/>
        </p:nvSpPr>
        <p:spPr>
          <a:xfrm>
            <a:off x="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51" name="正方形/長方形 20"/>
          <p:cNvSpPr/>
          <p:nvPr/>
        </p:nvSpPr>
        <p:spPr>
          <a:xfrm>
            <a:off x="0" y="938844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52" name="正方形/長方形 23"/>
          <p:cNvSpPr/>
          <p:nvPr/>
        </p:nvSpPr>
        <p:spPr>
          <a:xfrm>
            <a:off x="0" y="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53" name="正方形/長方形 24"/>
          <p:cNvSpPr/>
          <p:nvPr/>
        </p:nvSpPr>
        <p:spPr>
          <a:xfrm>
            <a:off x="12588840" y="2700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54" name="正方形/長方形 25"/>
          <p:cNvSpPr/>
          <p:nvPr/>
        </p:nvSpPr>
        <p:spPr>
          <a:xfrm>
            <a:off x="212760" y="3200400"/>
            <a:ext cx="123667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55" name="正方形/長方形 26"/>
          <p:cNvSpPr/>
          <p:nvPr/>
        </p:nvSpPr>
        <p:spPr>
          <a:xfrm>
            <a:off x="217440" y="200160"/>
            <a:ext cx="12366720" cy="29955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56" name="正方形/長方形 27"/>
          <p:cNvSpPr/>
          <p:nvPr/>
        </p:nvSpPr>
        <p:spPr>
          <a:xfrm>
            <a:off x="204840" y="8948880"/>
            <a:ext cx="12366720" cy="43308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57" name="正方形/長方形 28"/>
          <p:cNvSpPr/>
          <p:nvPr/>
        </p:nvSpPr>
        <p:spPr>
          <a:xfrm>
            <a:off x="212760" y="212760"/>
            <a:ext cx="12366720" cy="916632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58" name="直線コネクタ 29"/>
          <p:cNvSpPr/>
          <p:nvPr/>
        </p:nvSpPr>
        <p:spPr>
          <a:xfrm>
            <a:off x="212760" y="3413160"/>
            <a:ext cx="1236672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-63720" bIns="-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59" name="円/楕円 30"/>
          <p:cNvSpPr/>
          <p:nvPr/>
        </p:nvSpPr>
        <p:spPr>
          <a:xfrm>
            <a:off x="5973840" y="2960640"/>
            <a:ext cx="853920" cy="85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60" name="円/楕円 31"/>
          <p:cNvSpPr/>
          <p:nvPr/>
        </p:nvSpPr>
        <p:spPr>
          <a:xfrm>
            <a:off x="6107040" y="3094200"/>
            <a:ext cx="587520" cy="588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edit the title text format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1" marL="766800" indent="-382680">
              <a:spcBef>
                <a:spcPts val="9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spcBef>
                <a:spcPts val="950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3" marL="1535040" indent="-318960">
              <a:spcBef>
                <a:spcPts val="950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4" marL="1919160" indent="-318960">
              <a:spcBef>
                <a:spcPts val="950"/>
              </a:spcBef>
              <a:buClr>
                <a:srgbClr val="918485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5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6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426960" y="8975880"/>
            <a:ext cx="501336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8106840" y="8966160"/>
            <a:ext cx="4264200" cy="512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080040" y="3079440"/>
            <a:ext cx="641520" cy="6174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64080" bIns="64080" anchor="ctr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2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07E9C5E1-A885-4B2D-A978-8C9AF36BF073}" type="slidenum">
              <a:rPr b="0" lang="ja-JP" sz="22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正方形/長方形 16"/>
          <p:cNvSpPr/>
          <p:nvPr/>
        </p:nvSpPr>
        <p:spPr>
          <a:xfrm>
            <a:off x="0" y="938844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03" name="正方形/長方形 15"/>
          <p:cNvSpPr/>
          <p:nvPr/>
        </p:nvSpPr>
        <p:spPr>
          <a:xfrm>
            <a:off x="0" y="0"/>
            <a:ext cx="12801600" cy="195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04" name="正方形/長方形 17"/>
          <p:cNvSpPr/>
          <p:nvPr/>
        </p:nvSpPr>
        <p:spPr>
          <a:xfrm>
            <a:off x="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05" name="正方形/長方形 18"/>
          <p:cNvSpPr/>
          <p:nvPr/>
        </p:nvSpPr>
        <p:spPr>
          <a:xfrm>
            <a:off x="1258884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06" name="正方形/長方形 8"/>
          <p:cNvSpPr/>
          <p:nvPr/>
        </p:nvSpPr>
        <p:spPr>
          <a:xfrm>
            <a:off x="209520" y="8943840"/>
            <a:ext cx="12366720" cy="4334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07" name="正方形/長方形 7"/>
          <p:cNvSpPr/>
          <p:nvPr/>
        </p:nvSpPr>
        <p:spPr>
          <a:xfrm>
            <a:off x="212760" y="217440"/>
            <a:ext cx="12366720" cy="916632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08" name="直線コネクタ 9"/>
          <p:cNvSpPr/>
          <p:nvPr/>
        </p:nvSpPr>
        <p:spPr>
          <a:xfrm>
            <a:off x="212760" y="1787400"/>
            <a:ext cx="1236672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-63720" bIns="-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09" name="円/楕円 11"/>
          <p:cNvSpPr/>
          <p:nvPr/>
        </p:nvSpPr>
        <p:spPr>
          <a:xfrm>
            <a:off x="5973840" y="1338120"/>
            <a:ext cx="853920" cy="85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10" name="円/楕円 14"/>
          <p:cNvSpPr/>
          <p:nvPr/>
        </p:nvSpPr>
        <p:spPr>
          <a:xfrm>
            <a:off x="6107040" y="1469880"/>
            <a:ext cx="587520" cy="588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11" name="直線コネクタ 19"/>
          <p:cNvSpPr/>
          <p:nvPr/>
        </p:nvSpPr>
        <p:spPr>
          <a:xfrm flipV="1">
            <a:off x="6388200" y="2206440"/>
            <a:ext cx="12600" cy="6746760"/>
          </a:xfrm>
          <a:prstGeom prst="line">
            <a:avLst/>
          </a:prstGeom>
          <a:ln w="9360">
            <a:solidFill>
              <a:srgbClr val="69646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edit the title text format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1" marL="766800" indent="-382680">
              <a:spcBef>
                <a:spcPts val="9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spcBef>
                <a:spcPts val="950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3" marL="1535040" indent="-318960">
              <a:spcBef>
                <a:spcPts val="950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4" marL="1919160" indent="-318960">
              <a:spcBef>
                <a:spcPts val="950"/>
              </a:spcBef>
              <a:buClr>
                <a:srgbClr val="918485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5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6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8106840" y="8974080"/>
            <a:ext cx="426420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426960" y="8975880"/>
            <a:ext cx="501336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080040" y="1455840"/>
            <a:ext cx="641520" cy="6192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64080" bIns="64080" anchor="ctr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2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87688569-E786-43CA-B2EC-BCA5E9857E31}" type="slidenum">
              <a:rPr b="0" lang="ja-JP" sz="22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5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直線コネクタ 19"/>
          <p:cNvSpPr/>
          <p:nvPr/>
        </p:nvSpPr>
        <p:spPr>
          <a:xfrm flipV="1">
            <a:off x="6400800" y="3079440"/>
            <a:ext cx="0" cy="5864040"/>
          </a:xfrm>
          <a:prstGeom prst="line">
            <a:avLst/>
          </a:prstGeom>
          <a:ln w="9360">
            <a:solidFill>
              <a:srgbClr val="69646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63720" bIns="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54" name="正方形/長方形 20"/>
          <p:cNvSpPr/>
          <p:nvPr/>
        </p:nvSpPr>
        <p:spPr>
          <a:xfrm>
            <a:off x="0" y="0"/>
            <a:ext cx="12801600" cy="20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55" name="正方形/長方形 23"/>
          <p:cNvSpPr/>
          <p:nvPr/>
        </p:nvSpPr>
        <p:spPr>
          <a:xfrm>
            <a:off x="0" y="938844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56" name="正方形/長方形 24"/>
          <p:cNvSpPr/>
          <p:nvPr/>
        </p:nvSpPr>
        <p:spPr>
          <a:xfrm>
            <a:off x="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57" name="正方形/長方形 25"/>
          <p:cNvSpPr/>
          <p:nvPr/>
        </p:nvSpPr>
        <p:spPr>
          <a:xfrm>
            <a:off x="1258884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58" name="正方形/長方形 26"/>
          <p:cNvSpPr/>
          <p:nvPr/>
        </p:nvSpPr>
        <p:spPr>
          <a:xfrm>
            <a:off x="212760" y="1920960"/>
            <a:ext cx="12366720" cy="12794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59" name="正方形/長方形 27"/>
          <p:cNvSpPr/>
          <p:nvPr/>
        </p:nvSpPr>
        <p:spPr>
          <a:xfrm>
            <a:off x="204840" y="8948880"/>
            <a:ext cx="12366720" cy="43488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60" name="直線コネクタ 28"/>
          <p:cNvSpPr/>
          <p:nvPr/>
        </p:nvSpPr>
        <p:spPr>
          <a:xfrm>
            <a:off x="212760" y="1792440"/>
            <a:ext cx="1236672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-63720" bIns="-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61" name="正方形/長方形 29"/>
          <p:cNvSpPr/>
          <p:nvPr/>
        </p:nvSpPr>
        <p:spPr>
          <a:xfrm>
            <a:off x="212760" y="217440"/>
            <a:ext cx="12366720" cy="916632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62" name="円/楕円 30"/>
          <p:cNvSpPr/>
          <p:nvPr/>
        </p:nvSpPr>
        <p:spPr>
          <a:xfrm>
            <a:off x="5973840" y="1338120"/>
            <a:ext cx="853920" cy="85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63" name="円/楕円 31"/>
          <p:cNvSpPr/>
          <p:nvPr/>
        </p:nvSpPr>
        <p:spPr>
          <a:xfrm>
            <a:off x="6107040" y="1469880"/>
            <a:ext cx="587520" cy="588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edit the title text format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1" marL="766800" indent="-382680">
              <a:spcBef>
                <a:spcPts val="9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spcBef>
                <a:spcPts val="950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3" marL="1535040" indent="-318960">
              <a:spcBef>
                <a:spcPts val="950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4" marL="1919160" indent="-318960">
              <a:spcBef>
                <a:spcPts val="950"/>
              </a:spcBef>
              <a:buClr>
                <a:srgbClr val="918485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5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6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8106840" y="8966160"/>
            <a:ext cx="4264200" cy="512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426960" y="8974080"/>
            <a:ext cx="501336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080040" y="1458720"/>
            <a:ext cx="641520" cy="6174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64080" bIns="64080" anchor="ctr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2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BF4AADDC-FA92-4525-BB2D-0FC9829399E9}" type="slidenum">
              <a:rPr b="0" lang="ja-JP" sz="22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正方形/長方形 16"/>
          <p:cNvSpPr/>
          <p:nvPr/>
        </p:nvSpPr>
        <p:spPr>
          <a:xfrm>
            <a:off x="0" y="938844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06" name="正方形/長方形 15"/>
          <p:cNvSpPr/>
          <p:nvPr/>
        </p:nvSpPr>
        <p:spPr>
          <a:xfrm>
            <a:off x="0" y="0"/>
            <a:ext cx="12801600" cy="195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07" name="正方形/長方形 17"/>
          <p:cNvSpPr/>
          <p:nvPr/>
        </p:nvSpPr>
        <p:spPr>
          <a:xfrm>
            <a:off x="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08" name="正方形/長方形 18"/>
          <p:cNvSpPr/>
          <p:nvPr/>
        </p:nvSpPr>
        <p:spPr>
          <a:xfrm>
            <a:off x="1258884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09" name="正方形/長方形 8"/>
          <p:cNvSpPr/>
          <p:nvPr/>
        </p:nvSpPr>
        <p:spPr>
          <a:xfrm>
            <a:off x="209520" y="8943840"/>
            <a:ext cx="12366720" cy="4334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10" name="正方形/長方形 7"/>
          <p:cNvSpPr/>
          <p:nvPr/>
        </p:nvSpPr>
        <p:spPr>
          <a:xfrm>
            <a:off x="212760" y="217440"/>
            <a:ext cx="12366720" cy="916632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11" name="直線コネクタ 9"/>
          <p:cNvSpPr/>
          <p:nvPr/>
        </p:nvSpPr>
        <p:spPr>
          <a:xfrm>
            <a:off x="212760" y="1787400"/>
            <a:ext cx="12366720" cy="0"/>
          </a:xfrm>
          <a:prstGeom prst="line">
            <a:avLst/>
          </a:prstGeom>
          <a:ln w="936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-63720" bIns="-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12" name="円/楕円 11"/>
          <p:cNvSpPr/>
          <p:nvPr/>
        </p:nvSpPr>
        <p:spPr>
          <a:xfrm>
            <a:off x="5973840" y="1338120"/>
            <a:ext cx="853920" cy="85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13" name="円/楕円 14"/>
          <p:cNvSpPr/>
          <p:nvPr/>
        </p:nvSpPr>
        <p:spPr>
          <a:xfrm>
            <a:off x="6107040" y="1469880"/>
            <a:ext cx="587520" cy="588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edit the title text format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1" marL="766800" indent="-382680">
              <a:spcBef>
                <a:spcPts val="9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spcBef>
                <a:spcPts val="950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3" marL="1535040" indent="-318960">
              <a:spcBef>
                <a:spcPts val="950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4" marL="1919160" indent="-318960">
              <a:spcBef>
                <a:spcPts val="950"/>
              </a:spcBef>
              <a:buClr>
                <a:srgbClr val="918485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5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6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8106840" y="8966160"/>
            <a:ext cx="4264200" cy="512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426960" y="8975880"/>
            <a:ext cx="501336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6080040" y="1450800"/>
            <a:ext cx="641520" cy="61776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64080" bIns="64080" anchor="ctr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2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31C65588-DDFD-415F-877F-0C884BCEC330}" type="slidenum">
              <a:rPr b="0" lang="ja-JP" sz="22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正方形/長方形 19"/>
          <p:cNvSpPr/>
          <p:nvPr/>
        </p:nvSpPr>
        <p:spPr>
          <a:xfrm>
            <a:off x="0" y="938844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56" name="正方形/長方形 20"/>
          <p:cNvSpPr/>
          <p:nvPr/>
        </p:nvSpPr>
        <p:spPr>
          <a:xfrm>
            <a:off x="0" y="0"/>
            <a:ext cx="12801600" cy="2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57" name="正方形/長方形 23"/>
          <p:cNvSpPr/>
          <p:nvPr/>
        </p:nvSpPr>
        <p:spPr>
          <a:xfrm>
            <a:off x="1258884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58" name="正方形/長方形 24"/>
          <p:cNvSpPr/>
          <p:nvPr/>
        </p:nvSpPr>
        <p:spPr>
          <a:xfrm>
            <a:off x="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59" name="正方形/長方形 25"/>
          <p:cNvSpPr/>
          <p:nvPr/>
        </p:nvSpPr>
        <p:spPr>
          <a:xfrm>
            <a:off x="204840" y="8948880"/>
            <a:ext cx="12366720" cy="43308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60" name="正方形/長方形 26"/>
          <p:cNvSpPr/>
          <p:nvPr/>
        </p:nvSpPr>
        <p:spPr>
          <a:xfrm>
            <a:off x="212760" y="222120"/>
            <a:ext cx="12366720" cy="916632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edit the title text format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1" marL="766800" indent="-382680">
              <a:spcBef>
                <a:spcPts val="9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spcBef>
                <a:spcPts val="950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3" marL="1535040" indent="-318960">
              <a:spcBef>
                <a:spcPts val="950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4" marL="1919160" indent="-318960">
              <a:spcBef>
                <a:spcPts val="950"/>
              </a:spcBef>
              <a:buClr>
                <a:srgbClr val="918485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5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6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8106840" y="8966160"/>
            <a:ext cx="4264200" cy="512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26960" y="8975880"/>
            <a:ext cx="501336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5973840" y="8854920"/>
            <a:ext cx="853920" cy="61776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64080" bIns="64080" anchor="ctr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BABBAD7A-AEA5-481F-9363-75E1DB1EF328}" type="slidenum">
              <a:rPr b="0" lang="ja-JP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正方形/長方形 19"/>
          <p:cNvSpPr/>
          <p:nvPr/>
        </p:nvSpPr>
        <p:spPr>
          <a:xfrm>
            <a:off x="212760" y="212760"/>
            <a:ext cx="12366720" cy="42696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03" name="正方形/長方形 20"/>
          <p:cNvSpPr/>
          <p:nvPr/>
        </p:nvSpPr>
        <p:spPr>
          <a:xfrm>
            <a:off x="0" y="9388440"/>
            <a:ext cx="128016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04" name="正方形/長方形 23"/>
          <p:cNvSpPr/>
          <p:nvPr/>
        </p:nvSpPr>
        <p:spPr>
          <a:xfrm>
            <a:off x="1258884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05" name="正方形/長方形 24"/>
          <p:cNvSpPr/>
          <p:nvPr/>
        </p:nvSpPr>
        <p:spPr>
          <a:xfrm>
            <a:off x="0" y="0"/>
            <a:ext cx="1280160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06" name="正方形/長方形 25"/>
          <p:cNvSpPr/>
          <p:nvPr/>
        </p:nvSpPr>
        <p:spPr>
          <a:xfrm>
            <a:off x="0" y="0"/>
            <a:ext cx="21276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07" name="正方形/長方形 26"/>
          <p:cNvSpPr/>
          <p:nvPr/>
        </p:nvSpPr>
        <p:spPr>
          <a:xfrm>
            <a:off x="212760" y="853920"/>
            <a:ext cx="3841560" cy="82137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08" name="正方形/長方形 27"/>
          <p:cNvSpPr/>
          <p:nvPr/>
        </p:nvSpPr>
        <p:spPr>
          <a:xfrm>
            <a:off x="212760" y="212760"/>
            <a:ext cx="12366720" cy="9166320"/>
          </a:xfrm>
          <a:prstGeom prst="rect">
            <a:avLst/>
          </a:prstGeom>
          <a:noFill/>
          <a:ln w="93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09" name="直線コネクタ 28"/>
          <p:cNvSpPr/>
          <p:nvPr/>
        </p:nvSpPr>
        <p:spPr>
          <a:xfrm>
            <a:off x="212760" y="746280"/>
            <a:ext cx="12366720" cy="0"/>
          </a:xfrm>
          <a:prstGeom prst="line">
            <a:avLst/>
          </a:prstGeom>
          <a:ln w="11520">
            <a:solidFill>
              <a:srgbClr val="8e7c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127800" rIns="127800" tIns="-63720" bIns="-63720" anchor="ctr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10" name="円/楕円 29"/>
          <p:cNvSpPr/>
          <p:nvPr/>
        </p:nvSpPr>
        <p:spPr>
          <a:xfrm>
            <a:off x="1812960" y="320760"/>
            <a:ext cx="853920" cy="852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11" name="円/楕円 30"/>
          <p:cNvSpPr/>
          <p:nvPr/>
        </p:nvSpPr>
        <p:spPr>
          <a:xfrm>
            <a:off x="1946160" y="452520"/>
            <a:ext cx="588960" cy="58896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e7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12" name="正方形/長方形 31"/>
          <p:cNvSpPr/>
          <p:nvPr/>
        </p:nvSpPr>
        <p:spPr>
          <a:xfrm>
            <a:off x="209520" y="8943840"/>
            <a:ext cx="12366720" cy="43344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Click to edit the title text format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22280" y="2133720"/>
            <a:ext cx="11949120" cy="6438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1" marL="766800" indent="-382680">
              <a:spcBef>
                <a:spcPts val="950"/>
              </a:spcBef>
              <a:buClr>
                <a:srgbClr val="9b2d1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spcBef>
                <a:spcPts val="950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3" marL="1535040" indent="-318960">
              <a:spcBef>
                <a:spcPts val="950"/>
              </a:spcBef>
              <a:buClr>
                <a:srgbClr val="956251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4" marL="1919160" indent="-318960">
              <a:spcBef>
                <a:spcPts val="950"/>
              </a:spcBef>
              <a:buClr>
                <a:srgbClr val="918485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5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lvl="6" marL="1919160" indent="-318960">
              <a:spcBef>
                <a:spcPts val="950"/>
              </a:spcBef>
              <a:buClr>
                <a:srgbClr val="000000"/>
              </a:buClr>
              <a:buFont typeface="AR Pゴシック体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920600" y="437760"/>
            <a:ext cx="639720" cy="617400"/>
          </a:xfrm>
          <a:prstGeom prst="rect">
            <a:avLst/>
          </a:prstGeom>
          <a:noFill/>
          <a:ln w="0">
            <a:noFill/>
          </a:ln>
        </p:spPr>
        <p:txBody>
          <a:bodyPr lIns="64080" rIns="64080" tIns="64080" bIns="64080" anchor="ctr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200" spc="-1" strike="noStrike">
                <a:solidFill>
                  <a:srgbClr val="8e7c5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5B527083-9A67-4773-9F2C-5D7B5B11EC2B}" type="slidenum">
              <a:rPr b="0" lang="ja-JP" sz="2200" spc="-1" strike="noStrike">
                <a:solidFill>
                  <a:srgbClr val="8e7c5c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8106840" y="8966160"/>
            <a:ext cx="4264200" cy="512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ja-JP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421920" y="8975880"/>
            <a:ext cx="473724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 Pゴシック体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99760" y="3000240"/>
            <a:ext cx="11480760" cy="24544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8e7c5c"/>
                </a:solidFill>
                <a:latin typeface="セイビイサラゴEB-P"/>
              </a:rPr>
              <a:t>利用者参加とオープン志向が特徴の</a:t>
            </a:r>
            <a:r>
              <a:rPr b="0" lang="en-US" sz="6000" spc="-1" strike="noStrike">
                <a:solidFill>
                  <a:srgbClr val="8e7c5c"/>
                </a:solidFill>
                <a:latin typeface="セイビイサラゴEB-P"/>
              </a:rPr>
              <a:t>Web2.0</a:t>
            </a:r>
            <a:r>
              <a:rPr b="0" lang="ja-JP" sz="6000" spc="-1" strike="noStrike">
                <a:solidFill>
                  <a:srgbClr val="8e7c5c"/>
                </a:solidFill>
                <a:latin typeface="セイビイサラゴEB-P"/>
              </a:rPr>
              <a:t>型</a:t>
            </a:r>
            <a:r>
              <a:rPr b="0" lang="en-US" sz="6000" spc="-1" strike="noStrike">
                <a:solidFill>
                  <a:srgbClr val="8e7c5c"/>
                </a:solidFill>
                <a:latin typeface="セイビイサラゴEB-P"/>
              </a:rPr>
              <a:t>Q&amp;A</a:t>
            </a:r>
            <a:r>
              <a:rPr b="0" lang="ja-JP" sz="6000" spc="-1" strike="noStrike">
                <a:solidFill>
                  <a:srgbClr val="8e7c5c"/>
                </a:solidFill>
                <a:latin typeface="セイビイサラゴEB-P"/>
              </a:rPr>
              <a:t>サイトにみる</a:t>
            </a:r>
            <a:br>
              <a:rPr sz="6000"/>
            </a:br>
            <a:r>
              <a:rPr b="0" lang="ja-JP" sz="6000" spc="-1" strike="noStrike">
                <a:solidFill>
                  <a:srgbClr val="8e7c5c"/>
                </a:solidFill>
                <a:latin typeface="セイビイサラゴEB-P"/>
              </a:rPr>
              <a:t>ヘルスコミュニケーション：</a:t>
            </a:r>
            <a:br>
              <a:rPr sz="6000"/>
            </a:br>
            <a:r>
              <a:rPr b="0" lang="ja-JP" sz="6000" spc="-1" strike="noStrike">
                <a:solidFill>
                  <a:srgbClr val="8e7c5c"/>
                </a:solidFill>
                <a:latin typeface="セイビイサラゴEB-P"/>
              </a:rPr>
              <a:t>生活習慣病とメタボリック</a:t>
            </a:r>
            <a:br>
              <a:rPr sz="6000"/>
            </a:br>
            <a:r>
              <a:rPr b="0" lang="ja-JP" sz="6000" spc="-1" strike="noStrike">
                <a:solidFill>
                  <a:srgbClr val="8e7c5c"/>
                </a:solidFill>
                <a:latin typeface="セイビイサラゴEB-P"/>
              </a:rPr>
              <a:t>シンドロームの質問と回答</a:t>
            </a:r>
            <a:endParaRPr b="0" lang="en-US" sz="60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2200320" y="6100560"/>
            <a:ext cx="8980560" cy="159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marL="382680" indent="-382680">
              <a:spcBef>
                <a:spcPts val="876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000000"/>
                </a:solidFill>
                <a:latin typeface="AR Pゴシック体M"/>
              </a:rPr>
              <a:t>中山和弘（聖路加看護大学）</a:t>
            </a:r>
            <a:endParaRPr b="0" lang="en-US" sz="35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spcBef>
                <a:spcPts val="876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000000"/>
                </a:solidFill>
                <a:latin typeface="AR Pゴシック体M"/>
              </a:rPr>
              <a:t>戸ヶ里泰典（東京大学大学院健康社会学）</a:t>
            </a:r>
            <a:endParaRPr b="0" lang="en-US" sz="3500" spc="-1" strike="noStrike">
              <a:solidFill>
                <a:srgbClr val="000000"/>
              </a:solidFill>
              <a:latin typeface="AR Pゴシック体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結論：残された課題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99960" y="2200320"/>
            <a:ext cx="11901600" cy="65008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lnSpc>
                <a:spcPct val="100000"/>
              </a:lnSpc>
              <a:spcBef>
                <a:spcPts val="876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000000"/>
                </a:solidFill>
                <a:latin typeface="AR P明朝体U"/>
              </a:rPr>
              <a:t>良回答は「専門家」以外からも同程度に提供され、質問者のニーズには、専門的な知識に限らず、共感や理解、妥当性や承認などのサポートが含まれるのか、コミュニケーション手法の問題か（回答者分類の正確さの問題は残る。「専門家」は</a:t>
            </a:r>
            <a:r>
              <a:rPr b="0" lang="en-US" sz="3500" spc="-1" strike="noStrike">
                <a:solidFill>
                  <a:srgbClr val="000000"/>
                </a:solidFill>
                <a:latin typeface="AR P明朝体U"/>
              </a:rPr>
              <a:t>9</a:t>
            </a:r>
            <a:r>
              <a:rPr b="0" lang="ja-JP" sz="3500" spc="-1" strike="noStrike">
                <a:solidFill>
                  <a:srgbClr val="000000"/>
                </a:solidFill>
                <a:latin typeface="AR P明朝体U"/>
              </a:rPr>
              <a:t>割以上「自信あり」で他より有意に高い）</a:t>
            </a:r>
            <a:endParaRPr b="0" lang="en-US" sz="35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100000"/>
              </a:lnSpc>
              <a:spcBef>
                <a:spcPts val="876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000000"/>
                </a:solidFill>
                <a:latin typeface="AR P明朝体U"/>
              </a:rPr>
              <a:t>今後、質問と回答の文脈や表現方法の分析により、市民の情報やコミュニケーションにおけるニーズが把握可能か</a:t>
            </a:r>
            <a:endParaRPr b="0" lang="en-US" sz="35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100000"/>
              </a:lnSpc>
              <a:spcBef>
                <a:spcPts val="876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500" spc="-1" strike="noStrike">
                <a:solidFill>
                  <a:srgbClr val="000000"/>
                </a:solidFill>
                <a:latin typeface="AR P明朝体U"/>
              </a:rPr>
              <a:t>参加型</a:t>
            </a:r>
            <a:r>
              <a:rPr b="0" lang="en-US" sz="3500" spc="-1" strike="noStrike">
                <a:solidFill>
                  <a:srgbClr val="000000"/>
                </a:solidFill>
                <a:latin typeface="AR P明朝体U"/>
              </a:rPr>
              <a:t>Q&amp;A</a:t>
            </a:r>
            <a:r>
              <a:rPr b="0" lang="ja-JP" sz="3500" spc="-1" strike="noStrike">
                <a:solidFill>
                  <a:srgbClr val="000000"/>
                </a:solidFill>
                <a:latin typeface="AR P明朝体U"/>
              </a:rPr>
              <a:t>サイトは「集合知」による助け合いのコミュニティとして発展の可能性、そのとき専門職は</a:t>
            </a:r>
            <a:endParaRPr b="0" lang="en-US" sz="3500" spc="-1" strike="noStrike">
              <a:solidFill>
                <a:srgbClr val="000000"/>
              </a:solidFill>
              <a:latin typeface="AR Pゴシック体M"/>
            </a:endParaRPr>
          </a:p>
          <a:p>
            <a:pPr lvl="2" marL="1150920" indent="-318960">
              <a:lnSpc>
                <a:spcPct val="100000"/>
              </a:lnSpc>
              <a:spcBef>
                <a:spcPts val="649"/>
              </a:spcBef>
              <a:buClr>
                <a:srgbClr val="a28e6a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AR P明朝体U"/>
              </a:rPr>
              <a:t>本研究は日本学術振興会科学研究費補助金基盤研究（</a:t>
            </a:r>
            <a:r>
              <a:rPr b="0" lang="en-US" sz="2600" spc="-1" strike="noStrike">
                <a:solidFill>
                  <a:srgbClr val="000000"/>
                </a:solidFill>
                <a:latin typeface="AR P明朝体U"/>
              </a:rPr>
              <a:t>B</a:t>
            </a:r>
            <a:r>
              <a:rPr b="0" lang="ja-JP" sz="2600" spc="-1" strike="noStrike">
                <a:solidFill>
                  <a:srgbClr val="000000"/>
                </a:solidFill>
                <a:latin typeface="AR P明朝体U"/>
              </a:rPr>
              <a:t>）「インターネット情報に翻弄される患者、家族を支援する看護職のための</a:t>
            </a:r>
            <a:r>
              <a:rPr b="0" lang="en-US" sz="2600" spc="-1" strike="noStrike">
                <a:solidFill>
                  <a:srgbClr val="000000"/>
                </a:solidFill>
                <a:latin typeface="AR P明朝体U"/>
              </a:rPr>
              <a:t>e</a:t>
            </a:r>
            <a:r>
              <a:rPr b="0" lang="ja-JP" sz="2600" spc="-1" strike="noStrike">
                <a:solidFill>
                  <a:srgbClr val="000000"/>
                </a:solidFill>
                <a:latin typeface="AR P明朝体U"/>
              </a:rPr>
              <a:t>ラーニング開発」（研究代表者　中山和弘、平成</a:t>
            </a:r>
            <a:r>
              <a:rPr b="0" lang="en-US" sz="2600" spc="-1" strike="noStrike">
                <a:solidFill>
                  <a:srgbClr val="000000"/>
                </a:solidFill>
                <a:latin typeface="AR P明朝体U"/>
              </a:rPr>
              <a:t>19-22</a:t>
            </a:r>
            <a:r>
              <a:rPr b="0" lang="ja-JP" sz="2600" spc="-1" strike="noStrike">
                <a:solidFill>
                  <a:srgbClr val="000000"/>
                </a:solidFill>
                <a:latin typeface="AR P明朝体U"/>
              </a:rPr>
              <a:t>年度）の一部として実施した</a:t>
            </a:r>
            <a:endParaRPr b="0" lang="en-US" sz="26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 Pゴシック体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背景と目的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99960" y="2200320"/>
            <a:ext cx="11901600" cy="65008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lnSpc>
                <a:spcPct val="90000"/>
              </a:lnSpc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Web2.0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型またはユーザ参加型の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Q&amp;A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サイト（「教えて！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goo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」「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Yahoo!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知恵袋」など）は、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Web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で現在もっとも成長している領域である（前年比約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200-300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％）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90000"/>
              </a:lnSpc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健康関連の質問も数十万件以上で、検索ヒット率の高い情報資源となってきている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90000"/>
              </a:lnSpc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有効なヘルスコミュニケーション（健康情報の伝達･共有）には、個々人の状況や文脈に沿っていることが必要であり、このような消費者生成型メディア（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GM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、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Consumer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Generated Media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）は、利用者参加とオープン志向でそれを実現している可能性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90000"/>
              </a:lnSpc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そこで、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Q&amp;A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サイトの質問と回答の分析を試みた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対象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99960" y="2200320"/>
            <a:ext cx="11901600" cy="65008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対象サイト：「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OKwave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」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http://okwave.jp/ 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　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選定理由：月間利用者は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500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万以上と「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Yahoo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！知恵袋」と並ぶ最大手であり、内容は「教えて！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goo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」とほぼ同じであるが、検索機能が充実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質問内の検索キーワード： 「生活習慣病」 と「メタボリックシンドローム（メタボリック、メタボ、メタボリック症候群を含む）」 の２つ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検索対象期間：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2007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年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9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月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30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日から過去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2000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年まで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検索でヒットした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213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件と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133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件の質問について、まず、</a:t>
            </a:r>
            <a:r>
              <a:rPr b="0" lang="en-US" sz="3800" spc="-1" strike="noStrike">
                <a:solidFill>
                  <a:srgbClr val="000000"/>
                </a:solidFill>
                <a:latin typeface="AR Pゴシック体M"/>
              </a:rPr>
              <a:t>4</a:t>
            </a:r>
            <a:r>
              <a:rPr b="0" lang="ja-JP" sz="3800" spc="-1" strike="noStrike">
                <a:solidFill>
                  <a:srgbClr val="000000"/>
                </a:solidFill>
                <a:latin typeface="AR Pゴシック体M"/>
              </a:rPr>
              <a:t>半期ごとの質問数の推移の把握、質問の分類を行った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分析項目と方法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99960" y="2200320"/>
            <a:ext cx="11901600" cy="65008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lnSpc>
                <a:spcPct val="90000"/>
              </a:lnSpc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それぞれの質問への全回答</a:t>
            </a:r>
            <a:r>
              <a:rPr b="0" lang="en-US" sz="3800" spc="-1" strike="noStrike">
                <a:solidFill>
                  <a:srgbClr val="000000"/>
                </a:solidFill>
                <a:latin typeface="AR P明朝体U"/>
              </a:rPr>
              <a:t>382</a:t>
            </a: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件と</a:t>
            </a:r>
            <a:r>
              <a:rPr b="0" lang="en-US" sz="3800" spc="-1" strike="noStrike">
                <a:solidFill>
                  <a:srgbClr val="000000"/>
                </a:solidFill>
                <a:latin typeface="AR P明朝体U"/>
              </a:rPr>
              <a:t>298</a:t>
            </a: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件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90000"/>
              </a:lnSpc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目的変数は、質問者が良回答に対して１つずつ与えられる「</a:t>
            </a:r>
            <a:r>
              <a:rPr b="0" lang="en-US" sz="3800" spc="-1" strike="noStrike">
                <a:solidFill>
                  <a:srgbClr val="000000"/>
                </a:solidFill>
                <a:latin typeface="AR P明朝体U"/>
              </a:rPr>
              <a:t>20</a:t>
            </a: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ｐｔ」と「</a:t>
            </a:r>
            <a:r>
              <a:rPr b="0" lang="en-US" sz="3800" spc="-1" strike="noStrike">
                <a:solidFill>
                  <a:srgbClr val="000000"/>
                </a:solidFill>
                <a:latin typeface="AR P明朝体U"/>
              </a:rPr>
              <a:t>10pt</a:t>
            </a: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」のポイントの有無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90000"/>
              </a:lnSpc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説明変数は以下の３項目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90000"/>
              </a:lnSpc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回答者（「どんな人」）：「経験者」「一般人」「専門家」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90000"/>
              </a:lnSpc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回答の種類：「アドバイス」「回答」「補足要求」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90000"/>
              </a:lnSpc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回答に対する自信：「自信あり」「参考意見」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90000"/>
              </a:lnSpc>
              <a:spcBef>
                <a:spcPts val="9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クロス表による</a:t>
            </a:r>
            <a:r>
              <a:rPr b="0" lang="en-US" sz="3800" spc="-1" strike="noStrike">
                <a:solidFill>
                  <a:srgbClr val="000000"/>
                </a:solidFill>
                <a:latin typeface="AR P明朝体U"/>
              </a:rPr>
              <a:t>χ</a:t>
            </a:r>
            <a:r>
              <a:rPr b="0" lang="en-US" sz="3800" spc="-1" strike="noStrike" baseline="30000">
                <a:solidFill>
                  <a:srgbClr val="000000"/>
                </a:solidFill>
                <a:latin typeface="AR P明朝体U"/>
              </a:rPr>
              <a:t>2</a:t>
            </a: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検定と、良回答のポイントの有無</a:t>
            </a:r>
            <a:br>
              <a:rPr sz="3800"/>
            </a:b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（２値）を目的変数としたロジスティック回帰分析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（モデルは主効果のみと</a:t>
            </a:r>
            <a:r>
              <a:rPr b="0" lang="en-US" sz="3800" spc="-1" strike="noStrike">
                <a:solidFill>
                  <a:srgbClr val="000000"/>
                </a:solidFill>
                <a:latin typeface="AR P明朝体U"/>
              </a:rPr>
              <a:t>2</a:t>
            </a:r>
            <a:r>
              <a:rPr b="0" lang="ja-JP" sz="3800" spc="-1" strike="noStrike">
                <a:solidFill>
                  <a:srgbClr val="000000"/>
                </a:solidFill>
                <a:latin typeface="AR P明朝体U"/>
              </a:rPr>
              <a:t>次の交互作用も含むもの）</a:t>
            </a:r>
            <a:endParaRPr b="0" lang="en-US" sz="3800" spc="-1" strike="noStrike">
              <a:solidFill>
                <a:srgbClr val="000000"/>
              </a:solidFill>
              <a:latin typeface="AR Pゴシック体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図</a:t>
            </a: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1</a:t>
            </a: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　質問件数の推移（四半期毎：</a:t>
            </a: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Q</a:t>
            </a: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）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pic>
        <p:nvPicPr>
          <p:cNvPr id="622" name="コンテンツ プレースホルダ 3" descr=""/>
          <p:cNvPicPr/>
          <p:nvPr/>
        </p:nvPicPr>
        <p:blipFill>
          <a:blip r:embed="rId1"/>
          <a:stretch/>
        </p:blipFill>
        <p:spPr>
          <a:xfrm>
            <a:off x="414360" y="2133720"/>
            <a:ext cx="1191744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図</a:t>
            </a: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2</a:t>
            </a: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　生活習慣病の質問の内容（％、</a:t>
            </a: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N</a:t>
            </a: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＝</a:t>
            </a: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121</a:t>
            </a: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）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pic>
        <p:nvPicPr>
          <p:cNvPr id="624" name="コンテンツ プレースホルダ 8" descr=""/>
          <p:cNvPicPr/>
          <p:nvPr/>
        </p:nvPicPr>
        <p:blipFill>
          <a:blip r:embed="rId1"/>
          <a:stretch/>
        </p:blipFill>
        <p:spPr>
          <a:xfrm>
            <a:off x="493560" y="2097000"/>
            <a:ext cx="11911320" cy="651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図</a:t>
            </a: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3</a:t>
            </a: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　メタボリックの質問の内容（％、</a:t>
            </a: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N</a:t>
            </a: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＝</a:t>
            </a:r>
            <a:r>
              <a:rPr b="0" lang="en-US" sz="4600" spc="-1" strike="noStrike">
                <a:solidFill>
                  <a:srgbClr val="8e7c5c"/>
                </a:solidFill>
                <a:latin typeface="セイビイサラゴEB-P"/>
              </a:rPr>
              <a:t>97</a:t>
            </a: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）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pic>
        <p:nvPicPr>
          <p:cNvPr id="626" name="コンテンツ プレースホルダ 5" descr=""/>
          <p:cNvPicPr/>
          <p:nvPr/>
        </p:nvPicPr>
        <p:blipFill>
          <a:blip r:embed="rId1"/>
          <a:stretch/>
        </p:blipFill>
        <p:spPr>
          <a:xfrm>
            <a:off x="463680" y="2077920"/>
            <a:ext cx="11917080" cy="6516720"/>
          </a:xfrm>
          <a:prstGeom prst="rect">
            <a:avLst/>
          </a:prstGeom>
          <a:ln w="0">
            <a:noFill/>
          </a:ln>
        </p:spPr>
      </p:pic>
      <p:sp>
        <p:nvSpPr>
          <p:cNvPr id="627" name="テキスト ボックス 6"/>
          <p:cNvSpPr/>
          <p:nvPr/>
        </p:nvSpPr>
        <p:spPr>
          <a:xfrm>
            <a:off x="7900920" y="4900680"/>
            <a:ext cx="41007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 Pゴシック体M"/>
              </a:rPr>
              <a:t>全体（</a:t>
            </a:r>
            <a:r>
              <a:rPr b="0" lang="en-US" sz="2800" spc="-1" strike="noStrike">
                <a:solidFill>
                  <a:srgbClr val="000000"/>
                </a:solidFill>
                <a:latin typeface="AR Pゴシック体M"/>
              </a:rPr>
              <a:t>N=133</a:t>
            </a:r>
            <a:r>
              <a:rPr b="0" lang="ja-JP" sz="2800" spc="-1" strike="noStrike">
                <a:solidFill>
                  <a:srgbClr val="000000"/>
                </a:solidFill>
                <a:latin typeface="AR Pゴシック体M"/>
              </a:rPr>
              <a:t>）から、  「生命保険・医療保険関連」 </a:t>
            </a:r>
            <a:r>
              <a:rPr b="0" lang="en-US" sz="2800" spc="-1" strike="noStrike">
                <a:solidFill>
                  <a:srgbClr val="000000"/>
                </a:solidFill>
                <a:latin typeface="AR Pゴシック体M"/>
              </a:rPr>
              <a:t>3.8</a:t>
            </a:r>
            <a:r>
              <a:rPr b="0" lang="ja-JP" sz="2800" spc="-1" strike="noStrike">
                <a:solidFill>
                  <a:srgbClr val="000000"/>
                </a:solidFill>
                <a:latin typeface="AR Pゴシック体M"/>
              </a:rPr>
              <a:t>％、体型表現（ 「メタボ系」 「メタボおやじ」など）</a:t>
            </a:r>
            <a:r>
              <a:rPr b="0" lang="en-US" sz="2800" spc="-1" strike="noStrike">
                <a:solidFill>
                  <a:srgbClr val="000000"/>
                </a:solidFill>
                <a:latin typeface="AR Pゴシック体M"/>
              </a:rPr>
              <a:t>12.0</a:t>
            </a:r>
            <a:r>
              <a:rPr b="0" lang="ja-JP" sz="2800" spc="-1" strike="noStrike">
                <a:solidFill>
                  <a:srgbClr val="000000"/>
                </a:solidFill>
                <a:latin typeface="AR Pゴシック体M"/>
              </a:rPr>
              <a:t>％、直接関連しないも</a:t>
            </a:r>
            <a:r>
              <a:rPr b="0" lang="en-US" sz="2800" spc="-1" strike="noStrike">
                <a:solidFill>
                  <a:srgbClr val="000000"/>
                </a:solidFill>
                <a:latin typeface="AR Pゴシック体M"/>
              </a:rPr>
              <a:t>11.3</a:t>
            </a:r>
            <a:r>
              <a:rPr b="0" lang="ja-JP" sz="2800" spc="-1" strike="noStrike">
                <a:solidFill>
                  <a:srgbClr val="000000"/>
                </a:solidFill>
                <a:latin typeface="AR Pゴシック体M"/>
              </a:rPr>
              <a:t>％を除いて再集計した</a:t>
            </a:r>
            <a:endParaRPr b="0" lang="en-US" sz="2800" spc="-1" strike="noStrike">
              <a:solidFill>
                <a:srgbClr val="000000"/>
              </a:solidFill>
              <a:latin typeface="AR Pゴシック体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図４　回答者別の良回答ポイントの割合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pic>
        <p:nvPicPr>
          <p:cNvPr id="629" name="コンテンツ プレースホルダ 5" descr=""/>
          <p:cNvPicPr/>
          <p:nvPr/>
        </p:nvPicPr>
        <p:blipFill>
          <a:blip r:embed="rId1"/>
          <a:stretch/>
        </p:blipFill>
        <p:spPr>
          <a:xfrm>
            <a:off x="536400" y="2152800"/>
            <a:ext cx="1191132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22280" y="320760"/>
            <a:ext cx="11949120" cy="1062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600" spc="-1" strike="noStrike">
                <a:solidFill>
                  <a:srgbClr val="8e7c5c"/>
                </a:solidFill>
                <a:latin typeface="セイビイサラゴEB-P"/>
              </a:rPr>
              <a:t>結果と考察</a:t>
            </a:r>
            <a:endParaRPr b="0" lang="en-US" sz="4600" spc="-1" strike="noStrike">
              <a:solidFill>
                <a:srgbClr val="8e7c5c"/>
              </a:solidFill>
              <a:latin typeface="セイビイサラゴEB-P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99960" y="2200320"/>
            <a:ext cx="11901600" cy="65008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82680" indent="-382680">
              <a:lnSpc>
                <a:spcPct val="100000"/>
              </a:lnSpc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明朝体U"/>
              </a:rPr>
              <a:t>メタボリックへの注目度は急上昇で（図</a:t>
            </a:r>
            <a:r>
              <a:rPr b="0" lang="en-US" sz="3600" spc="-1" strike="noStrike">
                <a:solidFill>
                  <a:srgbClr val="000000"/>
                </a:solidFill>
                <a:latin typeface="AR P明朝体U"/>
              </a:rPr>
              <a:t>1</a:t>
            </a:r>
            <a:r>
              <a:rPr b="0" lang="ja-JP" sz="3600" spc="-1" strike="noStrike">
                <a:solidFill>
                  <a:srgbClr val="000000"/>
                </a:solidFill>
                <a:latin typeface="AR P明朝体U"/>
              </a:rPr>
              <a:t>）、内容では、生活習慣病にくらべその定義や対応が中心（図</a:t>
            </a:r>
            <a:r>
              <a:rPr b="0" lang="en-US" sz="3600" spc="-1" strike="noStrike">
                <a:solidFill>
                  <a:srgbClr val="000000"/>
                </a:solidFill>
                <a:latin typeface="AR P明朝体U"/>
              </a:rPr>
              <a:t>2</a:t>
            </a:r>
            <a:r>
              <a:rPr b="0" lang="ja-JP" sz="3600" spc="-1" strike="noStrike">
                <a:solidFill>
                  <a:srgbClr val="000000"/>
                </a:solidFill>
                <a:latin typeface="AR P明朝体U"/>
              </a:rPr>
              <a:t>、図</a:t>
            </a:r>
            <a:r>
              <a:rPr b="0" lang="en-US" sz="3600" spc="-1" strike="noStrike">
                <a:solidFill>
                  <a:srgbClr val="000000"/>
                </a:solidFill>
                <a:latin typeface="AR P明朝体U"/>
              </a:rPr>
              <a:t>3</a:t>
            </a:r>
            <a:r>
              <a:rPr b="0" lang="ja-JP" sz="3600" spc="-1" strike="noStrike">
                <a:solidFill>
                  <a:srgbClr val="000000"/>
                </a:solidFill>
                <a:latin typeface="AR P明朝体U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100000"/>
              </a:lnSpc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明朝体U"/>
              </a:rPr>
              <a:t>「医師にあんたが悪いと言われ傷ついた」「撲滅して医療費削減効果はあるか」「厄払いの科学的根拠か」「健康自己責任論への疑問」など、多様な情報ニーズが把握可能</a:t>
            </a:r>
            <a:endParaRPr b="0" lang="en-US" sz="36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100000"/>
              </a:lnSpc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明朝体U"/>
              </a:rPr>
              <a:t>メタボリックなど新たな情報でのモニタリングが可能</a:t>
            </a:r>
            <a:endParaRPr b="0" lang="en-US" sz="3600" spc="-1" strike="noStrike">
              <a:solidFill>
                <a:srgbClr val="000000"/>
              </a:solidFill>
              <a:latin typeface="AR Pゴシック体M"/>
            </a:endParaRPr>
          </a:p>
          <a:p>
            <a:pPr marL="382680" indent="-382680">
              <a:lnSpc>
                <a:spcPct val="100000"/>
              </a:lnSpc>
              <a:spcBef>
                <a:spcPts val="901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 P明朝体U"/>
              </a:rPr>
              <a:t>良回答（全質問の</a:t>
            </a:r>
            <a:r>
              <a:rPr b="0" lang="en-US" sz="3600" spc="-1" strike="noStrike">
                <a:solidFill>
                  <a:srgbClr val="000000"/>
                </a:solidFill>
                <a:latin typeface="AR P明朝体U"/>
              </a:rPr>
              <a:t>85</a:t>
            </a:r>
            <a:r>
              <a:rPr b="0" lang="ja-JP" sz="3600" spc="-1" strike="noStrike">
                <a:solidFill>
                  <a:srgbClr val="000000"/>
                </a:solidFill>
                <a:latin typeface="AR P明朝体U"/>
              </a:rPr>
              <a:t>％以上にある ）の要因分析では、回答者の種類や自信などとはいずれも関連が見られず（回答者別のポイントの割合は図</a:t>
            </a:r>
            <a:r>
              <a:rPr b="0" lang="en-US" sz="3600" spc="-1" strike="noStrike">
                <a:solidFill>
                  <a:srgbClr val="000000"/>
                </a:solidFill>
                <a:latin typeface="AR P明朝体U"/>
              </a:rPr>
              <a:t>4</a:t>
            </a:r>
            <a:r>
              <a:rPr b="0" lang="ja-JP" sz="3600" spc="-1" strike="noStrike">
                <a:solidFill>
                  <a:srgbClr val="000000"/>
                </a:solidFill>
                <a:latin typeface="AR P明朝体U"/>
              </a:rPr>
              <a:t>）、回答の内容が問題</a:t>
            </a:r>
            <a:endParaRPr b="0" lang="en-US" sz="3600" spc="-1" strike="noStrike">
              <a:solidFill>
                <a:srgbClr val="000000"/>
              </a:solidFill>
              <a:latin typeface="AR Pゴシック体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05:27:43Z</dcterms:created>
  <dc:creator>中山和弘</dc:creator>
  <dc:description/>
  <dc:language>en-US</dc:language>
  <cp:lastModifiedBy>中山和弘</cp:lastModifiedBy>
  <dcterms:modified xsi:type="dcterms:W3CDTF">2007-12-07T04:01:24Z</dcterms:modified>
  <cp:revision>119</cp:revision>
  <dc:subject/>
  <dc:title>利用者参加とオープン志向が特徴のWeb2.0型Q&amp;Aサイトにみるヘルスコミュニケーション</dc:title>
</cp:coreProperties>
</file>