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801600" cy="96012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5520" rIns="6552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move the slide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130AACB-B367-402E-9857-4662548568D9}" type="slidenum"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スライド番号プレースホルダ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520" rIns="65520" tIns="32760" bIns="32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8156E49-BD7D-471B-8E01-D8291503A510}" type="slidenum"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6CE-3B86-4772-99E2-B7179BD9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643-EF10-4F17-8DC7-BC8365C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75C6B-36B0-4BDE-AF30-39B962E2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FC01C-21CF-4E0B-877F-B5743C3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4F815-90E4-407F-A783-0B202498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F4857-47FF-4CE9-9D62-3C6A200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27218-F31C-468F-857A-E27F128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B0DD8-FC73-4E9C-B329-F68CAAA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A1510-DA6D-4057-910E-5EEC27D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BE86C-3196-490A-A2AC-EEF2747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E9361-E0D8-4572-A875-E6AA382D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E7739-9798-494C-888C-CCE8D0B4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2D8-CB30-489A-8EEF-464DF237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FA913-5ECC-4204-96A5-313557A6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9794B-BEED-4AF6-A194-FA76874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19CCE-380C-4E2C-9CFF-E76F261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D92E1-591D-4284-816F-EF0C351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87C6D-EFF6-4C60-90B1-38E6B1D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FDDAA-EC73-47A2-8119-EDA565C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1A53C-07D1-491E-8BE3-0A6F84E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E8449-1BCA-448B-8ED4-6C6A49A2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15E31-A987-492B-9988-386F5D2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73252-2110-4137-8124-CE4DE562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56B-15E6-41B1-AD75-1684EBE5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172B4-8A83-4184-9E89-F0A136CA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FBE0A-C6D2-4CA6-82E2-09667AF1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C1A39-E189-4112-A6A7-47BC302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F6B8-F70A-476D-9050-4BC6CF1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267BB-8BD7-40C4-AFFA-15E6108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ECF1C-A5B2-4DDD-9B3F-87414F29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447D-87DE-4822-99C4-AB58427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1FF5D-1C40-49F0-A6E0-8FF6C71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5639-5167-4AAB-BAFD-C0A2C26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60A64-87C0-4D5C-8A8D-2E39329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EBD0-4C81-485C-893E-5CAAE1D4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A3707-7BB0-48B8-826A-9E93BED1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3E667-AC44-4144-B0CB-1A941D32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81E9D-FF43-4602-8F69-0A0C0E57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68B3E-98C6-43BB-BFC5-DBF1FB0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A53F0-CEE5-4345-A543-2166CE1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CF076-FF3D-4AD0-AB59-8BE5060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ED417-E3A0-4953-B902-17BE64A6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DC20A-8DC0-4FFC-8EDC-F05DFA10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335AC-5D57-4229-BE3C-FD94A6B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54265-8F83-4076-A2CD-153FBBF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49F-A718-43F5-A26A-B78084F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145A7-D8D3-4193-BF23-3868E04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5D0EF-5AE3-4868-8E44-C2009F5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4A74E-6F68-42EA-8C98-76B5D97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2CB51-B077-47DC-BA6D-EC68E73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AB741-5023-450E-9313-D73D409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5F48-92C1-469F-8AD3-B948E17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19D5-B0E4-422B-AA63-2E02E07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B14-505B-41B2-9217-30F2C4FD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00A-28F1-42FE-BD7B-6966E60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24B-EBC9-4590-B099-B9957CD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DB6-E994-43CF-8014-0FD1A2DD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262-F13D-45C4-8FDE-13DB274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A9C-4392-463C-B478-4BB2746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101-5B4B-43A7-8E47-E96B9A8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DA90-F57C-4BD4-85D9-6BF73537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46B-797D-4EE2-91EE-9369DD3B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187A-2AB5-4F14-A423-F3E528F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4BED-0D38-4D56-94D9-EAE44CD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3982-B184-48C7-AAFC-2AC35ED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A190-9980-4384-ACAE-93754F7F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22C1-5F4B-4877-8BC8-B32AC18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E06-63A8-4E41-8941-F90E18CA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624A-AD35-4F62-9F0D-7E1EB5D8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3F59-4075-4EDA-B7B2-F66FC12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2E3F-FEA9-4C91-B537-1CE41D6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B63A-32DC-468B-B8F9-22C447A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12B4-9DAD-44EA-A9FF-8040001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193A-037D-412A-8E64-B1B2ED34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3110-E751-4293-8922-DF4E5E50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596E-793E-4C17-BB99-D77AAC45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EAFF-8B25-4E19-AA4B-0BC6940B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49D4-2157-45EA-A53F-FE24BD68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B5E-502A-4D5D-B38B-240D4660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B185-34E0-431E-B0C4-51C9D3E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90D6-835F-43A7-84B5-FBB69F5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03A4-9953-4E1B-AA1C-29C5A27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CD2D-6861-40C6-AFF3-8222AA4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1D8C-D1EB-4F53-8F44-9453596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865A-F854-4C19-BBC3-ECB4842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6B07-8786-4553-AC14-649602F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B2AF-A165-49BB-8FF7-9C5B1141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695A-9BB0-48FA-87BC-BF2DD675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57DEB-BC48-4E0A-A3DB-F8D0B6B2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01B-4CEE-4CE3-83E1-66810601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92F0-F564-4B79-A015-E0D4FECF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0ABF-F14F-4819-9726-A812DA1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B529-9A1E-4021-BA60-1BA93FB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2A38-FD86-4E60-B34C-EF539C7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14248-43E2-4BE8-80CC-E22FFE2F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AA53-2820-4A38-84D0-7325029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2D6C7-6EF5-41D0-9B28-2F8ADFA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DC0A-6FE3-40E6-A3C7-474BE3B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0B7D-EFA8-41FC-BC22-02D94B9D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B964-317D-429D-9F77-D8883000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3DD-C88A-4285-8564-47F5592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87C1-AC25-4C4D-9A71-CB67EAF4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3E36-01C0-4666-8EC3-16999972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E76A-B741-42FA-9032-E62AAE9B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D38B8-A32F-4337-AB0A-6B22518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087A-ABC0-4474-A7D9-F2DAEAC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1DAF-CEB3-4E70-A7CA-C47C0B9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29E4-D4F8-4140-8808-58A53EB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C09D-17A8-4952-BD9B-A813D72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8CC1-C4F2-4A4E-B183-B3EBE08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E9A2-2639-4E78-B4E7-1AF0EC7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ACB-CE8F-4A7F-87C2-969B021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1309-88B3-4578-A889-3BDCEA84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B008-9BF7-42BF-96DB-9744C6D3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E7BC-93F3-4F88-B28C-ED2166D8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EB00A-299C-41C6-A3DB-B05CA71B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8CAE-079B-4722-96FC-E5DB9EF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42FC-2D5E-461B-886A-AF83FDB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387D-6F2B-4BD8-9712-1BD1892F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6711-C789-475A-A36D-5B932287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F7BE-69A9-47FA-A4DC-2976AB53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F53A-F2BA-4CFB-B097-4F374F80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C77-FC52-4D9B-85FC-BE17116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AA42-8EF6-4FED-9B34-3290D4D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B780-7A3D-4712-86A3-8F77799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736A-CB43-45E5-8212-6F7A59F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B4D1-81A0-4348-9079-C885B1F7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F7801-394B-4907-9246-BC37FB6F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7FEF-04C1-4902-951A-B02ABFB4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FC37-C04D-45FF-8F57-08F5BBB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CB6CA-BFBE-4668-96A4-DBE3770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1580-BB47-4700-9074-F1BF3872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BE77-9ADC-4F95-B4E6-D583F28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001-FF1D-4024-9702-816A67E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89DB-FEAF-4943-B7DE-33E2E80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A13C-72E2-45F6-8E92-0E74D2A9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37AA-2AEB-45B3-A0C1-3514806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8AF1-0A4A-496B-BCEF-5F026C6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5D69-AE23-4005-8A56-0196648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A1E0E-C28A-4DA1-A4FB-EA8062F7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7BA1-2F72-451A-9CD6-2E2001D4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D807D-E800-49CC-B6AB-07592C7D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56A3A-576F-41CF-B0D0-036BDE2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858F9-4BAB-4839-858C-71AEBB6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E912C0D-076A-4CFF-9500-8C955EABBC00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線コネクタ 19"/>
          <p:cNvSpPr/>
          <p:nvPr/>
        </p:nvSpPr>
        <p:spPr>
          <a:xfrm>
            <a:off x="212760" y="74628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5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6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7" name="正方形/長方形 24"/>
          <p:cNvSpPr/>
          <p:nvPr/>
        </p:nvSpPr>
        <p:spPr>
          <a:xfrm>
            <a:off x="0" y="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8" name="正方形/長方形 25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9" name="正方形/長方形 26"/>
          <p:cNvSpPr/>
          <p:nvPr/>
        </p:nvSpPr>
        <p:spPr>
          <a:xfrm>
            <a:off x="212760" y="212760"/>
            <a:ext cx="12366720" cy="4237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0" name="正方形/長方形 27"/>
          <p:cNvSpPr/>
          <p:nvPr/>
        </p:nvSpPr>
        <p:spPr>
          <a:xfrm>
            <a:off x="212760" y="853920"/>
            <a:ext cx="3841560" cy="82137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1" name="正方形/長方形 28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2" name="円/楕円 29"/>
          <p:cNvSpPr/>
          <p:nvPr/>
        </p:nvSpPr>
        <p:spPr>
          <a:xfrm>
            <a:off x="1812960" y="320760"/>
            <a:ext cx="853920" cy="85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3" name="円/楕円 30"/>
          <p:cNvSpPr/>
          <p:nvPr/>
        </p:nvSpPr>
        <p:spPr>
          <a:xfrm>
            <a:off x="1946160" y="452520"/>
            <a:ext cx="58896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4" name="正方形/長方形 31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920600" y="43776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28C8908-4E39-41EB-8034-B851F5A5076C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8104320" y="8966160"/>
            <a:ext cx="42624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21920" y="8975880"/>
            <a:ext cx="50180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7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8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9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0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1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2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3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4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4EAA297-9BB2-4FB6-B4D0-C2D2D4727D53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7" name="正方形/長方形 20"/>
          <p:cNvSpPr/>
          <p:nvPr/>
        </p:nvSpPr>
        <p:spPr>
          <a:xfrm>
            <a:off x="9813960" y="0"/>
            <a:ext cx="298764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8" name="正方形/長方形 23"/>
          <p:cNvSpPr/>
          <p:nvPr/>
        </p:nvSpPr>
        <p:spPr>
          <a:xfrm>
            <a:off x="0" y="0"/>
            <a:ext cx="128016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9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0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1" name="正方形/長方形 26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2" name="直線コネクタ 27"/>
          <p:cNvSpPr/>
          <p:nvPr/>
        </p:nvSpPr>
        <p:spPr>
          <a:xfrm>
            <a:off x="10002960" y="217440"/>
            <a:ext cx="0" cy="874404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3" name="円/楕円 28"/>
          <p:cNvSpPr/>
          <p:nvPr/>
        </p:nvSpPr>
        <p:spPr>
          <a:xfrm>
            <a:off x="9575640" y="4095720"/>
            <a:ext cx="85248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4" name="円/楕円 29"/>
          <p:cNvSpPr/>
          <p:nvPr/>
        </p:nvSpPr>
        <p:spPr>
          <a:xfrm>
            <a:off x="9707400" y="4229280"/>
            <a:ext cx="588960" cy="5871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681840" y="4213080"/>
            <a:ext cx="6397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C1A9E3F-ECED-4DB3-82CD-6C50A0DB4540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" name="正方形/長方形 20"/>
          <p:cNvSpPr/>
          <p:nvPr/>
        </p:nvSpPr>
        <p:spPr>
          <a:xfrm>
            <a:off x="12588840" y="468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2" name="正方形/長方形 23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" name="正方形/長方形 24"/>
          <p:cNvSpPr/>
          <p:nvPr/>
        </p:nvSpPr>
        <p:spPr>
          <a:xfrm>
            <a:off x="0" y="0"/>
            <a:ext cx="12801600" cy="35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" name="直線コネクタ 26"/>
          <p:cNvSpPr/>
          <p:nvPr/>
        </p:nvSpPr>
        <p:spPr>
          <a:xfrm>
            <a:off x="217440" y="338760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" name="正方形/長方形 27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7" name="円/楕円 28"/>
          <p:cNvSpPr/>
          <p:nvPr/>
        </p:nvSpPr>
        <p:spPr>
          <a:xfrm>
            <a:off x="5973840" y="296064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" name="円/楕円 29"/>
          <p:cNvSpPr/>
          <p:nvPr/>
        </p:nvSpPr>
        <p:spPr>
          <a:xfrm>
            <a:off x="6107040" y="309420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080040" y="307944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6D8FE66-8DA5-413B-8D90-744A276F0DAD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1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2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3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4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5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6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7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8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106680" y="143640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D93FF29-3672-47FC-AE4E-B4648B7BFD8C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正方形/長方形 19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1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2" name="正方形/長方形 23"/>
          <p:cNvSpPr/>
          <p:nvPr/>
        </p:nvSpPr>
        <p:spPr>
          <a:xfrm>
            <a:off x="0" y="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3" name="正方形/長方形 24"/>
          <p:cNvSpPr/>
          <p:nvPr/>
        </p:nvSpPr>
        <p:spPr>
          <a:xfrm>
            <a:off x="12588840" y="2700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4" name="正方形/長方形 25"/>
          <p:cNvSpPr/>
          <p:nvPr/>
        </p:nvSpPr>
        <p:spPr>
          <a:xfrm>
            <a:off x="212760" y="3200400"/>
            <a:ext cx="12366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5" name="正方形/長方形 26"/>
          <p:cNvSpPr/>
          <p:nvPr/>
        </p:nvSpPr>
        <p:spPr>
          <a:xfrm>
            <a:off x="217440" y="200160"/>
            <a:ext cx="12366720" cy="29955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6" name="正方形/長方形 27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7" name="正方形/長方形 28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8" name="直線コネクタ 29"/>
          <p:cNvSpPr/>
          <p:nvPr/>
        </p:nvSpPr>
        <p:spPr>
          <a:xfrm>
            <a:off x="212760" y="341316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9" name="円/楕円 30"/>
          <p:cNvSpPr/>
          <p:nvPr/>
        </p:nvSpPr>
        <p:spPr>
          <a:xfrm>
            <a:off x="5973840" y="296064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0" name="円/楕円 31"/>
          <p:cNvSpPr/>
          <p:nvPr/>
        </p:nvSpPr>
        <p:spPr>
          <a:xfrm>
            <a:off x="6107040" y="309420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080040" y="307944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5A42A2D-503B-4D3D-9902-D1CE148A4E4E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3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4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5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6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7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8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9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0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1" name="直線コネクタ 19"/>
          <p:cNvSpPr/>
          <p:nvPr/>
        </p:nvSpPr>
        <p:spPr>
          <a:xfrm flipV="1">
            <a:off x="6388200" y="2206440"/>
            <a:ext cx="12600" cy="674676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8106840" y="8974080"/>
            <a:ext cx="426420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1C2152C-9784-4BBA-A81A-F7456C5A341A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コネクタ 19"/>
          <p:cNvSpPr/>
          <p:nvPr/>
        </p:nvSpPr>
        <p:spPr>
          <a:xfrm flipV="1">
            <a:off x="6400800" y="3079440"/>
            <a:ext cx="0" cy="586404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4" name="正方形/長方形 20"/>
          <p:cNvSpPr/>
          <p:nvPr/>
        </p:nvSpPr>
        <p:spPr>
          <a:xfrm>
            <a:off x="0" y="0"/>
            <a:ext cx="12801600" cy="20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5" name="正方形/長方形 23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6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7" name="正方形/長方形 25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8" name="正方形/長方形 26"/>
          <p:cNvSpPr/>
          <p:nvPr/>
        </p:nvSpPr>
        <p:spPr>
          <a:xfrm>
            <a:off x="212760" y="1920960"/>
            <a:ext cx="12366720" cy="1279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9" name="正方形/長方形 27"/>
          <p:cNvSpPr/>
          <p:nvPr/>
        </p:nvSpPr>
        <p:spPr>
          <a:xfrm>
            <a:off x="204840" y="8948880"/>
            <a:ext cx="12366720" cy="4348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0" name="直線コネクタ 28"/>
          <p:cNvSpPr/>
          <p:nvPr/>
        </p:nvSpPr>
        <p:spPr>
          <a:xfrm>
            <a:off x="212760" y="179244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1" name="正方形/長方形 29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2" name="円/楕円 30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3" name="円/楕円 31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26960" y="89740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080040" y="145872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388E05D-E523-4C02-8FB4-E52B4586BF74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6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7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8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9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0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1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2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3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080040" y="1450800"/>
            <a:ext cx="641520" cy="617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0CCD020-E5D3-4F0A-B979-F987E48F9B1A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6" name="正方形/長方形 20"/>
          <p:cNvSpPr/>
          <p:nvPr/>
        </p:nvSpPr>
        <p:spPr>
          <a:xfrm>
            <a:off x="0" y="0"/>
            <a:ext cx="128016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7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8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9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0" name="正方形/長方形 26"/>
          <p:cNvSpPr/>
          <p:nvPr/>
        </p:nvSpPr>
        <p:spPr>
          <a:xfrm>
            <a:off x="212760" y="22212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973840" y="8854920"/>
            <a:ext cx="853920" cy="617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3763C0B-8378-46B5-8D2B-B7C8F1B24900}" type="slidenum">
              <a:rPr b="0" lang="ja-JP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正方形/長方形 19"/>
          <p:cNvSpPr/>
          <p:nvPr/>
        </p:nvSpPr>
        <p:spPr>
          <a:xfrm>
            <a:off x="212760" y="212760"/>
            <a:ext cx="12366720" cy="42696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3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4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5" name="正方形/長方形 24"/>
          <p:cNvSpPr/>
          <p:nvPr/>
        </p:nvSpPr>
        <p:spPr>
          <a:xfrm>
            <a:off x="0" y="0"/>
            <a:ext cx="1280160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6" name="正方形/長方形 25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7" name="正方形/長方形 26"/>
          <p:cNvSpPr/>
          <p:nvPr/>
        </p:nvSpPr>
        <p:spPr>
          <a:xfrm>
            <a:off x="212760" y="853920"/>
            <a:ext cx="3841560" cy="82137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8" name="正方形/長方形 27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9" name="直線コネクタ 28"/>
          <p:cNvSpPr/>
          <p:nvPr/>
        </p:nvSpPr>
        <p:spPr>
          <a:xfrm>
            <a:off x="212760" y="74628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0" name="円/楕円 29"/>
          <p:cNvSpPr/>
          <p:nvPr/>
        </p:nvSpPr>
        <p:spPr>
          <a:xfrm>
            <a:off x="1812960" y="320760"/>
            <a:ext cx="853920" cy="85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1" name="円/楕円 30"/>
          <p:cNvSpPr/>
          <p:nvPr/>
        </p:nvSpPr>
        <p:spPr>
          <a:xfrm>
            <a:off x="1946160" y="452520"/>
            <a:ext cx="58896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2" name="正方形/長方形 31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920600" y="43776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21B215E-31A0-4CFF-A80F-0A85F7D1C01A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21920" y="8975880"/>
            <a:ext cx="47372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99760" y="3000240"/>
            <a:ext cx="1148076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利用者参加とオープン志向が特徴の</a:t>
            </a:r>
            <a:r>
              <a:rPr b="0" lang="en-US" sz="6000" spc="-1" strike="noStrike">
                <a:solidFill>
                  <a:srgbClr val="8e7c5c"/>
                </a:solidFill>
                <a:latin typeface="セイビイサラゴEB-P"/>
              </a:rPr>
              <a:t>Web2.0</a:t>
            </a: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型</a:t>
            </a:r>
            <a:r>
              <a:rPr b="0" lang="en-US" sz="6000" spc="-1" strike="noStrike">
                <a:solidFill>
                  <a:srgbClr val="8e7c5c"/>
                </a:solidFill>
                <a:latin typeface="セイビイサラゴEB-P"/>
              </a:rPr>
              <a:t>Q&amp;A</a:t>
            </a: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サイトにみる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ヘルスコミュニケーション：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生活習慣病とメタボリック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シンドロームの質問と回答</a:t>
            </a:r>
            <a:endParaRPr b="0" lang="en-US" sz="60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2200320" y="6100560"/>
            <a:ext cx="8980560" cy="159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marL="382680" indent="-382680"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ゴシック体M"/>
              </a:rPr>
              <a:t>中山和弘（聖路加看護大学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ゴシック体M"/>
              </a:rPr>
              <a:t>戸ヶ里泰典（東京大学大学院健康社会学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結論：残された課題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良回答は「専門家」以外からも同程度に提供され、質問者のニーズには、専門的な知識に限らず、共感や理解、妥当性や承認などのサポートが含まれるのか、コミュニケーション手法の問題か（回答者分類の正確さの問題は残る。「専門家」は</a:t>
            </a:r>
            <a:r>
              <a:rPr b="0" lang="en-US" sz="3500" spc="-1" strike="noStrike">
                <a:solidFill>
                  <a:srgbClr val="000000"/>
                </a:solidFill>
                <a:latin typeface="AR P明朝体U"/>
              </a:rPr>
              <a:t>9</a:t>
            </a: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割以上「自信あり」で他より有意に高い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今後、質問と回答の文脈や表現方法の分析により、市民の情報やコミュニケーションにおけるニーズが把握可能か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参加型</a:t>
            </a:r>
            <a:r>
              <a:rPr b="0" lang="en-US" sz="3500" spc="-1" strike="noStrike">
                <a:solidFill>
                  <a:srgbClr val="000000"/>
                </a:solidFill>
                <a:latin typeface="AR P明朝体U"/>
              </a:rPr>
              <a:t>Q&amp;A</a:t>
            </a: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サイトは「集合知」による助け合いのコミュニティとして発展の可能性、そのとき専門職は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lnSpc>
                <a:spcPct val="100000"/>
              </a:lnSpc>
              <a:spcBef>
                <a:spcPts val="649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本研究は日本学術振興会科学研究費補助金基盤研究（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）「インターネット情報に翻弄される患者、家族を支援する看護職のための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e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ラーニング開発」（研究代表者　中山和弘、平成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19-22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年度）の一部として実施した</a:t>
            </a:r>
            <a:endParaRPr b="0" lang="en-US" sz="2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背景と目的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Web2.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型またはユーザ参加型の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Q&amp;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サイト（「教えて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Yahoo!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知恵袋」など）は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Web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で現在もっとも成長している領域である（前年比約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-3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％）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健康関連の質問も数十万件以上で、検索ヒット率の高い情報資源となってきている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有効なヘルスコミュニケーション（健康情報の伝達･共有）には、個々人の状況や文脈に沿っていることが必要であり、このような消費者生成型メディア（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GM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onsumer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enerated Medi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）は、利用者参加とオープン志向でそれを実現している可能性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そこで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Q&amp;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サイトの質問と回答の分析を試み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対象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対象サイト：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OKwave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http://okwave.jp/ 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選定理由：月間利用者は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5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万以上と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Yah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！知恵袋」と並ぶ最大手であり、内容は「教えて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とほぼ同じであるが、検索機能が充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質問内の検索キーワード： 「生活習慣病」 と「メタボリックシンドローム（メタボリック、メタボ、メタボリック症候群を含む）」 の２つ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検索対象期間：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7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年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9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月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3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日から過去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年まで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検索でヒットした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13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件と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133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件の質問について、まず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4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半期ごとの質問数の推移の把握、質問の分類を行っ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分析項目と方法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それぞれの質問への全回答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38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件と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98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件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目的変数は、質問者が良回答に対して１つずつ与えられる「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0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ｐｔ」と「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10pt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」のポイントの有無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説明変数は以下の３項目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者（「どんな人」）：「経験者」「一般人」「専門家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の種類：「アドバイス」「回答」「補足要求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に対する自信：「自信あり」「参考意見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クロス表による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χ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検定と、良回答のポイントの有無</a:t>
            </a:r>
            <a:br>
              <a:rPr sz="3800"/>
            </a:b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（２値）を目的変数としたロジスティック回帰分析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（モデルは主効果のみと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次の交互作用も含むもの）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1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質問件数の推移（四半期毎：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Q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2" name="コンテンツ プレースホルダ 3" descr=""/>
          <p:cNvPicPr/>
          <p:nvPr/>
        </p:nvPicPr>
        <p:blipFill>
          <a:blip r:embed="rId1"/>
          <a:stretch/>
        </p:blipFill>
        <p:spPr>
          <a:xfrm>
            <a:off x="414360" y="2133720"/>
            <a:ext cx="1191744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2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生活習慣病の質問の内容（％、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N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＝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121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4" name="コンテンツ プレースホルダ 8" descr=""/>
          <p:cNvPicPr/>
          <p:nvPr/>
        </p:nvPicPr>
        <p:blipFill>
          <a:blip r:embed="rId1"/>
          <a:stretch/>
        </p:blipFill>
        <p:spPr>
          <a:xfrm>
            <a:off x="493560" y="2097000"/>
            <a:ext cx="1191132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3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メタボリックの質問の内容（％、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N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＝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97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6" name="コンテンツ プレースホルダ 5" descr=""/>
          <p:cNvPicPr/>
          <p:nvPr/>
        </p:nvPicPr>
        <p:blipFill>
          <a:blip r:embed="rId1"/>
          <a:stretch/>
        </p:blipFill>
        <p:spPr>
          <a:xfrm>
            <a:off x="463680" y="2077920"/>
            <a:ext cx="11917080" cy="6516720"/>
          </a:xfrm>
          <a:prstGeom prst="rect">
            <a:avLst/>
          </a:prstGeom>
          <a:ln w="0">
            <a:noFill/>
          </a:ln>
        </p:spPr>
      </p:pic>
      <p:sp>
        <p:nvSpPr>
          <p:cNvPr id="627" name="テキスト ボックス 6"/>
          <p:cNvSpPr/>
          <p:nvPr/>
        </p:nvSpPr>
        <p:spPr>
          <a:xfrm>
            <a:off x="7900920" y="4900680"/>
            <a:ext cx="41007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全体（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N=133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）から、  「生命保険・医療保険関連」 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3.8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、体型表現（ 「メタボ系」 「メタボおやじ」など）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12.0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、直接関連しないも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11.3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を除いて再集計した</a:t>
            </a:r>
            <a:endParaRPr b="0" lang="en-US" sz="2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４　回答者別の良回答ポイントの割合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9" name="コンテンツ プレースホルダ 5" descr=""/>
          <p:cNvPicPr/>
          <p:nvPr/>
        </p:nvPicPr>
        <p:blipFill>
          <a:blip r:embed="rId1"/>
          <a:stretch/>
        </p:blipFill>
        <p:spPr>
          <a:xfrm>
            <a:off x="536400" y="2152800"/>
            <a:ext cx="119113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結果と考察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メタボリックへの注目度は急上昇で（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1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、内容では、生活習慣病にくらべその定義や対応が中心（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、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「医師にあんたが悪いと言われ傷ついた」「撲滅して医療費削減効果はあるか」「厄払いの科学的根拠か」「健康自己責任論への疑問」など、多様な情報ニーズが把握可能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メタボリックなど新たな情報でのモニタリングが可能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良回答（全質問の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85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％以上にある ）の要因分析では、回答者の種類や自信などとはいずれも関連が見られず（回答者別のポイントの割合は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4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、回答の内容が問題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5:27:43Z</dcterms:created>
  <dc:creator>中山和弘</dc:creator>
  <dc:description/>
  <dc:language>en-US</dc:language>
  <cp:lastModifiedBy>中山和弘</cp:lastModifiedBy>
  <dcterms:modified xsi:type="dcterms:W3CDTF">2007-12-07T04:01:24Z</dcterms:modified>
  <cp:revision>119</cp:revision>
  <dc:subject/>
  <dc:title>利用者参加とオープン志向が特徴のWeb2.0型Q&amp;Aサイトにみるヘルスコミュニケーション</dc:title>
</cp:coreProperties>
</file>