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475-172D-4D6A-82AE-53139ECA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D07-A498-432C-B62C-B2678710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77F-F5D5-4550-A33D-A28398E9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B8B-AD3E-4AB6-922D-A8225759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217-5E59-472D-AF22-3338F1CA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21D-5BA8-4300-A036-92BFBF2F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579-E738-4295-B2AF-FB0BF79F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2022-02F1-4839-9D31-061C0463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1A4-2DBB-4725-8104-571F8891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231-C2EB-4BE8-8F64-A7D2455C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10E-266C-4C50-AFDF-89B5A193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20D-4A94-46CF-AF73-02D202BB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782B-7920-4096-A707-261BFBC0D1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6440" y="0"/>
            <a:ext cx="6095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8080"/>
                </a:solidFill>
                <a:latin typeface="ＭＳ Ｐゴシック"/>
              </a:rPr>
              <a:t>ＩＫＳＰＩＡＲＩ </a:t>
            </a: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8080"/>
                </a:solidFill>
                <a:latin typeface="ＭＳ Ｐゴシック"/>
              </a:rPr>
              <a:t>Countdown </a:t>
            </a:r>
            <a:r>
              <a:rPr b="0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8080"/>
                </a:solidFill>
                <a:latin typeface="ＭＳ Ｐゴシック"/>
              </a:rPr>
              <a:t>第九合唱団 ２０１１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00808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5880"/>
            <a:ext cx="66978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募集人数／・ソプラノ：４０名（締切）　　・アルト：４０名（締切） 　　　・テノール：２０名　　　・バス：２０名　　　計／１２０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参加資格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／● 年齢問わず、但し、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『第九』の合唱を今までに経験のある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  　　   ● 上記全日程に参加可能な方　（※止むを得ない理由がある場合は相談に応じます。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参加特典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／☆参加費は無料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　　　　　　　  ☆イクスピアリお買い物券（２千円分）＋交通費（千円）を参加者全員に差し上げます！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60" y="7311960"/>
            <a:ext cx="6627960" cy="261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</a:rPr>
              <a:t>参加ご希望の方は別紙参加用紙にご記入の上、下記事務局まで郵送又はＦａｘにてお送り下さい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409840" y="8001000"/>
            <a:ext cx="4267080" cy="999000"/>
            <a:chOff x="2409840" y="8001000"/>
            <a:chExt cx="4267080" cy="999000"/>
          </a:xfrm>
        </p:grpSpPr>
        <p:sp>
          <p:nvSpPr>
            <p:cNvPr id="45" name=""/>
            <p:cNvSpPr/>
            <p:nvPr/>
          </p:nvSpPr>
          <p:spPr>
            <a:xfrm>
              <a:off x="2409840" y="8153280"/>
              <a:ext cx="4267080" cy="838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62120" y="8181720"/>
              <a:ext cx="403812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（株）シーガル・アーツ／イクスピアリ カウントダウン第九合唱団事務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〒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134-0088</a:t>
              </a:r>
              <a:r>
                <a:rPr b="0" lang="zh-CN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　　東京都江戸川区西葛西３－３－２１－７０１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TEL</a:t>
              </a:r>
              <a:r>
                <a:rPr b="0" lang="zh-CN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：０３‐６６６３‐６０７５　　　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FAX</a:t>
              </a:r>
              <a:r>
                <a:rPr b="0" lang="zh-CN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：０３‐６６６３‐６０７６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担当／計屋（はかりや）　※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8/11</a:t>
              </a:r>
              <a:r>
                <a:rPr b="0" lang="zh-CN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～</a:t>
              </a:r>
              <a:r>
                <a:rPr b="0" lang="en-US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22</a:t>
              </a:r>
              <a:r>
                <a:rPr b="0" lang="zh-CN" sz="1000" spc="-1" strike="noStrike">
                  <a:solidFill>
                    <a:srgbClr val="000000"/>
                  </a:solidFill>
                  <a:latin typeface="ＭＳ ＰＲゴシック"/>
                  <a:ea typeface="ＭＳ ＰＲゴシック"/>
                </a:rPr>
                <a:t>の期間、会社は休みです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57400" y="8001000"/>
              <a:ext cx="12189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85800" y="7629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※</a:t>
            </a:r>
            <a:r>
              <a:rPr b="1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定員になり次第、締切となります。早めにお申し込み下さ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2440" y="8039160"/>
            <a:ext cx="1676520" cy="9619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締　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Ｈ２２．９／３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（男性パートは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／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まで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196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　～合　唱　団　員～募　集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61960" y="1219320"/>
            <a:ext cx="5829120" cy="4835880"/>
            <a:chOff x="561960" y="1219320"/>
            <a:chExt cx="5829120" cy="4835880"/>
          </a:xfrm>
        </p:grpSpPr>
        <p:sp>
          <p:nvSpPr>
            <p:cNvPr id="52" name=""/>
            <p:cNvSpPr/>
            <p:nvPr/>
          </p:nvSpPr>
          <p:spPr>
            <a:xfrm>
              <a:off x="561960" y="1219320"/>
              <a:ext cx="5829120" cy="4835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2726"/>
              </a:solidFill>
              <a:miter/>
            </a:ln>
            <a:effectLst>
              <a:outerShdw dist="153753" dir="2700000" blurRad="0" rotWithShape="0">
                <a:srgbClr val="0066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【 開催日時】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</a:t>
              </a: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２０１０年１２月３１日（金）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時間／１９：３０頃　（まだ予定です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【 場　　　所】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</a:t>
              </a: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ＩＫＳＰＩＡＲＩ／セレブレーションプラザ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（＊雨天時：屋内にて実施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【 内　　　容】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ベートーヴェン作曲　交響曲「第９番」より　第４楽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【 出　　　演】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オーケストラ：浦安シティオーケストラ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　　　　　　　　合　唱：ＩＫＳＰＩＡＲＩカウントダウン第九合唱団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　　　　　　　　指　揮：木下　隆史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　　　　　　　　ソリスト：清水　理恵（ソプラノ）　　　 小泉詠子（アルト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　　　　　　　　　　　　　 上本　訓久（テノール）　　   古澤　利人（バス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【協力団体】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浦安シティオーケストラ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【制作・運営】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 株式会社シーガル・アーツ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【主　　　催】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株式会社イクスピアリ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 ☆</a:t>
              </a: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合唱稽古　　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①Ｈ２２．１１／２２（月）　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18:30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～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21:00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②Ｈ２２．１１／２９（月）　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18:30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～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21: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　　　　　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③Ｈ２２．１２／６（月）　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18:30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～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21:00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  ④Ｈ２２．１２／１３（月）　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18:30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～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21: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　　　　　　■場　所：浦安市民プラザ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Wave101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）大ホール　　＊４回とも同じ場所です。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　　　　　　　　■指導者：古澤　利人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☆ </a:t>
              </a: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全体リハーサル（オーケストラ合わせ）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■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日　時：Ｈ２２．１２／２３（木・祝）　　午後～１８：００の間で３時間程度を予定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■場　所：浦安市民プラザ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Wave101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）大ホール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■日　時：Ｈ２２．１２／３０（木）　　夕方以降～　（予定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  <a:ea typeface="ＭＳ ＰＲゴシック"/>
                </a:rPr>
                <a:t>　　■場　所：ＩＫＳＰＩＡＲＩ／セレブレーションプラザ　（本番と同じ場所です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1960" y="3435120"/>
              <a:ext cx="582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1960" y="5263920"/>
              <a:ext cx="582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6080" y="3511440"/>
              <a:ext cx="1600200" cy="228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6080" y="5340240"/>
              <a:ext cx="1600200" cy="2282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Times New Roman"/>
                </a:rPr>
                <a:t>－ゲネプロ日程－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52400" y="3514680"/>
            <a:ext cx="15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－リハーサル日程－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57680" y="7891560"/>
            <a:ext cx="314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　　　　　　　◇お問い合わせ＆申し込み先◇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446120"/>
            <a:ext cx="632448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《参加ご希望の方は、下記の項目に漏れなくご記入の上お送り下さい。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ＭＳ ゴシック"/>
              </a:rPr>
              <a:t>※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  <a:ea typeface="ＭＳ ゴシック"/>
              </a:rPr>
              <a:t>定員になり次第、締切とさせて頂きますので、お早めにお送り下さい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271600"/>
            <a:ext cx="1066680" cy="32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ふりがな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氏　　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住　　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携帯番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パー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95640"/>
            <a:ext cx="6172200" cy="4557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500200"/>
            <a:ext cx="4343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9574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719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1767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6339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0767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2195640"/>
            <a:ext cx="0" cy="35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957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〒　　　　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164200"/>
            <a:ext cx="464832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ソプラノ</a:t>
            </a: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（締切）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　アルト</a:t>
            </a:r>
            <a:r>
              <a:rPr b="1" lang="ja-JP" sz="1000" spc="-1" strike="noStrike">
                <a:solidFill>
                  <a:srgbClr val="000000"/>
                </a:solidFill>
                <a:latin typeface="Times New Roman"/>
              </a:rPr>
              <a:t>（締切）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　　テノール　　　バ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（※○を付けて下さい。）　　　　　　　　　Ⅰ　・　Ⅱ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9240" y="5796000"/>
            <a:ext cx="6638760" cy="18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1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◆ 初参加の方は紹介者名などをお書き下さい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　紹介者：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川津泰人（テナー Ⅰ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）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逐語訳作成者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r>
              <a:rPr b="0" lang="ja-JP" sz="9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ttp://www.geocities.jp/pacificogerman/BeethovenOriginal.ht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◆今回で（　　）回目の参加です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5724360"/>
            <a:ext cx="617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93760" y="6924600"/>
            <a:ext cx="4438800" cy="692640"/>
          </a:xfrm>
          <a:prstGeom prst="rect">
            <a:avLst/>
          </a:prstGeom>
          <a:solidFill>
            <a:srgbClr val="ccccff"/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締　切‐‐‐Ｈ２２．９／３０（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※</a:t>
            </a:r>
            <a:r>
              <a:rPr b="1" lang="zh-CN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男性パートは１０／３１まで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200" y="7750080"/>
            <a:ext cx="62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☆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参加者には今後の詳細等、追って御連絡致します。（１０月初旬～の予定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2120" y="150840"/>
            <a:ext cx="5257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8080"/>
                </a:solidFill>
                <a:latin typeface="ＭＳ Ｐゴシック"/>
              </a:rPr>
              <a:t>ＩＫＳＰＩＡＲＩ </a:t>
            </a: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8080"/>
                </a:solidFill>
                <a:latin typeface="ＭＳ Ｐゴシック"/>
              </a:rPr>
              <a:t>Countdown </a:t>
            </a:r>
            <a:r>
              <a:rPr b="0" lang="zh-CN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8080"/>
                </a:solidFill>
                <a:latin typeface="ＭＳ Ｐゴシック"/>
              </a:rPr>
              <a:t>第九合唱団 ２０１１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00808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811080"/>
            <a:ext cx="2819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参　加　用　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1800" y="8166240"/>
            <a:ext cx="59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株式会社シーガル・アーツ　　 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FAX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番号 ： ０３－６６６３－６０７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219564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20968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＊身　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440" y="2627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5640" y="8086680"/>
            <a:ext cx="5962680" cy="48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8120" y="8658360"/>
            <a:ext cx="607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※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会社移転のため、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FAX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ＭＳ ＰＲゴシック"/>
              </a:rPr>
              <a:t>番号・住所など変わりまし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04:35:21Z</dcterms:created>
  <dc:creator>橋本</dc:creator>
  <dc:description/>
  <dc:language>en-US</dc:language>
  <cp:lastModifiedBy>salon-user11</cp:lastModifiedBy>
  <dcterms:modified xsi:type="dcterms:W3CDTF">2010-08-06T03:41:35Z</dcterms:modified>
  <cp:revision>96</cp:revision>
  <dc:subject/>
  <dc:title>PowerPoint プレゼンテーション</dc:title>
</cp:coreProperties>
</file>