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3EE-442A-4912-8C50-F6187DE5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716-C5C3-4E96-A0AD-73942BFD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EEE-DE2C-4B52-A0BF-7A70C8B1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994-05CF-437C-A189-CB2897BC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585-93FC-40AA-8B8E-31323726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542-E6DE-4E7E-BF11-D085B2C3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0F8-E744-488A-AA9C-F8835C38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1FE-0ABB-497A-B02F-B2DA9AC5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99B-A564-4A24-818E-3BDEC412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952-377C-4A7F-97AA-21EBC32A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242-323D-40C0-ADFD-7835C88C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B2C-C091-414F-9757-C722632B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40B3-2870-4078-B847-4E70FBF46D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590920" y="539640"/>
            <a:ext cx="2286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1981080" y="518148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ＴＭＳ</a:t>
            </a: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経営コンサルタン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代表　田中正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0574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399ff"/>
                </a:solidFill>
                <a:latin typeface="Times New Roman"/>
                <a:ea typeface="ＭＳ Ｐ明朝"/>
              </a:rPr>
              <a:t>事業繁栄の仕組みづく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563868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常に位置を確認しながら経営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762120"/>
            <a:ext cx="152424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資金繰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838080"/>
            <a:ext cx="10666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Ｂ／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836640"/>
            <a:ext cx="1371600" cy="9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Ｐ／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720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62120" y="4343400"/>
            <a:ext cx="784836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4724280"/>
            <a:ext cx="1219320" cy="41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1218960" y="1905120"/>
            <a:ext cx="3809880" cy="3276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18960" y="1828800"/>
            <a:ext cx="5715000" cy="3352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94920" y="1828800"/>
            <a:ext cx="1752840" cy="3276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4419720"/>
            <a:ext cx="160020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事業計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334120"/>
            <a:ext cx="9907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現在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791320"/>
            <a:ext cx="99072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決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7480" y="3962520"/>
            <a:ext cx="11430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目的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1828800"/>
            <a:ext cx="4724280" cy="2133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828800"/>
            <a:ext cx="2819520" cy="22096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1828800"/>
            <a:ext cx="838080" cy="2133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2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ＭＳ 明朝"/>
              </a:rPr>
              <a:t>経営ナビシステ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30492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09680" y="-511560"/>
            <a:ext cx="2057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ＭＳ 明朝"/>
              <a:ea typeface="ＭＳ 明朝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066680"/>
            <a:ext cx="5257800" cy="5029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990720"/>
            <a:ext cx="0" cy="510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3526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16765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2004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43400"/>
            <a:ext cx="533160" cy="304920"/>
          </a:xfrm>
          <a:prstGeom prst="leftArrow">
            <a:avLst>
              <a:gd name="adj1" fmla="val 50000"/>
              <a:gd name="adj2" fmla="val 43713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04812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20574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計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09880"/>
            <a:ext cx="12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88620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評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198108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処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90960" y="1143000"/>
            <a:ext cx="6094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1219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事業計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8600" y="4876920"/>
            <a:ext cx="838080" cy="3045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334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明朝"/>
              </a:rPr>
              <a:t>月次決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52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Times New Roman"/>
                <a:ea typeface="ＭＳ Ｐ明朝"/>
              </a:rPr>
              <a:t>PDCA</a:t>
            </a:r>
            <a:r>
              <a:rPr b="1" lang="ja-JP" sz="4000" spc="-1" strike="noStrike">
                <a:solidFill>
                  <a:srgbClr val="ffff00"/>
                </a:solidFill>
                <a:latin typeface="Times New Roman"/>
                <a:ea typeface="ＭＳ Ｐ明朝"/>
              </a:rPr>
              <a:t>サイクルで継続発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37400" y="3098880"/>
            <a:ext cx="6112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anchorCtr="1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94480" y="380880"/>
            <a:ext cx="2946600" cy="5867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素直な心になりましょ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素直な心はあなたを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強く正しく聡明にしま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449604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971800" y="128160"/>
            <a:ext cx="2514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  <a:ea typeface="ＭＳ 明朝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2361960"/>
            <a:ext cx="7010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社長の夢を実現させ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行くシナリ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３年後、５年後、１０年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わが社をこうした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将来あるべき姿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00"/>
                </a:solidFill>
                <a:latin typeface="ＭＳ 明朝"/>
                <a:ea typeface="ＭＳ 明朝"/>
              </a:rPr>
              <a:t>目標実現の具体的仕組みが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6094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Times New Roman"/>
                <a:ea typeface="ＭＳ Ｐ明朝"/>
              </a:rPr>
              <a:t>１、事業繁栄の仕組みをつく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371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00"/>
                </a:solidFill>
                <a:latin typeface="Times New Roman"/>
                <a:ea typeface="ＭＳ Ｐ明朝"/>
              </a:rPr>
              <a:t>１）事業発展計画を作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971800" y="128160"/>
            <a:ext cx="2514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  <a:ea typeface="ＭＳ 明朝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685800"/>
            <a:ext cx="1447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将来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あるべき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295280"/>
            <a:ext cx="0" cy="449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791320"/>
            <a:ext cx="6324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562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現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３年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594360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５年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１０年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800600"/>
            <a:ext cx="60984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  <a:ea typeface="HG正楷書体-PRO"/>
              </a:rPr>
              <a:t>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  <a:ea typeface="HG正楷書体-PRO"/>
              </a:rPr>
              <a:t>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581280"/>
            <a:ext cx="60948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  <a:ea typeface="HG正楷書体-PRO"/>
              </a:rPr>
              <a:t>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  <a:ea typeface="HG正楷書体-PRO"/>
              </a:rPr>
              <a:t>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2286000"/>
            <a:ext cx="6094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  <a:ea typeface="HG正楷書体-PRO"/>
              </a:rPr>
              <a:t>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  <a:ea typeface="HG正楷書体-PRO"/>
              </a:rPr>
              <a:t>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371600" y="1904760"/>
            <a:ext cx="5486400" cy="3733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808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00"/>
                </a:solidFill>
                <a:latin typeface="Times New Roman"/>
                <a:ea typeface="ＭＳ Ｐ明朝"/>
              </a:rPr>
              <a:t>２）事業繁栄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971800" y="128160"/>
            <a:ext cx="2514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  <a:ea typeface="ＭＳ 明朝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160" y="2361960"/>
            <a:ext cx="5638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00"/>
                </a:solidFill>
                <a:latin typeface="ＭＳ 明朝"/>
                <a:ea typeface="ＭＳ 明朝"/>
              </a:rPr>
              <a:t>利益を出し続け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１、売上を上げ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２、原価を下げ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３、経費を減ら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ＭＳ 明朝"/>
                <a:ea typeface="ＭＳ 明朝"/>
              </a:rPr>
              <a:t>４、生産性を上げ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756560" y="388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7621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Times New Roman"/>
                <a:ea typeface="ＭＳ 明朝"/>
              </a:rPr>
              <a:t>３ ） 事業繁栄の基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971800" y="128160"/>
            <a:ext cx="2514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  <a:ea typeface="ＭＳ 明朝"/>
            </a:endParaRPr>
          </a:p>
        </p:txBody>
      </p:sp>
      <p:sp>
        <p:nvSpPr>
          <p:cNvPr id="66" name=""/>
          <p:cNvSpPr/>
          <p:nvPr/>
        </p:nvSpPr>
        <p:spPr>
          <a:xfrm>
            <a:off x="1355760" y="118728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71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１、売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3623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２、原　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3276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３、粗利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4267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４、経　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257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  <a:ea typeface="HG正楷書体-PRO"/>
              </a:rPr>
              <a:t>５、利　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91120" y="990360"/>
            <a:ext cx="137160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2362320"/>
            <a:ext cx="14479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191120" y="2971440"/>
            <a:ext cx="14475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91120" y="4952880"/>
            <a:ext cx="1523880" cy="6098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267080"/>
            <a:ext cx="38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Times New Roman"/>
                <a:ea typeface="HG正楷書体-PRO"/>
              </a:rPr>
              <a:t>は使え、ムダをなく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Times New Roman"/>
                <a:ea typeface="ＭＳ Ｐ明朝"/>
              </a:rPr>
              <a:t>４）事業繁栄方程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2895480" y="280800"/>
            <a:ext cx="2286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ＭＳ 明朝"/>
              <a:ea typeface="ＭＳ 明朝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　下記の</a:t>
            </a:r>
            <a:r>
              <a:rPr b="1" lang="ja-JP" sz="2800" spc="-1" strike="noStrike">
                <a:solidFill>
                  <a:srgbClr val="ffff00"/>
                </a:solidFill>
                <a:latin typeface="ＭＳ 明朝"/>
                <a:ea typeface="ＭＳ 明朝"/>
              </a:rPr>
              <a:t>足し算と引き算で９０％以上でき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１、現金預金　　繰越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+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入金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-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出金＝残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２、在庫　　　　繰越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+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仕入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-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売上＝残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３、売掛金　　　繰越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+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売上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-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回収＝残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４、買掛金　　　繰越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+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仕入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-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支払＝残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572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Times New Roman"/>
                <a:ea typeface="ＭＳ Ｐ明朝"/>
              </a:rPr>
              <a:t>５）経営管理の基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2895480" y="280800"/>
            <a:ext cx="2286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ＭＳ 明朝"/>
              <a:ea typeface="ＭＳ 明朝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　　当たり前のことを当たり前に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　　　基本１　　</a:t>
            </a:r>
            <a:r>
              <a:rPr b="1" lang="ja-JP" sz="3200" spc="-1" strike="noStrike">
                <a:solidFill>
                  <a:srgbClr val="ffff00"/>
                </a:solidFill>
                <a:latin typeface="ＭＳ 明朝"/>
                <a:ea typeface="ＭＳ 明朝"/>
              </a:rPr>
              <a:t>５Ｗ３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　　　基本２　　</a:t>
            </a:r>
            <a:r>
              <a:rPr b="1" lang="ja-JP" sz="3200" spc="-1" strike="noStrike">
                <a:solidFill>
                  <a:srgbClr val="ffff00"/>
                </a:solidFill>
                <a:latin typeface="ＭＳ 明朝"/>
                <a:ea typeface="ＭＳ 明朝"/>
              </a:rPr>
              <a:t>５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94720" y="5032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00"/>
                </a:solidFill>
                <a:latin typeface="Times New Roman"/>
                <a:ea typeface="ＭＳ Ｐ明朝"/>
              </a:rPr>
              <a:t>６）仕事の基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989440" y="283680"/>
            <a:ext cx="2743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ＭＳ 明朝"/>
              <a:ea typeface="ＭＳ 明朝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27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310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76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仕事の基本１ 　</a:t>
            </a:r>
            <a:r>
              <a:rPr b="1" lang="en-US" sz="3200" spc="-1" strike="noStrike">
                <a:solidFill>
                  <a:srgbClr val="ffff00"/>
                </a:solidFill>
                <a:latin typeface="ＭＳ Ｐ明朝"/>
                <a:ea typeface="ＭＳ Ｐ明朝"/>
              </a:rPr>
              <a:t>5W3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WHAT</a:t>
            </a:r>
            <a:r>
              <a:rPr b="1" lang="zh-CN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・・・何を（目的・目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WHEN</a:t>
            </a:r>
            <a:r>
              <a:rPr b="1" lang="zh-CN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・・・いつ（期限・約束の時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WHERE</a:t>
            </a:r>
            <a:r>
              <a:rPr b="1" lang="zh-CN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・・・どこで、どこへ（場所、行き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WHO</a:t>
            </a:r>
            <a:r>
              <a:rPr b="1" lang="zh-CN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・・・誰が、誰と（担当、分担、顧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WHY</a:t>
            </a:r>
            <a:r>
              <a:rPr b="1" lang="zh-CN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・・・なぜ（理由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HOW</a:t>
            </a:r>
            <a:r>
              <a:rPr b="1" lang="zh-CN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・・・どのように（方法、手段、仕上げ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HOW MUCH</a:t>
            </a:r>
            <a:r>
              <a:rPr b="1" lang="zh-CN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・・・いくら（費用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HOW MANY</a:t>
            </a:r>
            <a:r>
              <a:rPr b="1" lang="zh-CN" sz="3200" spc="-1" strike="noStrike">
                <a:solidFill>
                  <a:srgbClr val="ffffff"/>
                </a:solidFill>
                <a:latin typeface="ＭＳ Ｐ明朝"/>
                <a:ea typeface="ＭＳ Ｐ明朝"/>
              </a:rPr>
              <a:t>・・・いくつ（数量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14600" y="441000"/>
            <a:ext cx="2057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88640"/>
            <a:ext cx="9296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仕事の基本２</a:t>
            </a:r>
            <a:r>
              <a:rPr b="0" lang="ja-JP" sz="2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 </a:t>
            </a:r>
            <a:r>
              <a:rPr b="1" lang="ja-JP" sz="2800" spc="-1" strike="noStrike">
                <a:solidFill>
                  <a:srgbClr val="ffff00"/>
                </a:solidFill>
                <a:latin typeface="ＭＳ 明朝"/>
                <a:ea typeface="ＭＳ 明朝"/>
              </a:rPr>
              <a:t>５</a:t>
            </a:r>
            <a:r>
              <a:rPr b="1" lang="ja-JP" sz="2800" spc="-1" strike="noStrike">
                <a:solidFill>
                  <a:srgbClr val="ffff00"/>
                </a:solidFill>
                <a:latin typeface="ＭＳ 明朝"/>
                <a:ea typeface="ＭＳ 明朝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●</a:t>
            </a: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整理＝「要るもの」と「要らないもの」に分け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　　　　「要らないもの」を捨てること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●整頓＝「要るものを使いやすいように置き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　　　　　誰にでもわかるように明示する」こと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●清掃＝「常に掃除し、きれいにする」こと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●清潔＝「整理・整頓・清掃の３Ｓを維持する」こと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●躾　＝「決められたことを、いつも正しく守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　　　　　習慣づけ」のこと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ＭＳ 明朝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ＭＳ 明朝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これらの５Ｓは本来ならば「当たり前のこと」ですが、その「当たり前のこと」ができていないのが多くの企業の実態ではないでしょうか？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ＭＳ 明朝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1:49:14Z</dcterms:created>
  <dc:creator>田中 正勝</dc:creator>
  <dc:description/>
  <dc:language>en-US</dc:language>
  <cp:lastModifiedBy>TNK</cp:lastModifiedBy>
  <cp:lastPrinted>2003-05-13T06:52:28Z</cp:lastPrinted>
  <dcterms:modified xsi:type="dcterms:W3CDTF">2013-06-26T05:00:10Z</dcterms:modified>
  <cp:revision>344</cp:revision>
  <dc:subject/>
  <dc:title>三好工業発展2000年計画</dc:title>
</cp:coreProperties>
</file>