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7BC-11C3-49D3-84B4-1736D0BE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83B-1644-4213-97BC-C91CE22A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395-D50A-4A0E-9373-B316B151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293-8275-48A4-854B-C6675558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5453-9CA2-4376-928D-14FD17A1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9FB2-76BB-477D-B387-33D780E7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2DEA-EA46-40ED-91C0-6FBD27A4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BF5B-C489-46A3-9CAA-283AC6B0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EC37-DB0A-41CA-9E76-D7AFDE4C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2947-D383-4E05-BD8B-3384CC3D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65A8-298D-48B9-B7FF-7E04C5DB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EC9-4252-499C-8B34-5546EEAB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0884-118E-495B-AB35-C28FB6D7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8800-7F50-411D-800E-5A35B8EB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3E22-CF11-4830-A2C5-387AC508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AF4E-5023-476B-84AE-7D86E2D5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5ED6-05FA-4F38-B18C-D8248F6B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840-D759-4D21-AA5E-770C09C8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99CA-FF05-4870-B643-38781C3F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03F-DB45-400E-A5B5-38391594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BA7-50E1-4E81-A91F-1C1B29D5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E2A-0C3F-4D01-B5D7-6F3531C6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A10-1565-41FC-A641-E3CA5326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FE4-5106-4D18-9FA5-AF30446F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F67A-F096-4841-B33B-66FCF4EE6688}" type="datetime">
              <a:rPr b="0" lang="ja-JP" sz="1400" spc="-1" strike="noStrike">
                <a:solidFill>
                  <a:srgbClr val="ffffff"/>
                </a:solidFill>
                <a:latin typeface="Arial"/>
              </a:rPr>
              <a:t>26/07/29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7D89-AAB7-4615-88EE-5F2EAE8E15EA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6AB7-433D-41FB-BA53-348468E475B5}" type="datetime">
              <a:rPr b="0" lang="ja-JP" sz="1400" spc="-1" strike="noStrike">
                <a:solidFill>
                  <a:srgbClr val="ffffff"/>
                </a:solidFill>
                <a:latin typeface="Arial"/>
              </a:rPr>
              <a:t>26/07/29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BE37-BA07-4252-B87D-54A34FAA7390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114264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Arial Narrow"/>
              </a:rPr>
              <a:t>新人教育プログラム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人間関係論 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35360" y="609588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加世田病院　堀木周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0D94-6DF9-4C29-B529-07E82131710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4B3F8DD-0AB2-42CF-B16A-A1FE7B2174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Ⅱ</a:t>
            </a:r>
            <a:r>
              <a:rPr b="1" lang="zh-CN" sz="6000" spc="-1" strike="noStrike">
                <a:solidFill>
                  <a:srgbClr val="ffffcc"/>
                </a:solidFill>
                <a:latin typeface="Arial Narrow"/>
              </a:rPr>
              <a:t>．客観的に捉えてみる</a:t>
            </a:r>
            <a:br>
              <a:rPr sz="6000"/>
            </a:b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続．対象関係の発達～依存～連関</a:t>
            </a:r>
            <a:br>
              <a:rPr sz="3600"/>
            </a:br>
            <a:br>
              <a:rPr sz="3600"/>
            </a:b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用語の補足メモ参照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304812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発達心理（ボウルビィー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対象関係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依存関係・共依存関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ダブルバインド（ベイトソン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システム論的見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DCC-5E45-4AD1-88DF-387C8A53555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FD729-7457-4EA1-BFE6-E266D19619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Arial Narrow"/>
              </a:rPr>
              <a:t>２．異性間、</a:t>
            </a:r>
            <a:br>
              <a:rPr sz="5400"/>
            </a:br>
            <a:r>
              <a:rPr b="1" lang="zh-CN" sz="5400" spc="-1" strike="noStrike">
                <a:solidFill>
                  <a:srgbClr val="ffffcc"/>
                </a:solidFill>
                <a:latin typeface="Arial Narrow"/>
              </a:rPr>
              <a:t>　　　　異年齢間を考える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2895120"/>
            <a:ext cx="601992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文化と地域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ジェンダーと性役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世代間役割と時代背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FFC-66EE-466F-BF9A-0D70084C11C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440F7-B313-46E4-8A54-5C2D822C6B82}" type="datetime1">
              <a:rPr lang="en-US"/>
              <a:t>07/29/26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Arial Narrow"/>
              </a:rPr>
              <a:t>３．異役割、上司</a:t>
            </a: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-</a:t>
            </a:r>
            <a:r>
              <a:rPr b="1" lang="zh-CN" sz="4400" spc="-1" strike="noStrike">
                <a:solidFill>
                  <a:srgbClr val="ffffcc"/>
                </a:solidFill>
                <a:latin typeface="Arial Narrow"/>
              </a:rPr>
              <a:t>部下、</a:t>
            </a:r>
            <a:br>
              <a:rPr sz="4400"/>
            </a:br>
            <a:r>
              <a:rPr b="1" lang="zh-CN" sz="4400" spc="-1" strike="noStrike">
                <a:solidFill>
                  <a:srgbClr val="ffffcc"/>
                </a:solidFill>
                <a:latin typeface="Arial Narrow"/>
              </a:rPr>
              <a:t>社会・会社集団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縦割り社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集団中心個別尊重主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個人中心集団尊重主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個人化・個別化の社会背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個人の権利・個別性の尊重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内集団ひいきの理論の存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他集団へ投影する機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02E-2384-47B8-AA27-52284C00E01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3753A-077D-42FA-8305-97BC9616627F}" type="datetime1">
              <a:rPr lang="en-US"/>
              <a:t>07/29/26</a:t>
            </a:fld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Narrow"/>
              </a:rPr>
              <a:t>４．患者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-</a:t>
            </a:r>
            <a:r>
              <a:rPr b="1" lang="zh-CN" sz="4800" spc="-1" strike="noStrike">
                <a:solidFill>
                  <a:srgbClr val="ffffcc"/>
                </a:solidFill>
                <a:latin typeface="Arial Narrow"/>
              </a:rPr>
              <a:t>治療者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気分や感情の偏り（抑うつ反応）の存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安心、納得 ⇔ 不安、孤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どちらかに偏り易い病者の心を汲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統合や調整の障害を持つ患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　機能の「障害」への理解と援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上のことか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　　支持、受容、共感が関係の基本とな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B6B-6735-4656-80AB-5D59D5D3D3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2D4C4-2E58-4EEA-84E7-4DC4F076DE4F}" type="datetime1">
              <a:rPr lang="en-US"/>
              <a:t>07/29/26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Arial Narrow"/>
              </a:rPr>
              <a:t>５．チーム医療と人間関係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手段としての共通言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F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一般的表現  ⇔  専門用語、テクニカルター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　　様々な職種→互いに理解できる言葉と表現が必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インフラ整備とシステム作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　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連携の機会（公式・非公式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ミーティングの利用　　　　　　日常的会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申し送りへの参加　　　　　　　趣味の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病棟・詰め所への出入り　　　苦労話　　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537-A729-4578-9513-5BFD4D5B36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2213C-61F9-4A38-96E5-8EC4291854C3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Arial Narrow"/>
              </a:rPr>
              <a:t>職場の対人関係トラブル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　　　　　　　原因ベスト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１．相手に過剰に期待する気持ちの存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（自分の都合を中心に主張しすぎていないか？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２．個人の能力とスキルの違いを認めな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（出来ないことが在って当然と互いに認め合う必要あり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３．価値観や知識体系の違いを認識しな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（特に専門職は個人主義になりがち、協調性が大切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663-BA90-48E8-8DB9-82F1611022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1B7DD-7C14-4B3E-A490-CAC13B9B3C73}" type="datetime1">
              <a:rPr lang="en-US"/>
              <a:t>07/29/26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Arial Narrow"/>
              </a:rPr>
              <a:t>職場の対人関係トラブル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そもそも、アプローチする側面が違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たとえば・・・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時間から生活を見る看護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訓練中の単位時間から見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診察時間から見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・・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tc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584-3B1C-40D7-A010-464FA5646A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7B1C9-A30B-4763-941A-F69420973C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Narrow"/>
              </a:rPr>
              <a:t>６．言語とコミュニケーション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外言語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内言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言語は記号である（心象や概念と言語は別次元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感覚は言語のマトリック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（反応のパタン化傾向を持つ感覚→言語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言葉コミュニケーションの正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（言葉は個人的意味づけの範囲を超えられない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メタコミュニケーションの存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（パーソナリティの影響；文化、環境、価値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c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612-9FEF-46C2-8A24-B57AF23DCE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7C30E-476C-4089-BF40-EF03E45A5859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Arial Narrow"/>
              </a:rPr>
              <a:t>言語とコミュニケーション（続）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般的意味と個人のイメージの違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　（共通部分と差異の存在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スキーマ（図式）とスキーム（仕組み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　（認知の機序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認知もコミュニケーションも、手抜きが主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「判らない人だ」は、「お互い様」のこ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460-4CA5-4EC9-B002-2B207BA87C2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6B4A1-06A3-4A34-AE67-E502113D34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915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Ⅲ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.</a:t>
            </a:r>
            <a:r>
              <a:rPr b="1" lang="zh-CN" sz="4800" spc="-1" strike="noStrike">
                <a:solidFill>
                  <a:srgbClr val="ffffcc"/>
                </a:solidFill>
                <a:latin typeface="Arial Narrow"/>
              </a:rPr>
              <a:t>大切な人・苦手な人？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あなたの対人関係はどうなってる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あなたは、周囲の人をどの様に見ている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嫌な人、感じのいい人、素敵な人、好きな人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気むずかしい人、可愛い人、大切な人、我が儘な人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49D3-5019-4386-B605-58A57512F1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C86B0D2-53E3-4A15-9B07-A768EA5524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7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9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75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4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75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75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9975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75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75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11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Ⅰ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．認知の特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Ⅱ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．人と人との相互関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Ⅲ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．個人的な対人関係の持ち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782-A5BF-4FFD-8113-0C5FC3CE1C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6B63A-A5A6-4707-820D-01ED1F83CD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・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あなたの考え方の特徴や偏りは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感情や意志といった性格の傾向は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あなたの生来的な気質は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相手の特徴や気質の偏りを、どう受け止める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互いの、関係性から生まれてくるものを育める？　　　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A0E-CBA2-4173-A5BE-26D845F47E8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A6C10-E33B-42AD-84E8-AC3C44FEF6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・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あなたにとって、相手の価値観は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理解できないもの、自分と同じ、十人十色・・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尊重すべきもの、否定的に見ている・・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十分に尊重するが、自分の意見も伝え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互いの関係の持ちようで、どうにでも解釈できる。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FF6-7E98-4F26-9B74-15DB43E5F04A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FE2F7-0381-46C4-8B85-B93F1770DC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296280" cy="6932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5232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 Narrow"/>
              </a:rPr>
              <a:t>メキシカンハット：</a:t>
            </a:r>
            <a:r>
              <a:rPr b="1" lang="ja-JP" sz="3600" spc="-1" strike="noStrike">
                <a:solidFill>
                  <a:srgbClr val="000000"/>
                </a:solidFill>
                <a:latin typeface="Arial Narrow"/>
              </a:rPr>
              <a:t>DoG</a:t>
            </a:r>
            <a:r>
              <a:rPr b="1" lang="ja-JP" sz="3600" spc="-1" strike="noStrike">
                <a:solidFill>
                  <a:srgbClr val="000000"/>
                </a:solidFill>
                <a:latin typeface="Arial Narrow"/>
              </a:rPr>
              <a:t>関数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6920640" y="2362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ＤＦ特太ゴシック体"/>
              </a:rPr>
              <a:t>グレーゾー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257440" y="2666880"/>
            <a:ext cx="1219320" cy="68580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：認知科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EAA-1454-490F-A960-158201DC035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2FC28-57CC-40CB-AE49-026117CA3E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Ⅰ</a:t>
            </a:r>
            <a:r>
              <a:rPr b="1" lang="zh-CN" sz="5400" spc="-1" strike="noStrike">
                <a:solidFill>
                  <a:srgbClr val="ffffcc"/>
                </a:solidFill>
                <a:latin typeface="Arial Narrow"/>
              </a:rPr>
              <a:t>．認知の特徴とカテゴリー化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認知はメキシカン・ハット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DoG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関数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興奮域の周囲に広がる抑制域の存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　　　　興奮域を、より明確にする仕組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　　　　　：周辺の抑制性興奮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　　　　　　→ 無反応域を生み出す：きちんと区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9D4-35A8-44D9-A0AD-7FAC4D4D7A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A0F2A-4C7E-47ED-BAB7-8586953AC8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Ⅰ</a:t>
            </a:r>
            <a:r>
              <a:rPr b="1" lang="zh-CN" sz="5400" spc="-1" strike="noStrike">
                <a:solidFill>
                  <a:srgbClr val="ffffcc"/>
                </a:solidFill>
                <a:latin typeface="Arial Narrow"/>
              </a:rPr>
              <a:t>．認知の特徴とカテゴリー化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グレーゾーンの功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・認知は勝手な意味付けの成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・意味づけ困難なものは、勝手に意味づ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・意味づけ出来ないもの→不安を惹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　　　　　→高い次元や別枠（別分類）で意味づけさ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　　 　　　　　→不安・不快なもの、好いもの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　　　　　　　　　悪魔・神様的、わかんないもの…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873-919A-4390-87E0-C012345501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D25D4-2AF5-4DCE-AB64-862AF072C8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Ⅰ</a:t>
            </a:r>
            <a:r>
              <a:rPr b="1" lang="zh-CN" sz="5400" spc="-1" strike="noStrike">
                <a:solidFill>
                  <a:srgbClr val="ffffcc"/>
                </a:solidFill>
                <a:latin typeface="Arial Narrow"/>
              </a:rPr>
              <a:t>．認知の特徴とカテゴリー化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「善か悪か」はその内無視され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これも効率的手抜きの現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そして、無意識のうちの個人的価値体系を形作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この価値観は対人場面にも大きく影響を与え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D80-ABE0-435D-9838-9D20EB8458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9CE9C-442F-4246-BF36-AF9BA1ABED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4473-DBAA-406C-B6AB-19AF3C8EE4FA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A4F1-11EB-4DD3-BFEE-C03297A9875A}" type="datetime">
              <a:rPr b="0" lang="ja-JP" sz="1400" spc="-1" strike="noStrike">
                <a:solidFill>
                  <a:srgbClr val="ffffff"/>
                </a:solidFill>
                <a:latin typeface="Arial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7560" y="2239920"/>
            <a:ext cx="2017800" cy="2016000"/>
          </a:xfrm>
          <a:prstGeom prst="ellipse">
            <a:avLst/>
          </a:prstGeom>
          <a:solidFill>
            <a:srgbClr val="99cc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209680"/>
            <a:ext cx="2016000" cy="2017800"/>
          </a:xfrm>
          <a:prstGeom prst="ellipse">
            <a:avLst/>
          </a:prstGeom>
          <a:solidFill>
            <a:srgbClr val="cccc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29200" y="2168640"/>
            <a:ext cx="2017800" cy="2016000"/>
          </a:xfrm>
          <a:prstGeom prst="ellipse">
            <a:avLst/>
          </a:prstGeom>
          <a:solidFill>
            <a:srgbClr val="ff99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200" y="2666880"/>
            <a:ext cx="9151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Ｆ平成ゴシック体W5"/>
                <a:ea typeface="ＤＦ平成ゴシック体W5"/>
              </a:rPr>
              <a:t>善いこ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Ｆ平成ゴシック体W5"/>
                <a:ea typeface="ＤＦ平成ゴシック体W5"/>
              </a:rPr>
              <a:t>現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Ｆ平成ゴシック体W5"/>
                <a:ea typeface="ＤＦ平成ゴシック体W5"/>
              </a:rPr>
              <a:t>外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Ｆ平成ゴシック体W5"/>
                <a:ea typeface="ＤＦ平成ゴシック体W5"/>
              </a:rPr>
              <a:t>～であるべ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2816280"/>
            <a:ext cx="16765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Ｆ平成ゴシック体W5"/>
                <a:ea typeface="ＤＦ平成ゴシック体W5"/>
              </a:rPr>
              <a:t>悪いこ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ＨＰ平成ゴシックW5"/>
                <a:ea typeface="ＤＨＰ平成ゴシックW5"/>
              </a:rPr>
              <a:t>闇の部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ＨＰ平成ゴシックW5"/>
                <a:ea typeface="ＤＨＰ平成ゴシックW5"/>
              </a:rPr>
              <a:t>否定した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2895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ＨＰ平成ゴシックW5"/>
                <a:ea typeface="ＤＨＰ平成ゴシックW5"/>
              </a:rPr>
              <a:t>善か悪か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ＨＰ平成ゴシックW5"/>
                <a:ea typeface="ＤＨＰ平成ゴシックW5"/>
              </a:rPr>
              <a:t>意味づけ困難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0280" y="2887560"/>
            <a:ext cx="938160" cy="576360"/>
          </a:xfrm>
          <a:prstGeom prst="rightArrow">
            <a:avLst>
              <a:gd name="adj1" fmla="val 49380"/>
              <a:gd name="adj2" fmla="val 73105"/>
            </a:avLst>
          </a:prstGeom>
          <a:solidFill>
            <a:srgbClr val="ff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2616120" y="2887200"/>
            <a:ext cx="938160" cy="576360"/>
          </a:xfrm>
          <a:prstGeom prst="rightArrow">
            <a:avLst>
              <a:gd name="adj1" fmla="val 49380"/>
              <a:gd name="adj2" fmla="val 73105"/>
            </a:avLst>
          </a:prstGeom>
          <a:solidFill>
            <a:srgbClr val="ff0000"/>
          </a:solidFill>
          <a:ln w="3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495680"/>
            <a:ext cx="797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Ｆ平成ゴシック体W5"/>
                <a:ea typeface="ＤＦ平成ゴシック体W5"/>
              </a:rPr>
              <a:t>いい加減の中間がよいが、そこは何もないと認知される領域である</a:t>
            </a:r>
            <a:r>
              <a:rPr b="0" lang="ja-JP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4720" y="1735200"/>
            <a:ext cx="88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ＨＰ平成ゴシックW5"/>
                <a:ea typeface="ＤＨＰ平成ゴシックW5"/>
              </a:rPr>
              <a:t>あっちへ行ったり、こっちへ行ったりは不安定・・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876920"/>
            <a:ext cx="85345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ＨＰ平成ゴシックW5"/>
                <a:ea typeface="ＤＨＰ平成ゴシックW5"/>
              </a:rPr>
              <a:t>中空の部分は、いわばグレーゾーン。心理的に不安定な領域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ＨＰ平成ゴシックW5"/>
                <a:ea typeface="ＤＨＰ平成ゴシックW5"/>
              </a:rPr>
              <a:t>「私」のゆらぎを正常化してゆく機能を付与された領域でもあるが、善か悪のどちらかに偏って理解し知識化しておいたほうが安心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ＨＰ平成ゴシックW5"/>
                <a:ea typeface="ＤＨＰ平成ゴシックW5"/>
              </a:rPr>
              <a:t>この偏りが、世界観やパーソナリティーに影響を与え、逆にストレスともな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Narrow"/>
              </a:rPr>
              <a:t>中空論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4745160" y="914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偏っていることの安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Ⅱ</a:t>
            </a:r>
            <a:r>
              <a:rPr b="1" lang="zh-CN" sz="6000" spc="-1" strike="noStrike">
                <a:solidFill>
                  <a:srgbClr val="ffffcc"/>
                </a:solidFill>
                <a:latin typeface="Arial Narrow"/>
              </a:rPr>
              <a:t>．客観的に捉えてみる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95480" y="2819160"/>
            <a:ext cx="5105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家族関係（親子、同胞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異性間、異年齢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異役割、上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部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患者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治療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チー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1676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～人と人との関係について科学する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1FD-A787-4210-B116-DE46622A2A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DBEA1-19D8-44F0-A478-1970BC235B1C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Ⅱ</a:t>
            </a:r>
            <a:r>
              <a:rPr b="1" lang="zh-CN" sz="6000" spc="-1" strike="noStrike">
                <a:solidFill>
                  <a:srgbClr val="ffffcc"/>
                </a:solidFill>
                <a:latin typeface="Arial Narrow"/>
              </a:rPr>
              <a:t>．客観的に捉えてみる</a:t>
            </a:r>
            <a:br>
              <a:rPr sz="6000"/>
            </a:br>
            <a:br>
              <a:rPr sz="6000"/>
            </a:b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１．親子、兄弟、家族関係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3276720"/>
            <a:ext cx="6858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対象関係の発達と障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依存関係の発達と障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家族内役割と家族システ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A20-FECA-4CDB-A6C0-3E0380F8F8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4EA5D-70E0-4D2D-97AE-8C9EDC6B4863}" type="datetime1">
              <a:rPr lang="en-US"/>
              <a:t>07/29/2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usaku</cp:lastModifiedBy>
  <dcterms:modified xsi:type="dcterms:W3CDTF">2010-06-24T05:16:34Z</dcterms:modified>
  <cp:revision>50</cp:revision>
  <dc:subject/>
  <dc:title>PowerPoint プレゼンテーション</dc:title>
</cp:coreProperties>
</file>