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0B7C9-9FC8-4CEB-A548-D3F8FD94E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5CF9F-F341-490A-9733-DAB6F24F4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40912-072E-42F8-A828-668C19428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E1C5A-F7BC-47E8-BC75-2BF3C93F5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E7C5C-E441-4320-9AC7-1F558BA1B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5046C-9212-4627-9DA7-C65F48100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CE776-8067-4DC6-BC98-258D7DDB8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30ABA-BA3C-42FA-8E26-02F5A9B46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12625-1FBC-49B0-AD68-D86A560F5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9517C-8549-4C4B-9E10-9C173836C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85709-B839-4948-9C2A-38CDA651C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255E-C53B-41EF-8332-322E90C83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0FD81-9A85-4510-92DC-7B3585E98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C7230-2E03-4D80-ABEB-A2F006197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88149-3935-41F8-B06E-8A89C1098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A528C-FBD9-4A7B-A254-DB18BC427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2758A-8212-4D6D-B327-7ECEC4FB9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46056-770A-4998-B1AC-B2721D64C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595EB-0393-4D6C-8E60-F4999D6CE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91CC2-5391-4996-878A-859A938DC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A4B72-E865-4826-95A3-81359B02E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8D0E-0950-4995-9506-337C15CA9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6E414-75A2-4696-A4A9-356B28501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5320-B573-4019-8182-E53376F2E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3A4E-FEC9-4934-8017-9B979CAFF885}" type="slidenum">
              <a:rPr b="0" lang="ja-JP"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1DBA-AE48-45C5-85BE-2931CB8855C8}" type="slidenum">
              <a:rPr b="0" lang="ja-JP"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868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治療契約から評価指標選定まで</a:t>
            </a:r>
            <a:endParaRPr b="0" lang="en-US" sz="40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リハビリテーション部　部内教育</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5.8</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堀木 周作</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リハの治療契約は</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医師と患者間の準委任契約の延長にある</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
          <p:cNvSpPr/>
          <p:nvPr/>
        </p:nvSpPr>
        <p:spPr>
          <a:xfrm>
            <a:off x="1763640" y="2781360"/>
            <a:ext cx="5165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準委任契約とは・・・</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法的に「～しなければならない」と定められた契約でないが、相手を信頼して仕事を依頼するような場合の契約のことをい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準委任契約の一部</a:t>
            </a:r>
            <a:endParaRPr b="0" lang="en-US" sz="4400" spc="-1" strike="noStrike">
              <a:solidFill>
                <a:srgbClr val="ffffcc"/>
              </a:solidFill>
              <a:latin typeface="Tahoma"/>
            </a:endParaRPr>
          </a:p>
        </p:txBody>
      </p:sp>
      <p:sp>
        <p:nvSpPr>
          <p:cNvPr id="390" name="PlaceHolder 2"/>
          <p:cNvSpPr>
            <a:spLocks noGrp="1"/>
          </p:cNvSpPr>
          <p:nvPr>
            <p:ph/>
          </p:nvPr>
        </p:nvSpPr>
        <p:spPr>
          <a:xfrm>
            <a:off x="324000" y="1773360"/>
            <a:ext cx="854064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リハは、準委任契約の下位系統に位置している</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リハは、医師の指示や指導に基づいて行われ、それによって診療を補助する行為である、</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下位システムの一治療単位としてはクライアントとの間に治療契約を結ぶことに意義が発生する。</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リハでの契約は、</a:t>
            </a:r>
            <a:r>
              <a:rPr b="0" lang="zh-CN" sz="2800" spc="-1" strike="noStrike" u="sng">
                <a:solidFill>
                  <a:srgbClr val="ffffff"/>
                </a:solidFill>
                <a:uFillTx/>
                <a:latin typeface="Tahoma"/>
              </a:rPr>
              <a:t>信頼関係の構築</a:t>
            </a:r>
            <a:r>
              <a:rPr b="0" lang="zh-CN" sz="2800" spc="-1" strike="noStrike">
                <a:solidFill>
                  <a:srgbClr val="ffffff"/>
                </a:solidFill>
                <a:latin typeface="Tahoma"/>
              </a:rPr>
              <a:t>とも関連する大切な事項である。</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説明・導入面接の中で治療契約を結ぶ</a:t>
            </a:r>
            <a:endParaRPr b="0" lang="en-US" sz="40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患者が理解し納得が可能となる説明によって援助への同意を得ていく。</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患者が自由意志に基づいて選択権を行使出来るように配慮する＝インフォームドチョイス。</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援助には内容の条件や決まり、限界や援助の枠組があることに留意しながら行う。</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職員が希望する目標や果たせない契約を設定したり強要してはならない。</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zh-CN" sz="3200" spc="-1" strike="noStrike">
                <a:solidFill>
                  <a:srgbClr val="ffffff"/>
                </a:solidFill>
                <a:latin typeface="Tahoma"/>
              </a:rPr>
              <a:t>心理面接スキルが必要となってく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理解・同意を得られない患者の場合</a:t>
            </a:r>
            <a:endParaRPr b="0" lang="en-US" sz="40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契約は医師との間で交わされているもの。即ちリハは、準委任契約の下位系統を担っているという前提での話を思い出そう。</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医師の協力を仰ぐ。</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医師との間に交わされた契約を持ち出す。</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他専門職種の協力を得る→チームアプローチ</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面接や面談の中で</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不信や不安感を持っている患者の場合十分に思いを引き出し傾聴する。</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思路に問題を抱える患者の場合本人なりの思考パタンを見極めそれを尊重しながら話を引き出していく。</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拒否のある患者の場合には拒否反応を否定しない。本人の意志を尊重しながら基本的信頼関係を育むと同時に求援助時の選択肢説明をしたり次回の面談の約束をとりつける。</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セラピストは限定的契約（</a:t>
            </a:r>
            <a:r>
              <a:rPr b="0" lang="en-US" sz="2800" spc="-1" strike="noStrike">
                <a:solidFill>
                  <a:srgbClr val="ffffff"/>
                </a:solidFill>
                <a:latin typeface="Shruti"/>
              </a:rPr>
              <a:t>ex.</a:t>
            </a:r>
            <a:r>
              <a:rPr b="0" lang="zh-CN" sz="2800" spc="-1" strike="noStrike">
                <a:solidFill>
                  <a:srgbClr val="ffffff"/>
                </a:solidFill>
                <a:latin typeface="Tahoma"/>
              </a:rPr>
              <a:t>導入）にこだわらず、一般的契約の範囲で信頼関係の構築に努める。</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評価・検査・測定</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評価：善悪・美醜・優劣などの価値を判じ定めること。</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検査：（基準に照らして）適不適や異状・不正の有無などをしらべること。</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測定：ある量の大きさを、装置・器械を用い、ある単位を基準として直接はかること。また、理論を媒介として間接的に決定すること。</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評価指標を設定すること</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限定的観察（行動観察、関与観察）</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単位時間内の発現頻度、特定条件下での状況。</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生活機能に直接関連した問題行動であることが望ましい。</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行動変容モデルでの評価と考えても良い。</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14:40:39Z</dcterms:created>
  <dc:creator>s-horiki</dc:creator>
  <dc:description/>
  <dc:language>en-US</dc:language>
  <cp:lastModifiedBy>shusaku</cp:lastModifiedBy>
  <dcterms:modified xsi:type="dcterms:W3CDTF">2010-06-24T05:18:47Z</dcterms:modified>
  <cp:revision>13</cp:revision>
  <dc:subject/>
  <dc:title>リハビリテーションと治療契約（私論）</dc:title>
</cp:coreProperties>
</file>