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134-0BFB-4EE8-AAA3-2D8468AC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132-09A3-4C22-8E7A-64FD7B9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CE3-E3A1-4EB6-921B-9CB07FD1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A90-16AE-4C88-A03D-E4D8C77E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FA01-10D1-488E-A8D0-2310DD79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3D4-B0A4-496D-90B9-E6088A0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FBB0-60AF-4E16-AADC-CD228B67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569-7E7C-45BA-A89A-B1152D5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940E-DA78-4E4D-8A65-8D3AABF6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4604-C81E-496C-AA29-785055C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49B-DCF6-4CDF-88AF-7738874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985-BF13-43D0-B44B-470AAEC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3AB-8CE1-4FDF-B00C-6572A61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3384-BD08-4EA0-BCA0-F6C50AC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23D6-BBFD-4242-8125-5E96276B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8A1D-BA5E-4735-A7F9-C21A43C3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1D2-30E6-4BC8-9BDD-93ACABEB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1E9-FD10-4ADA-89C7-4D2E748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6BB-4247-46CF-BB7E-C48B7D89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4F7-6863-4234-AB80-09FA39B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BD6-D702-4B06-AA79-121ED5BD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B02-910E-4807-9C1F-85FAF8F5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9A2-7576-46FB-AE77-719816F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04D-AF1E-44EF-809B-375D62E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693-0603-42A5-B217-F3B1FA39948C}" type="slidenum">
              <a:rPr b="0" lang="ja-JP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BDF4-B8B5-4252-9CBC-ECD9B00CF905}" type="slidenum">
              <a:rPr b="0" lang="ja-JP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精神科作業療法の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基礎入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941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.3.1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加世田病院　院内学習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基本は支持・受容で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91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自分で選択や決定ができない人に対して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「何かしたらどう？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「何かすることはないの？」 　　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ストレスになってしま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9900"/>
                </a:solidFill>
                <a:uFillTx/>
                <a:latin typeface="Tahoma"/>
              </a:rPr>
              <a:t>病状悪化や活動場面で不適応を引き起こ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429000"/>
            <a:ext cx="115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4581360"/>
            <a:ext cx="115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基本は支持・受容で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選択や決定を強制しない声かけや態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「～を一緒にしない？」→「やらない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「コーヒーおいしかった？」→「・・・・・・（沈黙）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『それでいいのよ』と活動や過ごし方を保証する態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※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無理強いと指示・教示（必要な援助）は別で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3716280"/>
            <a:ext cx="1152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間違った思いや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何もしていない患者さんに、「何かさせないといけない」という</a:t>
            </a:r>
            <a:r>
              <a:rPr b="0" lang="zh-CN" sz="2800" spc="-1" strike="noStrike">
                <a:solidFill>
                  <a:srgbClr val="ff9900"/>
                </a:solidFill>
                <a:latin typeface="Tahoma"/>
              </a:rPr>
              <a:t>個人的善意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で作業や活動を強いるのは</a:t>
            </a:r>
            <a:r>
              <a:rPr b="0" lang="zh-CN" sz="2800" spc="-1" strike="noStrike">
                <a:solidFill>
                  <a:srgbClr val="ff9900"/>
                </a:solidFill>
                <a:latin typeface="Tahoma"/>
              </a:rPr>
              <a:t>ダ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『何かをやりたい』という気持ちを育めるように、声かけや見守りを行い、患者さんに寄り添うことが大切で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『私なりに良くやれている』という気持ちを尊重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997360"/>
            <a:ext cx="1152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本日の内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作業療法と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作業の意味につい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患者さんへの接し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作業療法と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・身体又は精神に障害のある者、またはそれが予測される者に対し、その主体的な生活の獲得を図るため、諸機能の回復、維持及び開発を促す作業活動を用いて、治療、指導及び援助を行うことをいいます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074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精神科作業療法の診療報酬規定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実施時間は１日２時間（合計が２時間でも良い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作業療法士１人当たり２５人まで（１単位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人の作業療法士の取扱い患者数は １日２単位以内（５０人以内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実施した場合は個々の患者の診療録に要点を記載す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作業療法に必要な用具・設備等には基準があ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消耗品は病院が負担する（作品買取は患者負担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　精神科作業療法に期待されること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症状安定に向けての援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気分や注意の転換 （病的体験からの転換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心理的安全や安心の確保や保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基本的な日常生活技能への援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対人関係への援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活動による生活リズムの獲得や調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ストレスへの対処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社会的生活技能への援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集団場面への適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・社会的集団への参加と活動の機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患者さんにとっての作業療法の意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931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「頑張った後での飲み物が楽しみ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「健康のために作業に参加する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「学ぶことが楽しみ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「規則正しい生活や充実した生活になった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「社会復帰のために頑張っている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（以上は昨年末のアンケート結果）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→患者さんにとっての意味はいろいろなので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作業中の患者さんへの基本的態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子育てを例に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→見守り、やさしさ、共感、支持、母性が必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患者さんの自発性や選択を尊重す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※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患者さんの選択・拒否の権利を尊重し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方的な押しつけや命令をし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357720"/>
            <a:ext cx="100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</a:t>
            </a: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活動時の声かけ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例えば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やるべき事を想起することが困難な人に対し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→</a:t>
            </a:r>
            <a:r>
              <a:rPr b="0" lang="ja-JP" sz="3200" spc="-1" strike="noStrike" u="sng">
                <a:solidFill>
                  <a:srgbClr val="ffffff"/>
                </a:solidFill>
                <a:uFillTx/>
                <a:latin typeface="Tahoma"/>
              </a:rPr>
              <a:t>指示・教示的な声かけ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をす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　　「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OT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の時間なので身じたくして下さい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　　「～の所へ行って下さい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　　「まずは、～から始めましょう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　　「それは、～の後にしましょう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ja-JP" sz="3200" spc="-1" strike="noStrike">
                <a:solidFill>
                  <a:srgbClr val="ff9900"/>
                </a:solidFill>
                <a:latin typeface="Tahoma"/>
              </a:rPr>
              <a:t>※手順を一つずつ分かりやすく伝え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5300640"/>
            <a:ext cx="71280" cy="73080"/>
          </a:xfrm>
          <a:prstGeom prst="downArrow">
            <a:avLst>
              <a:gd name="adj1" fmla="val 50000"/>
              <a:gd name="adj2" fmla="val 256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</a:t>
            </a: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活動時の声かけ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Tahoma"/>
              </a:rPr>
              <a:t>例えば…（その２）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自己決定できる人や提示すると分かる人に対し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→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自己決定を促す声かけ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をする（選択肢を与える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の時間ですが、準備できますか？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「そろそろ、～へ行きますか（行けますか）？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「まず、何から始めますか？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　　「どれを先にやった方がやりやすい？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※</a:t>
            </a:r>
            <a:r>
              <a:rPr b="1" lang="zh-CN" sz="3200" spc="-1" strike="noStrike" u="sng">
                <a:solidFill>
                  <a:srgbClr val="ff9900"/>
                </a:solidFill>
                <a:uFillTx/>
                <a:latin typeface="Tahoma"/>
              </a:rPr>
              <a:t>この時、自己決定を急かさない事が大切で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56:39Z</dcterms:created>
  <dc:creator>OT室</dc:creator>
  <dc:description/>
  <dc:language>en-US</dc:language>
  <cp:lastModifiedBy>shusaku</cp:lastModifiedBy>
  <dcterms:modified xsi:type="dcterms:W3CDTF">2010-06-24T05:30:25Z</dcterms:modified>
  <cp:revision>20</cp:revision>
  <dc:subject/>
  <dc:title>精神科作業療法（仮タイトル）</dc:title>
</cp:coreProperties>
</file>