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92E-BB7F-43EB-9405-97CDE12D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FBD-071C-411F-9A44-28EBF52D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5F5-1ADC-4EA4-BA46-13861DC6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493-6765-4CC3-AF03-7F0CC0D4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B7F3-AC60-4470-A09B-677AC410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654-5131-4B43-B588-2238629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1193-048E-442D-A119-72516AE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0932-3D28-4F26-811C-3411B35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7A17-02B2-477C-A21A-7E99AF40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3551-E2D7-4D3A-B9ED-3075ADE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250D-FA1A-4F0B-89E3-7C5E6A3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6EF-8BC3-48BB-851B-AA9A654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FC9C-DC76-443E-847A-C94FC14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95DF-D56A-46E5-8B9C-5935056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28C7-4068-4A04-9E74-9AE7C37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1F83-F370-4152-BF85-AAEA04B1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9F34-BF8F-4E21-B221-FB65F3CF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8AC-0559-475D-9C0D-4291D69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42A-7BCA-4484-B7E2-63E23888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058-0088-49B6-BBB8-F770304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EB0-67C6-4F2C-B769-10CCB7C7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326-047D-45E0-BFE2-BE04281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8AD-A782-4509-8CD3-C3DD4D7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DF1-AA90-4065-8F76-1782889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5A8-CB2E-40C7-A332-F8D8140F5A5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A74-89C8-4269-86EF-C14754BB1E5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91280" cy="4484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2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実践紹介</a:t>
            </a:r>
            <a:br>
              <a:rPr sz="2800"/>
            </a:b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加世田病院のリハサービスと</a:t>
            </a:r>
            <a:br>
              <a:rPr sz="4400"/>
            </a:b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レクリエーショ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16000" y="5516280"/>
            <a:ext cx="7416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加世田病院　リハビリテーション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作業療法士  堀木 周作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健康促進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929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基礎体力、健康教育、健康への関心、健康状態のチェックなどの場を提供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2779560"/>
            <a:ext cx="5580000" cy="4186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900000" y="2752560"/>
            <a:ext cx="5472360" cy="4105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759280" cy="4319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771640" y="2727360"/>
            <a:ext cx="5507280" cy="4130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635280" y="2725560"/>
            <a:ext cx="550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薬物療法支援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9296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向精神薬に関する教育、副作用への対処や管理、服薬遵守のチェックなどを支援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619280" y="2671920"/>
            <a:ext cx="5580000" cy="4186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527280" y="2644920"/>
            <a:ext cx="5616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金銭管理支援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収入計画、支出管理技能などへの支援。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546280"/>
            <a:ext cx="5580000" cy="4311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76720" y="245736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相談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レク場面を通しての問題解決、目標指向、コミュニケーション技能などについて個別援助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2671920"/>
            <a:ext cx="5580000" cy="4186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64000" y="267192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その他の支援活動との連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リエゾン・コンサルテーション。（橋渡し、調整）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03280" y="2403360"/>
            <a:ext cx="5940360" cy="4454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476320" y="6021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スタッフ会議の様子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5373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ご静聴ありがとうございました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74676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スタッフは、「やってあげる」レクリエーションではな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患者さんに「選んで頂く」レクリエーションを目指しています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54640" y="5084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普段の院内散歩の様子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</a:rPr>
              <a:t>実施されるレ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Arial"/>
              </a:rPr>
              <a:t>実施主体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　 病棟、ＯＴ、デイケア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Arial"/>
              </a:rPr>
              <a:t>目的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　気分転換、生活リズムへの援助、社会的場面の利用、各種資源を利用した活動と参加の機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Arial"/>
              </a:rPr>
              <a:t>意義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（根拠やより所）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　 身体療法（運動療法）、心理療法（行動療法、心理社会的学習）、回復過程と能力やニーズに沿った主体的利用の機会が治療や療養生活を手助けす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Arial"/>
              </a:rPr>
              <a:t>理念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</a:rPr>
              <a:t>　 医療の場から地域生活までの連続した支援を提供した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どこに価値をおいているか 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</a:rPr>
              <a:t>ＧＳオモロウ 堀木修正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312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患者さんが参加や活動をすることで・・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①診断や評価の情報源として役立つ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②病院や施設での日常生活への適応能力を発現させ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③心理社会的成長発達を促す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④人との関わりを介して社会性を高め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⑤創造性を豊にす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⑥自信（自尊感情、自己効力感）を高め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⑦注意や関心を現実の世界に向けさせ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⑧敵対心、攻撃心などの感情をうまく処理す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⑨健康的な生活習慣を促進す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⑩日常生活を豊かにす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⑪これらが上手く機能することで治療（療養）環境が良くな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ＭＳ Ｐゴシック"/>
              </a:rPr>
              <a:t>　⑫医療から地域生活までの途切れることない支援の一助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490680" y="1426320"/>
            <a:ext cx="8254440" cy="4590360"/>
            <a:chOff x="490680" y="1426320"/>
            <a:chExt cx="8254440" cy="4590360"/>
          </a:xfrm>
        </p:grpSpPr>
        <p:sp>
          <p:nvSpPr>
            <p:cNvPr id="220" name="Pyr1"/>
            <p:cNvSpPr/>
            <p:nvPr/>
          </p:nvSpPr>
          <p:spPr>
            <a:xfrm rot="15250800">
              <a:off x="995400" y="4428720"/>
              <a:ext cx="918720" cy="1743840"/>
            </a:xfrm>
            <a:prstGeom prst="pi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Pyr2"/>
            <p:cNvSpPr/>
            <p:nvPr/>
          </p:nvSpPr>
          <p:spPr>
            <a:xfrm rot="15250800">
              <a:off x="2289240" y="3763440"/>
              <a:ext cx="1977840" cy="204552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Pyr3"/>
            <p:cNvSpPr/>
            <p:nvPr/>
          </p:nvSpPr>
          <p:spPr>
            <a:xfrm rot="15250800">
              <a:off x="3730320" y="3207240"/>
              <a:ext cx="3030120" cy="2043000"/>
            </a:xfrm>
            <a:prstGeom prst="pi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Pyr4"/>
            <p:cNvSpPr/>
            <p:nvPr/>
          </p:nvSpPr>
          <p:spPr>
            <a:xfrm rot="15250800">
              <a:off x="5152680" y="2653920"/>
              <a:ext cx="4098960" cy="204516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利用（参加）者にとっての</a:t>
            </a:r>
            <a:br>
              <a:rPr sz="4000"/>
            </a:b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レクリエーションの深化と発展のイメー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5516280"/>
            <a:ext cx="85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99ff99"/>
                </a:solidFill>
                <a:latin typeface="Arial"/>
              </a:rPr>
              <a:t>セラピー　　　　　　　　教育　　　　　　　　　レジャー　　　　　資源としての利用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73360" y="573408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Arial"/>
              </a:rPr>
              <a:t>（主体的利用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984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余暇の創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42926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身体と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59520" y="306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自信回復、励みや楽しみ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87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ストレス発散、気分転換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63388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穏やかな療養生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5280" y="48690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相互関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0691000">
            <a:off x="4211280" y="3644640"/>
            <a:ext cx="3095640" cy="115236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66">
              <a:alpha val="8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aea"/>
                </a:solidFill>
                <a:latin typeface="Arial"/>
              </a:rPr>
              <a:t>だんだんと、重なっていくイメージ・・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4508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自立的、主体的参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25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ecff"/>
                </a:solidFill>
                <a:latin typeface="Arial"/>
              </a:rPr>
              <a:t>利用者ニーズから考えた</a:t>
            </a:r>
            <a:br>
              <a:rPr sz="3800"/>
            </a:br>
            <a:r>
              <a:rPr b="0" lang="zh-CN" sz="3800" spc="-1" strike="noStrike">
                <a:solidFill>
                  <a:srgbClr val="ccecff"/>
                </a:solidFill>
                <a:latin typeface="Arial"/>
              </a:rPr>
              <a:t>効果要素と構造（枠組み）のイメー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5760" y="1598760"/>
          <a:ext cx="8292960" cy="4591080"/>
        </p:xfrm>
        <a:graphic>
          <a:graphicData uri="http://schemas.openxmlformats.org/drawingml/2006/table">
            <a:tbl>
              <a:tblPr/>
              <a:tblGrid>
                <a:gridCol w="1682640"/>
                <a:gridCol w="1785960"/>
                <a:gridCol w="1800000"/>
                <a:gridCol w="1540080"/>
                <a:gridCol w="14842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ケースマネージャー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地域ケアスタッフ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生活の創造性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可能性と希望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心身の安心安全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再発防止や予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リーダー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ファシリテータ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SV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社会性の利用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諸技能の訓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選択権の保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インストラクタ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アドバイザ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カウンセラー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楽しみの享受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体験による学習促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役割遂行や責任分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心理教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HG丸ｺﾞｼｯｸM-PRO"/>
                          <a:ea typeface="HG丸ｺﾞｼｯｸM-PRO"/>
                        </a:rPr>
                        <a:t>セラピスト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身体機能からの援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心理機能からの援助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コントロール可能性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Arial"/>
                          <a:ea typeface="HG丸ｺﾞｼｯｸM-PRO"/>
                        </a:rPr>
                        <a:t>機能や能力の改善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Arial"/>
                          <a:ea typeface="HG丸ｺﾞｼｯｸM-PRO"/>
                        </a:rPr>
                        <a:t>余暇活動の知識と技術獲得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Arial"/>
                          <a:ea typeface="HG丸ｺﾞｼｯｸM-PRO"/>
                        </a:rPr>
                        <a:t>組織的な参加機会の保障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300" spc="-1" strike="noStrike">
                          <a:solidFill>
                            <a:srgbClr val="eaeaea"/>
                          </a:solidFill>
                          <a:latin typeface="Arial"/>
                          <a:ea typeface="HG丸ｺﾞｼｯｸM-PRO"/>
                        </a:rPr>
                        <a:t>自己決定と自己責任の行使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rot="20226000">
            <a:off x="4211640" y="3141720"/>
            <a:ext cx="2736720" cy="7920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66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62520" y="2276640"/>
            <a:ext cx="911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Arial"/>
              </a:rPr>
              <a:t>関係するスタッフの役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6400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Arial"/>
              </a:rPr>
              <a:t>利用者（患者）ニー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82320" y="636840"/>
            <a:ext cx="7294320" cy="4840200"/>
            <a:chOff x="1282320" y="636840"/>
            <a:chExt cx="7294320" cy="4840200"/>
          </a:xfrm>
        </p:grpSpPr>
        <p:sp>
          <p:nvSpPr>
            <p:cNvPr id="241" name="Pyr1"/>
            <p:cNvSpPr/>
            <p:nvPr/>
          </p:nvSpPr>
          <p:spPr>
            <a:xfrm rot="15046800">
              <a:off x="1657800" y="3959280"/>
              <a:ext cx="994680" cy="1501920"/>
            </a:xfrm>
            <a:prstGeom prst="pie">
              <a:avLst/>
            </a:prstGeom>
            <a:solidFill>
              <a:srgbClr val="d8ebb3">
                <a:alpha val="20000"/>
              </a:srgbClr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Pyr2"/>
            <p:cNvSpPr/>
            <p:nvPr/>
          </p:nvSpPr>
          <p:spPr>
            <a:xfrm rot="15046800">
              <a:off x="2626560" y="3295080"/>
              <a:ext cx="2140920" cy="1762200"/>
            </a:xfrm>
            <a:prstGeom prst="pi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Pyr3"/>
            <p:cNvSpPr/>
            <p:nvPr/>
          </p:nvSpPr>
          <p:spPr>
            <a:xfrm rot="15046800">
              <a:off x="3719880" y="2715840"/>
              <a:ext cx="3280320" cy="1760040"/>
            </a:xfrm>
            <a:prstGeom prst="pie">
              <a:avLst/>
            </a:prstGeom>
            <a:solidFill>
              <a:srgbClr val="ffbe7d">
                <a:alpha val="20000"/>
              </a:srgbClr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Pyr4"/>
            <p:cNvSpPr/>
            <p:nvPr/>
          </p:nvSpPr>
          <p:spPr>
            <a:xfrm rot="15046800">
              <a:off x="4795920" y="2140920"/>
              <a:ext cx="4437360" cy="1761480"/>
            </a:xfrm>
            <a:prstGeom prst="pie">
              <a:avLst/>
            </a:prstGeom>
            <a:solidFill>
              <a:srgbClr val="ffffcc">
                <a:alpha val="20000"/>
              </a:srgbClr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ocuments"/>
          <p:cNvSpPr/>
          <p:nvPr/>
        </p:nvSpPr>
        <p:spPr>
          <a:xfrm>
            <a:off x="3780000" y="1197000"/>
            <a:ext cx="4752720" cy="5327640"/>
          </a:xfrm>
          <a:prstGeom prst="pie">
            <a:avLst/>
          </a:prstGeom>
          <a:solidFill>
            <a:srgbClr val="d8ebb3">
              <a:alpha val="1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リハサービスから見たレクとの接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3456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作業療法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心理教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デイケア等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資源・制度利用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家族支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1989000"/>
            <a:ext cx="34560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日常生活活動の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家族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就労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申請手続き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健康促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居住と地域生活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相談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薬物療法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金銭管理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その他の支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3635280" y="1916280"/>
            <a:ext cx="4032360" cy="4608360"/>
          </a:xfrm>
          <a:prstGeom prst="pie">
            <a:avLst/>
          </a:prstGeom>
          <a:solidFill>
            <a:srgbClr val="d8ebb3">
              <a:alpha val="2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0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60"/>
                </a:solidFill>
                <a:latin typeface="Arial"/>
              </a:rPr>
              <a:t>（社会的存在としての支援）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761000">
            <a:off x="2519280" y="3068280"/>
            <a:ext cx="662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60"/>
                </a:solidFill>
                <a:latin typeface="Arial"/>
              </a:rPr>
              <a:t>レクとの接点って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60"/>
                </a:solidFill>
                <a:latin typeface="Arial"/>
              </a:rPr>
              <a:t>どんなこと？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6" dur="5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5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日常生活支援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1406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食事、買い物、衣服、移動、対人関係などの技能獲得と維持・持続への支援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56392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900000" y="2589120"/>
            <a:ext cx="5689800" cy="426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692360" y="2484360"/>
            <a:ext cx="5832360" cy="4373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2556000" y="2592360"/>
            <a:ext cx="5688000" cy="4265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419640" y="256392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6227640" cy="4670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家族支援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85520" y="1557000"/>
            <a:ext cx="803412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危機介入、家族心理教育、相談などの機会設定。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71640" y="2185920"/>
            <a:ext cx="6227640" cy="4672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979640" y="2187720"/>
            <a:ext cx="6227640" cy="4670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951280" y="221292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就労支援では・・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11280" y="2700360"/>
            <a:ext cx="5543280" cy="41576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9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通所リハビリテーション事業、援助付き就労、ジョブコーチなどへ繋げる支援をサポート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　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直接的プログラムは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T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、レクは多くの場合気分転換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476360" y="2698920"/>
            <a:ext cx="5545080" cy="4159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340000" y="264492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3492360" y="261936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6:32:55Z</dcterms:created>
  <dc:creator> </dc:creator>
  <dc:description/>
  <dc:language>en-US</dc:language>
  <cp:lastModifiedBy>shusaku</cp:lastModifiedBy>
  <dcterms:modified xsi:type="dcterms:W3CDTF">2010-06-24T06:37:05Z</dcterms:modified>
  <cp:revision>78</cp:revision>
  <dc:subject/>
  <dc:title>作業療法とリハビリテーション</dc:title>
</cp:coreProperties>
</file>