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FDF-EAAA-4805-9014-D8885BD0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EFF-2C68-46C7-8B40-AF00E623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16D-5AC0-4E40-833B-B7B72D95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636-D123-4B75-BCAE-5AA3B8A2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FD9-694C-4598-9AE9-D763DF76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812-5EA4-4800-ABDE-D0251B4D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A95-EB80-41E9-9BC5-B9F81A1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DC8-1FE7-4A72-BE2E-CB1F8A33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9D3-3BC5-42F4-BC91-6A90AFC9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0A4-4D63-436D-B859-FEBB6BBB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A55-396A-4386-B25B-0BA35BFC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FA3-CB58-409B-8122-73B368FB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F7E0-1A26-496C-B2A0-3D2682B2A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28640"/>
            <a:ext cx="535608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　「</a:t>
            </a:r>
            <a:r>
              <a:rPr b="0" lang="ja-JP" sz="4400" spc="-1" strike="noStrike">
                <a:solidFill>
                  <a:srgbClr val="009999"/>
                </a:solidFill>
                <a:latin typeface="Times New Roman"/>
              </a:rPr>
              <a:t>いるか丘陵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」　と、</a:t>
            </a:r>
            <a:br>
              <a:rPr sz="4400"/>
            </a:br>
            <a:br>
              <a:rPr sz="4400"/>
            </a:br>
            <a:br>
              <a:rPr sz="2000"/>
            </a:b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　　　「</a:t>
            </a:r>
            <a:r>
              <a:rPr b="0" lang="ja-JP" sz="4400" spc="-1" strike="noStrike">
                <a:solidFill>
                  <a:srgbClr val="339933"/>
                </a:solidFill>
                <a:latin typeface="Times New Roman"/>
              </a:rPr>
              <a:t>つながりの森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2000" y="4689000"/>
            <a:ext cx="4903920" cy="13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ＮＰＯ法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ＤＦＰ勘亭流"/>
              </a:rPr>
              <a:t>かなざわ森沢山の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96080" y="824040"/>
            <a:ext cx="2989080" cy="2025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6680" y="3389400"/>
            <a:ext cx="2813040" cy="1976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808000"/>
                </a:solidFill>
                <a:latin typeface="Times New Roman"/>
              </a:rPr>
              <a:t>すべての生き物の元は植物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cc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だけが酸素をつくれ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cc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だけが無機物を有機物に変えられ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草食動物も、肉食動物も、雑食動物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地上に生活している生き物は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cc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無いと絶滅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生き物の多様性が重要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全世界の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１種類だったとしたら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天災、病気、などの影響を受けたら全滅す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多種多様の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あれば、どれかが生き延びることができ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多種多様の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植物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あれば、それを利用する動物も多種多様にな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私たちは自然保護活動をしています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360" y="1223640"/>
            <a:ext cx="80769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様々な生き物た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［土中の</a:t>
            </a:r>
            <a:r>
              <a:rPr b="0" lang="ja-JP" sz="2800" spc="-1" strike="noStrike">
                <a:solidFill>
                  <a:srgbClr val="996633"/>
                </a:solidFill>
                <a:latin typeface="Times New Roman"/>
              </a:rPr>
              <a:t>菌類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800" spc="-1" strike="noStrike">
                <a:solidFill>
                  <a:srgbClr val="cc3300"/>
                </a:solidFill>
                <a:latin typeface="Times New Roman"/>
              </a:rPr>
              <a:t>虫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たち～</a:t>
            </a:r>
            <a:r>
              <a:rPr b="0" lang="ja-JP" sz="2800" spc="-1" strike="noStrike">
                <a:solidFill>
                  <a:srgbClr val="009999"/>
                </a:solidFill>
                <a:latin typeface="Times New Roman"/>
              </a:rPr>
              <a:t>鳥類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ja-JP" sz="2800" spc="-1" strike="noStrike">
                <a:solidFill>
                  <a:srgbClr val="993366"/>
                </a:solidFill>
                <a:latin typeface="Times New Roman"/>
              </a:rPr>
              <a:t>小動物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　をささえるため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暗すぎる森に日が差し込むようにした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下草刈りをした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倒木の処理をした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汗を流して楽しみなが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-43416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自然環境が荒れるのを少しでも遅らせるた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“</a:t>
            </a:r>
            <a:r>
              <a:rPr b="0" lang="ja-JP" sz="2800" spc="-1" strike="noStrike">
                <a:solidFill>
                  <a:srgbClr val="008080"/>
                </a:solidFill>
                <a:latin typeface="Times New Roman"/>
              </a:rPr>
              <a:t>つながりの森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が“</a:t>
            </a:r>
            <a:r>
              <a:rPr b="0" lang="ja-JP" sz="2800" spc="-1" strike="noStrike">
                <a:solidFill>
                  <a:srgbClr val="3333cc"/>
                </a:solidFill>
                <a:latin typeface="Times New Roman"/>
              </a:rPr>
              <a:t>にぎわいの森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とな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1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森が益々にぎわうよう、お手伝いをしてい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48080" y="2173320"/>
            <a:ext cx="557208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森の階層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2000" y="1269720"/>
            <a:ext cx="82818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発達した森は、縦に見ると、下図のようになってい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高木層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8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以上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亜高木層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8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未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低木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0.8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未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草本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0.8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m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未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地表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　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㎝以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地中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01640" y="5475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雑木林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3040" y="1855800"/>
            <a:ext cx="87440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針葉樹林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1920" y="1316160"/>
            <a:ext cx="8557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7720" y="14400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Times New Roman"/>
              </a:rPr>
              <a:t>自然の雑木林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38360" y="865080"/>
            <a:ext cx="77990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6640" y="14400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Times New Roman"/>
              </a:rPr>
              <a:t>自然の針葉樹林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38360" y="820800"/>
            <a:ext cx="77990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044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808000"/>
                </a:solidFill>
                <a:latin typeface="Times New Roman"/>
              </a:rPr>
              <a:t>樹林を横から見ると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90080"/>
            <a:ext cx="775656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マント群落　（つる草からなってい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樹林内の日照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湿度、風当たり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維持す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排気ガスの侵入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防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多種類の動物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生活の場にな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で群落　　（主に草本層からな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32360" y="158580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7000" y="5229360"/>
            <a:ext cx="27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808000"/>
                </a:solidFill>
                <a:latin typeface="Times New Roman"/>
              </a:rPr>
              <a:t>「マント群落の写真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808000"/>
                </a:solidFill>
                <a:latin typeface="Times New Roman"/>
              </a:rPr>
              <a:t>緑地が連続する事の必要性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6640" y="198108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移動能力が高い生物は、緑地と緑地が離れていても移動でき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移動能力が低いと、そのエリアだけにとどまってしま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その場所の環境が変化したら、絶滅してしま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7720" y="27936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はじめに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763640"/>
            <a:ext cx="846144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spcBef>
                <a:spcPts val="7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皆さんはどういう動機でこの会に参加されました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々のフィールドをどのようにしてゆきたいです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そのために、我々は何ができるでしょう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808000"/>
                </a:solidFill>
                <a:latin typeface="Times New Roman"/>
              </a:rPr>
              <a:t>移動能力が低いものの例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2360" y="1981080"/>
            <a:ext cx="418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7520" indent="-46224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カンアオイの仲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繁殖はキノコバエによ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種子散布は落下型のた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１年で１㎝程度の移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-46224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カワニナやメダ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その流れの外には行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な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川が無くなると絶滅す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7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94120" y="2479680"/>
            <a:ext cx="4159440" cy="3117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02360" y="5589720"/>
            <a:ext cx="19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カンアオイ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どうすると良いのか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449280">
              <a:lnSpc>
                <a:spcPct val="8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そのエリアで切り倒して良いのは１年間で多くても３割ま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急激な環境の変化は植生をダメにしてしまい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そこで生活する動物の命を奪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-449280">
              <a:lnSpc>
                <a:spcPct val="8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草本類は膝丈で刈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根こそぎ刈り取ると小動物が生きられな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表土の流失をうながしてしま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-449280">
              <a:lnSpc>
                <a:spcPct val="8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針葉樹林帯のシダ類の必要性も同じこ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85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むやみに刈らずに残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7720" y="53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808000"/>
                </a:solidFill>
                <a:latin typeface="Times New Roman"/>
              </a:rPr>
              <a:t>刈りすぎた草地の図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3240" y="955800"/>
            <a:ext cx="755820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ビオトープの看板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6800" y="911160"/>
            <a:ext cx="76788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36792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つる草の手入れ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95080"/>
            <a:ext cx="78008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林縁のつる草は残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林内のつる草は除去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林内では隣り合う木がつながることになり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大風の時揺れが大きくなり、表土が浅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このエリアでは、根ごと掘り返されたようになり、倒れてしま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34160" y="1447920"/>
            <a:ext cx="268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Times New Roman"/>
              </a:rPr>
              <a:t>外来植物や移入種は除去する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520" y="1981080"/>
            <a:ext cx="793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外来植物の侵入により、日本に自生していた植物が駆逐され絶滅に向か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もともとここらに無かった物が入ってくると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自生種は生存競争に負けてしまう事が多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Times New Roman"/>
              </a:rPr>
              <a:t>（シュロなどの外来種には天敵が少ないから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936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花を咲かせる時期を考える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花は葉が変化したも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花芽ができる時期以降に枝を切る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花にならず葉になってしま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実がみのらなくなると、動物達の食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不足を招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また、植物の繁殖の邪魔を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ことにもな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97360" y="131436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8000"/>
                </a:solidFill>
                <a:latin typeface="Times New Roman"/>
                <a:ea typeface="ＭＳ Ｐゴシック"/>
              </a:rPr>
              <a:t>梅の剪定時期などに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40600" y="441972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倒木を処理した後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7000" y="1981080"/>
            <a:ext cx="8640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潜在植生をいかして自然の復活力に期待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その場所に適した植生の林を作る事が望まし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植え込んだものよりも丈夫であ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5047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808000"/>
                </a:solidFill>
                <a:latin typeface="Times New Roman"/>
              </a:rPr>
              <a:t>枯れ木も大切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2000" y="1854360"/>
            <a:ext cx="663084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枯れ木を利用する生き物がたくさん居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コゲラは巣を作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昆虫の住処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昆虫の越冬場所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キノコ、地衣類などの生育場にな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危険が無い場所の枯れ木は残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361280" y="728640"/>
            <a:ext cx="1490760" cy="1987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10240" y="2386080"/>
            <a:ext cx="1216080" cy="1630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640560" y="4772160"/>
            <a:ext cx="20718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1640" y="45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伐った枝や葉の始末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4360"/>
            <a:ext cx="77724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小さくさば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なるべく間に空気が入らないよう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する方が早く土に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箇所に積み重ねると、その場所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生物を殺すことにな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堆肥枡以外のところでは広く浅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ばらまくようにす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「いるか丘陵」とは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440" y="1980720"/>
            <a:ext cx="364356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高尾山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鶴見川源流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多摩丘陵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円海山緑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舞岡公園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鎌倉逗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緑地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三浦半島大楠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7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小網代湾</a:t>
            </a: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観音崎ま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2" descr=""/>
          <p:cNvPicPr/>
          <p:nvPr/>
        </p:nvPicPr>
        <p:blipFill>
          <a:blip r:embed="rId1"/>
          <a:stretch/>
        </p:blipFill>
        <p:spPr>
          <a:xfrm>
            <a:off x="3897360" y="1989000"/>
            <a:ext cx="5140440" cy="4770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5200" y="955800"/>
            <a:ext cx="80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京都多摩地域から、神奈川県三浦地域の丘陵を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空から見ると、「いるか」に似てい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持ち込まない、持ち出さない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6880" y="1981080"/>
            <a:ext cx="789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然に接する者たちの大切な約束で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とって良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のは</a:t>
            </a:r>
            <a:r>
              <a:rPr b="0" lang="zh-CN" sz="4400" spc="-1" strike="noStrike">
                <a:solidFill>
                  <a:srgbClr val="9900ff"/>
                </a:solidFill>
                <a:latin typeface="Times New Roman"/>
              </a:rPr>
              <a:t>写真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だ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4400" spc="-1" strike="noStrike">
                <a:solidFill>
                  <a:srgbClr val="996633"/>
                </a:solidFill>
                <a:latin typeface="Times New Roman"/>
              </a:rPr>
              <a:t>残して良い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のは</a:t>
            </a: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足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だ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21280" y="5094360"/>
            <a:ext cx="1071360" cy="1214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272360" y="2259000"/>
            <a:ext cx="1576440" cy="1225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62000" y="4689360"/>
            <a:ext cx="1071720" cy="1214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81640" y="5410080"/>
            <a:ext cx="10717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808000"/>
                </a:solidFill>
                <a:latin typeface="Times New Roman"/>
              </a:rPr>
              <a:t>移入種による被害の例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6880" y="1761840"/>
            <a:ext cx="316404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-38736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ff"/>
                </a:solidFill>
                <a:latin typeface="Times New Roman"/>
              </a:rPr>
              <a:t>アカホシゴマダ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本来は奄美大島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特産種だが、中国産のものを持ち込んだ人がい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その結果、元か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自生してい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60093"/>
                </a:solidFill>
                <a:latin typeface="Times New Roman"/>
              </a:rPr>
              <a:t>　</a:t>
            </a:r>
            <a:r>
              <a:rPr b="0" lang="ja-JP" sz="1000" spc="-1" strike="noStrike">
                <a:solidFill>
                  <a:srgbClr val="d60093"/>
                </a:solidFill>
                <a:latin typeface="Times New Roman"/>
              </a:rPr>
              <a:t>　　</a:t>
            </a:r>
            <a:r>
              <a:rPr b="0" lang="ja-JP" sz="2800" spc="-1" strike="noStrike">
                <a:solidFill>
                  <a:srgbClr val="d60093"/>
                </a:solidFill>
                <a:latin typeface="Times New Roman"/>
              </a:rPr>
              <a:t>ゴマダラチョ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が、絶滅に向かっ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81640" y="576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アカホシゴマダラ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33800" y="2030400"/>
            <a:ext cx="49197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9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タイワンリス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1640" y="1584360"/>
            <a:ext cx="54453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江ノ島の水族館から逃げ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冬に、どんぐりやピーナツを置いて餌付けする人が、多数居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だから、増えすぎ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そして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円海山麓からムササビが消え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鳥類が激減し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樹木が皮はぎの被害にあい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枯死するものも出てき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842080" y="1449360"/>
            <a:ext cx="3073320" cy="2070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923080" y="3859200"/>
            <a:ext cx="2979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1640" y="9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移入動物達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56419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マングー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ja-JP" sz="2800" spc="-1" strike="noStrike">
                <a:solidFill>
                  <a:srgbClr val="006200"/>
                </a:solidFill>
                <a:latin typeface="Times New Roman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ハブ退治の目的だったが</a:t>
            </a:r>
            <a:r>
              <a:rPr b="0" lang="ja-JP" sz="2800" spc="-1" strike="noStrike">
                <a:solidFill>
                  <a:srgbClr val="006200"/>
                </a:solidFill>
                <a:latin typeface="Times New Roman"/>
              </a:rPr>
              <a:t>・・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アライグ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ハクビシ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アカミミガ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他色々あり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22920" y="1495440"/>
            <a:ext cx="2156040" cy="1440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08360" y="2841480"/>
            <a:ext cx="2160720" cy="1622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67360" y="4159080"/>
            <a:ext cx="1808280" cy="1808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211640" y="5143680"/>
            <a:ext cx="19573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3080" y="235080"/>
            <a:ext cx="43639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808000"/>
                </a:solidFill>
                <a:latin typeface="Times New Roman"/>
              </a:rPr>
              <a:t>移入植物の猛威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600" y="1179360"/>
            <a:ext cx="4363920" cy="52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日本古来の、アキノキリンソ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などが、姿を消しつつあ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アレチウリ、シャクチリソ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園芸植物の逃げ出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それを植え込む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移入植物の猛威によ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絶滅に向かっ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日本固有の自生植物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　たくさんあ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327720" y="1000080"/>
            <a:ext cx="2649600" cy="1987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48040" y="1363680"/>
            <a:ext cx="1490760" cy="1987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99120" y="4102200"/>
            <a:ext cx="2361960" cy="1798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819840" y="396864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913800" y="297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セイタカアワダチソ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0560" y="3290760"/>
            <a:ext cx="18460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アキノキリンソ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27720" y="5816520"/>
            <a:ext cx="1846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808000"/>
                </a:solidFill>
                <a:latin typeface="Times New Roman"/>
              </a:rPr>
              <a:t>アレチウ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56280" y="5994360"/>
            <a:ext cx="1846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00"/>
                </a:solidFill>
                <a:latin typeface="Times New Roman"/>
              </a:rPr>
              <a:t>シャクチリソ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7000" y="324000"/>
            <a:ext cx="31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8000"/>
                </a:solidFill>
                <a:latin typeface="Times New Roman"/>
              </a:rPr>
              <a:t>セイタカアワダチソウ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植物が水を吸うしくみ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根の先端が、半透膜になっ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毛細管現象で吸い上げ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葉裏の気孔からの蒸散により、ストローで水を吸い上げ続けるのと同じ現象がおき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葉が出ている枝の、すぐ上で伐れば、枯死しな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植物の生長点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34272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常は植物体の先端部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-34272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イネ科植物は地面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枝が出る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-34272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葉の付け根から枝が出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剪定をするとき、伸びてほしい方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芽のすぐ上で伐るこ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808000"/>
                </a:solidFill>
                <a:latin typeface="Times New Roman"/>
              </a:rPr>
              <a:t>参考までに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539720"/>
            <a:ext cx="78915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会のＨＰ『</a:t>
            </a:r>
            <a:r>
              <a:rPr b="0" lang="ja-JP" sz="2800" spc="-1" strike="noStrike">
                <a:solidFill>
                  <a:srgbClr val="0033cc"/>
                </a:solidFill>
                <a:latin typeface="Times New Roman"/>
              </a:rPr>
              <a:t>森の手入れ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』の頁を見てくださ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「</a:t>
            </a:r>
            <a:r>
              <a:rPr b="0" lang="ja-JP" sz="2800" spc="-1" strike="noStrike">
                <a:solidFill>
                  <a:srgbClr val="339966"/>
                </a:solidFill>
                <a:latin typeface="Times New Roman"/>
              </a:rPr>
              <a:t>里山保全の必要性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「</a:t>
            </a:r>
            <a:r>
              <a:rPr b="0" lang="ja-JP" sz="2800" spc="-1" strike="noStrike">
                <a:solidFill>
                  <a:srgbClr val="006600"/>
                </a:solidFill>
                <a:latin typeface="Times New Roman"/>
              </a:rPr>
              <a:t>森の手入れの必要性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「</a:t>
            </a:r>
            <a:r>
              <a:rPr b="0" lang="ja-JP" sz="2800" spc="-1" strike="noStrike">
                <a:solidFill>
                  <a:srgbClr val="339933"/>
                </a:solidFill>
                <a:latin typeface="Times New Roman"/>
              </a:rPr>
              <a:t>よみがえる里山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　　　　　その他参考になることがたくさんありま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694480" y="2162160"/>
            <a:ext cx="265752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0164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おしまい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自分達だけ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　　楽しみのためだけではなく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森に生きる植物や動物たちのため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何ができるか</a:t>
            </a:r>
            <a:r>
              <a:rPr b="0" lang="ja-JP" sz="3200" spc="-1" strike="noStrike">
                <a:solidFill>
                  <a:srgbClr val="808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　　どうしたら良いか</a:t>
            </a:r>
            <a:r>
              <a:rPr b="0" lang="ja-JP" sz="3200" spc="-1" strike="noStrike">
                <a:solidFill>
                  <a:srgbClr val="808000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考えながら、皆で仲良く、笑いながら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1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　　　活動を続けたいです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00080"/>
            <a:ext cx="7772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08000"/>
                </a:solidFill>
                <a:latin typeface="Times New Roman"/>
              </a:rPr>
              <a:t>活動場所「ゾーニング」全体図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11200" y="588960"/>
            <a:ext cx="61214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02040" y="1944720"/>
            <a:ext cx="6005520" cy="4230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1640" y="3240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横浜つながりの森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6880" y="1133280"/>
            <a:ext cx="77994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「いるか丘陵の中の、横浜市の部分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66"/>
                </a:solidFill>
                <a:latin typeface="Times New Roman"/>
              </a:rPr>
              <a:t>横浜自然観察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00"/>
                </a:solidFill>
                <a:latin typeface="Times New Roman"/>
              </a:rPr>
              <a:t>金沢市民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33"/>
                </a:solidFill>
                <a:latin typeface="Times New Roman"/>
              </a:rPr>
              <a:t>金沢自然公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Times New Roman"/>
              </a:rPr>
              <a:t>釜利谷市民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8080"/>
                </a:solidFill>
                <a:latin typeface="Times New Roman"/>
              </a:rPr>
              <a:t>瀬上市民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氷取沢市民の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00"/>
                </a:solidFill>
                <a:latin typeface="Times New Roman"/>
              </a:rPr>
              <a:t>能見堂緑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これらの緑地は里山です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36480"/>
            <a:ext cx="41562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日本アルプスのように、広く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深い山々は、奥山といい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横浜</a:t>
            </a:r>
            <a:r>
              <a:rPr b="0" lang="ja-JP" sz="2400" spc="-1" strike="noStrike">
                <a:solidFill>
                  <a:srgbClr val="006600"/>
                </a:solidFill>
                <a:latin typeface="Times New Roman"/>
              </a:rPr>
              <a:t>つながりの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里山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すぐ近くに住宅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95800" y="1279440"/>
            <a:ext cx="3524400" cy="264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3746520"/>
            <a:ext cx="3735360" cy="2801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4062240"/>
            <a:ext cx="436392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1200" indent="-22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2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昔から薪炭林として利用されていたり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2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急斜面であるために、開発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2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まぬがれて残された里山で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00"/>
                </a:solidFill>
                <a:latin typeface="Times New Roman"/>
              </a:rPr>
              <a:t>生き物達のために緑地を残したい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3800" y="1981080"/>
            <a:ext cx="769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人間の活動のために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緑地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減り、動植物達の生きる場所は、減り続けてい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今残っている</a:t>
            </a: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緑地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、次の世代まで残した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9933"/>
                </a:solidFill>
                <a:latin typeface="Times New Roman"/>
              </a:rPr>
              <a:t>緑地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続いていないと、絶滅する生き物達が増えてしまい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2508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00"/>
                </a:solidFill>
                <a:latin typeface="Times New Roman"/>
              </a:rPr>
              <a:t>絶滅のスピード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30200" y="1671480"/>
          <a:ext cx="6657840" cy="4525920"/>
        </p:xfrm>
        <a:graphic>
          <a:graphicData uri="http://schemas.openxmlformats.org/drawingml/2006/table">
            <a:tbl>
              <a:tblPr/>
              <a:tblGrid>
                <a:gridCol w="2427120"/>
                <a:gridCol w="4230720"/>
              </a:tblGrid>
              <a:tr h="646200">
                <a:tc>
                  <a:txBody>
                    <a:bodyPr lIns="0" rIns="0" tIns="0" bIns="0" anchor="ctr">
                      <a:noAutofit/>
                    </a:bodyPr>
                    <a:p>
                      <a:pPr marL="32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　恐竜時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1,0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　１万年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　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　　千年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　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1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5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　　百年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　 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1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6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　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20</a:t>
                      </a: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年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　 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9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ゴシック"/>
                          <a:ea typeface="ＭＳ ゴシック"/>
                        </a:rPr>
                        <a:t>時間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ＭＳ ゴシック"/>
                        </a:rPr>
                        <a:t>　　現　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9f4b5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ＭＳ ゴシック"/>
                          <a:ea typeface="ＭＳ ゴシック"/>
                        </a:rPr>
                        <a:t>     </a:t>
                      </a: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ＭＳ ゴシック"/>
                          <a:ea typeface="ＭＳ ゴシック"/>
                        </a:rPr>
                        <a:t>13</a:t>
                      </a: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ＭＳ ゴシック"/>
                          <a:ea typeface="ＭＳ ゴシック"/>
                        </a:rPr>
                        <a:t>分に１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9f4b5">
                        <a:alpha val="50000"/>
                      </a:srgbClr>
                    </a:solidFill>
                  </a:tcPr>
                </a:tc>
              </a:tr>
              <a:tr h="6462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ＭＳ ゴシック"/>
                        </a:rPr>
                        <a:t>このままだと、１年に４万種以上が絶滅す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e9f4b5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808000"/>
                </a:solidFill>
                <a:latin typeface="Times New Roman"/>
              </a:rPr>
              <a:t>国際自然保護連盟の予想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このスピードは年々速まってい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人間が今のままの生活を続けて居ると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ja-JP" sz="3200" spc="-1" strike="noStrike">
                <a:solidFill>
                  <a:srgbClr val="3366cc"/>
                </a:solidFill>
                <a:latin typeface="Times New Roman"/>
              </a:rPr>
              <a:t>哺乳類では</a:t>
            </a:r>
            <a:r>
              <a:rPr b="0" lang="ja-JP" sz="3200" spc="-1" strike="noStrike">
                <a:solidFill>
                  <a:srgbClr val="3366cc"/>
                </a:solidFill>
                <a:latin typeface="Times New Roman"/>
              </a:rPr>
              <a:t>20</a:t>
            </a:r>
            <a:r>
              <a:rPr b="0" lang="ja-JP" sz="3200" spc="-1" strike="noStrike">
                <a:solidFill>
                  <a:srgbClr val="3366cc"/>
                </a:solidFill>
                <a:latin typeface="Times New Roman"/>
              </a:rPr>
              <a:t>％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ja-JP" sz="3200" spc="-1" strike="noStrike">
                <a:solidFill>
                  <a:srgbClr val="996633"/>
                </a:solidFill>
                <a:latin typeface="Times New Roman"/>
              </a:rPr>
              <a:t>鳥類では</a:t>
            </a:r>
            <a:r>
              <a:rPr b="0" lang="ja-JP" sz="3200" spc="-1" strike="noStrike">
                <a:solidFill>
                  <a:srgbClr val="996633"/>
                </a:solidFill>
                <a:latin typeface="Times New Roman"/>
              </a:rPr>
              <a:t>78</a:t>
            </a:r>
            <a:r>
              <a:rPr b="0" lang="ja-JP" sz="3200" spc="-1" strike="noStrike">
                <a:solidFill>
                  <a:srgbClr val="996633"/>
                </a:solidFill>
                <a:latin typeface="Times New Roman"/>
              </a:rPr>
              <a:t>％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が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　近い将来</a:t>
            </a:r>
            <a:r>
              <a:rPr b="0" lang="ja-JP" sz="3200" spc="-1" strike="noStrike">
                <a:solidFill>
                  <a:srgbClr val="9900ff"/>
                </a:solidFill>
                <a:latin typeface="Times New Roman"/>
              </a:rPr>
              <a:t>絶滅危惧種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になってしま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そう遠くない未来に、地球上からほとんど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生き物が消えてしまうかもしれな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環境へのマイナス要因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1640" y="2303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森林の破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農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オゾン層の破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酸性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2120" indent="-481320">
              <a:spcBef>
                <a:spcPts val="799"/>
              </a:spcBef>
              <a:buClr>
                <a:srgbClr val="808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球温暖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05:59:58Z</dcterms:created>
  <dc:creator>kaneko</dc:creator>
  <dc:description/>
  <dc:language>en-US</dc:language>
  <cp:lastModifiedBy>kaneko</cp:lastModifiedBy>
  <dcterms:modified xsi:type="dcterms:W3CDTF">2015-10-09T23:07:18Z</dcterms:modified>
  <cp:revision>4</cp:revision>
  <dc:subject/>
  <dc:title>「いるか丘陵」と  　　　　「つながりの森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1-9.1.0.4586</vt:lpwstr>
  </property>
</Properties>
</file>